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F4F93-F531-457F-9210-74B3B297F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D1E8-9FCD-4ED9-8410-BA90A322E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CCB72-10F0-4D2E-AC70-340AC3F96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5D823-8FB7-4100-937C-383374D84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DA1E-794F-48EF-B85B-FDA63B7A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1E7D-5544-4121-B2AA-7AEDB4CC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FE58-3F0A-4C15-853B-4CA87ED8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4484B-26DD-48A7-A99E-E740F346B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597EB-D4C3-4220-BA6F-5FDA033C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B280-034D-4A89-9EB1-0DB474CF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683C-D61B-4822-B177-153C8158E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158E6-243D-4057-949C-11A5DF8CA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88A5-C18C-43E6-8316-C1D3E5719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rfaces (MIF) WG</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560" y="3573360"/>
            <a:ext cx="6442200" cy="1919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TF 84, Vancouver</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Wasserman mrw@lilacglade.org</a:t>
            </a:r>
            <a:br>
              <a:rPr sz="2400"/>
            </a:br>
            <a:r>
              <a:rPr b="0" lang="en-US" sz="2400" spc="-1" strike="noStrike">
                <a:solidFill>
                  <a:srgbClr val="000000"/>
                </a:solidFill>
                <a:latin typeface="Arial"/>
              </a:rPr>
              <a:t>Hui Deng  denghui@chinamobil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84240" y="304920"/>
            <a:ext cx="7162920" cy="5331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Well</a:t>
            </a:r>
            <a:endParaRPr b="0" lang="en-US" sz="2800" spc="-1" strike="noStrike">
              <a:solidFill>
                <a:srgbClr val="000000"/>
              </a:solidFill>
              <a:latin typeface="Arial"/>
            </a:endParaRPr>
          </a:p>
        </p:txBody>
      </p:sp>
      <p:sp>
        <p:nvSpPr>
          <p:cNvPr id="44" name="Rectangle 3"/>
          <p:cNvSpPr/>
          <p:nvPr/>
        </p:nvSpPr>
        <p:spPr>
          <a:xfrm>
            <a:off x="492120" y="914400"/>
            <a:ext cx="8159760" cy="449568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the IETF plenary session,</a:t>
            </a:r>
            <a:br>
              <a:rPr sz="1500"/>
            </a:br>
            <a:r>
              <a:rPr b="0" lang="en-US" sz="1500" spc="-1" strike="noStrike">
                <a:solidFill>
                  <a:srgbClr val="000000"/>
                </a:solidFill>
                <a:latin typeface="Arial"/>
              </a:rPr>
              <a:t>  - any IETF working group or portion thereof,</a:t>
            </a:r>
            <a:br>
              <a:rPr sz="1500"/>
            </a:br>
            <a:r>
              <a:rPr b="0" lang="en-US" sz="1500" spc="-1" strike="noStrike">
                <a:solidFill>
                  <a:srgbClr val="000000"/>
                </a:solidFill>
                <a:latin typeface="Arial"/>
              </a:rPr>
              <a:t>  - the IESG or any member thereof on behalf of the IESG,</a:t>
            </a:r>
            <a:br>
              <a:rPr sz="1500"/>
            </a:br>
            <a:r>
              <a:rPr b="0" lang="en-US" sz="1500" spc="-1" strike="noStrike">
                <a:solidFill>
                  <a:srgbClr val="000000"/>
                </a:solidFill>
                <a:latin typeface="Arial"/>
              </a:rPr>
              <a:t>  - the IAB or any member thereof on behalf of the IAB,</a:t>
            </a:r>
            <a:br>
              <a:rPr sz="1500"/>
            </a:br>
            <a:r>
              <a:rPr b="0" lang="en-US" sz="1500" spc="-1" strike="noStrike">
                <a:solidFill>
                  <a:srgbClr val="000000"/>
                </a:solidFill>
                <a:latin typeface="Arial"/>
              </a:rPr>
              <a:t>  - any IETF mailing list, including the IETF list itself, any working group or design team list, or</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y other list functioning under IETF auspices,</a:t>
            </a:r>
            <a:br>
              <a:rPr sz="1500"/>
            </a:br>
            <a:r>
              <a:rPr b="0" lang="en-US" sz="1500" spc="-1" strike="noStrike">
                <a:solidFill>
                  <a:srgbClr val="000000"/>
                </a:solidFill>
                <a:latin typeface="Arial"/>
              </a:rPr>
              <a:t>  - the RFC Editor or the Internet-Drafts function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ll IETF Contributions are subject to the rules of RFC 5378 and RFC 3979 (updated by RFC 4879).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is deemed to accept all IETF rules of process, as documented in Best Current Practices RFCs and IESG Statements. </a:t>
            </a: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participant in any IETF activity acknowledges that written, audio and video records of meetings may be made and may be available to the public.</a:t>
            </a:r>
            <a:br>
              <a:rPr sz="15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aker and jabber scri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terials (Slides, Agenda,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ols.ietf.org/wg/mif/agen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P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jabber.ietf.or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f@ietf.org</a:t>
            </a:r>
            <a:endParaRPr b="0" lang="en-US" sz="2400" spc="-1" strike="noStrike">
              <a:solidFill>
                <a:srgbClr val="000000"/>
              </a:solidFill>
              <a:latin typeface="Arial"/>
            </a:endParaRPr>
          </a:p>
          <a:p>
            <a:pPr lvl="3"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tf.org/mailman/listinfo/m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700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8" name=""/>
          <p:cNvSpPr txBox="1"/>
          <p:nvPr/>
        </p:nvSpPr>
        <p:spPr>
          <a:xfrm>
            <a:off x="611280" y="836280"/>
            <a:ext cx="7921440" cy="583236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genda bashing (Chairs,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ocument status (Chairs,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ns-server-selection-04 (IESG review)</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ietf-mif-dhcpv6-route-option-04 (in WG LC)</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iscussion of IEEE 802.21 MIH SAP (Juan Carlos, 1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G Documents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 draft-ietf-mif-api-extension-00 (Ted, 1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2 draft-ietf-mif-happy-eyeballs-extension (Dan,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charter proposal:</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1 draft-deng-mif-api-session-continuity-guide (Suresh, 1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2 draft-mglt-mif-security-requirements-01 </a:t>
            </a:r>
            <a:r>
              <a:rPr b="1" lang="zh-CN" sz="1800" spc="-1" strike="noStrike">
                <a:solidFill>
                  <a:srgbClr val="000000"/>
                </a:solidFill>
                <a:latin typeface="Arial"/>
              </a:rPr>
              <a:t>（</a:t>
            </a:r>
            <a:r>
              <a:rPr b="1" lang="en-US" sz="1800" spc="-1" strike="noStrike">
                <a:solidFill>
                  <a:srgbClr val="000000"/>
                </a:solidFill>
                <a:latin typeface="Arial"/>
              </a:rPr>
              <a:t>Daniel, 20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if time allow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aft-sarikaya-mif-6man-ra-route-01 (Behcet, 5 m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6560"/>
            <a:ext cx="77724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 Status</a:t>
            </a:r>
            <a:endParaRPr b="0" lang="en-US" sz="4400" spc="-1" strike="noStrike">
              <a:solidFill>
                <a:srgbClr val="000000"/>
              </a:solidFill>
              <a:latin typeface="Arial"/>
            </a:endParaRPr>
          </a:p>
        </p:txBody>
      </p:sp>
      <p:sp>
        <p:nvSpPr>
          <p:cNvPr id="50" name=""/>
          <p:cNvSpPr txBox="1"/>
          <p:nvPr/>
        </p:nvSpPr>
        <p:spPr>
          <a:xfrm>
            <a:off x="611280" y="1413000"/>
            <a:ext cx="792144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ietf-mif-dns-server-selection-04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IESG review, two discusses.</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ietf-mif-dhcpv6-route-option-04 (in WG L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being presented tod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on way forwar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all issues into an issue tracke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ve issues on list and in Atlant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ort focused on modifying our WG draft to match consensus of the WG, if a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6:02:42Z</dcterms:created>
  <dc:creator>Margaret Wasserman</dc:creator>
  <dc:description/>
  <dc:language>en-US</dc:language>
  <cp:lastModifiedBy>cmcc</cp:lastModifiedBy>
  <dcterms:modified xsi:type="dcterms:W3CDTF">2012-08-01T17:12:29Z</dcterms:modified>
  <cp:revision>64</cp:revision>
  <dc:subject/>
  <dc:title>Multiple Interfaces (MIF) WG</dc:title>
</cp:coreProperties>
</file>