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6528C2-0513-4D49-8C01-FD6C4FF89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E566AD-F7D6-4C2A-95F5-27D8CB6BD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71440" y="696960"/>
            <a:ext cx="4641840" cy="3481200"/>
          </a:xfrm>
          <a:prstGeom prst="rect">
            <a:avLst/>
          </a:prstGeom>
          <a:ln w="0">
            <a:noFill/>
          </a:ln>
        </p:spPr>
      </p:sp>
      <p:sp>
        <p:nvSpPr>
          <p:cNvPr id="8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417EEC-F801-45BD-B758-1871C779D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71440" y="696960"/>
            <a:ext cx="4641840" cy="3481200"/>
          </a:xfrm>
          <a:prstGeom prst="rect">
            <a:avLst/>
          </a:prstGeom>
          <a:ln w="0">
            <a:noFill/>
          </a:ln>
        </p:spPr>
      </p:sp>
      <p:sp>
        <p:nvSpPr>
          <p:cNvPr id="8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150D65-1DE7-46D7-9374-FD1990216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71440" y="696960"/>
            <a:ext cx="4641840" cy="3481200"/>
          </a:xfrm>
          <a:prstGeom prst="rect">
            <a:avLst/>
          </a:prstGeom>
          <a:ln w="0">
            <a:noFill/>
          </a:ln>
        </p:spPr>
      </p:sp>
      <p:sp>
        <p:nvSpPr>
          <p:cNvPr id="9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5BF30B-9AAC-4D60-9F5B-9A89F6DCA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71440" y="696960"/>
            <a:ext cx="4641840" cy="3481200"/>
          </a:xfrm>
          <a:prstGeom prst="rect">
            <a:avLst/>
          </a:prstGeom>
          <a:ln w="0">
            <a:noFill/>
          </a:ln>
        </p:spPr>
      </p:sp>
      <p:sp>
        <p:nvSpPr>
          <p:cNvPr id="9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AFF12F-0215-4980-A9C7-87F0A33E7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71440" y="696960"/>
            <a:ext cx="4641840" cy="3481200"/>
          </a:xfrm>
          <a:prstGeom prst="rect">
            <a:avLst/>
          </a:prstGeom>
          <a:ln w="0">
            <a:noFill/>
          </a:ln>
        </p:spPr>
      </p:sp>
      <p:sp>
        <p:nvSpPr>
          <p:cNvPr id="96"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79CF79-33DD-4560-8FD2-C80634029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71440" y="696960"/>
            <a:ext cx="4641840" cy="3481200"/>
          </a:xfrm>
          <a:prstGeom prst="rect">
            <a:avLst/>
          </a:prstGeom>
          <a:ln w="0">
            <a:noFill/>
          </a:ln>
        </p:spPr>
      </p:sp>
      <p:sp>
        <p:nvSpPr>
          <p:cNvPr id="9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2C5A21-2B4A-422A-BD92-B30CBC9AC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71440" y="696960"/>
            <a:ext cx="4641840" cy="3481200"/>
          </a:xfrm>
          <a:prstGeom prst="rect">
            <a:avLst/>
          </a:prstGeom>
          <a:ln w="0">
            <a:noFill/>
          </a:ln>
        </p:spPr>
      </p:sp>
      <p:sp>
        <p:nvSpPr>
          <p:cNvPr id="10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64EE0-4042-490C-94E8-80CCE17E6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67BD3-41A5-49D4-A9C8-F260631C9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7C72E-CBDE-4658-BA82-7BCF3A2A9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23411-22B3-4F22-9171-8299CA41E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E9A3-74A3-46C8-9706-7A4E92A1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7217-C167-41DC-AB10-58DC6EA3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FE530-2E26-4717-B1BF-AC7D95B37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0BB7-FF9B-4C1F-B039-6B86D34D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CF6E-E402-4A41-9B1F-C731FE6B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4A4D-3887-4494-BD3D-BEA1C029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2DCC-8454-415B-AC78-0B807C23B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DE28-A5EA-44B0-A861-8E2880ADD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4</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D336-57AD-4C89-A4EC-E916A93802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etflogo2f"/>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ietf-mmusic-sdp-bundle-negotiation/" TargetMode="External"/><Relationship Id="rId2" Type="http://schemas.openxmlformats.org/officeDocument/2006/relationships/hyperlink" Target="http://www.ietf.org/id/draft-alvestrand-rtcweb-msid-02.txt" TargetMode="External"/><Relationship Id="rId3" Type="http://schemas.openxmlformats.org/officeDocument/2006/relationships/hyperlink" Target="http://www.ietf.org/id/draft-capelastegui-mmusic-3dv-sdp-00.txt" TargetMode="External"/><Relationship Id="rId4" Type="http://schemas.openxmlformats.org/officeDocument/2006/relationships/hyperlink" Target="http://datatracker.ietf.org/doc/draft-greevenbosch-mmusic-sdp-3d-format/" TargetMode="External"/><Relationship Id="rId5" Type="http://schemas.openxmlformats.org/officeDocument/2006/relationships/hyperlink" Target="http://datatracker.ietf.org/doc/draft-greevenbosch-mmusic-sdp-parallax/"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atatracker.ietf.org/doc/draft-begen-mmusic-redundancy-grouping/" TargetMode="External"/><Relationship Id="rId2" Type="http://schemas.openxmlformats.org/officeDocument/2006/relationships/hyperlink" Target="http://datatracker.ietf.org/doc/draft-begen-mmusic-temporal-interleaving/" TargetMode="External"/><Relationship Id="rId3" Type="http://schemas.openxmlformats.org/officeDocument/2006/relationships/hyperlink" Target="http://datatracker.ietf.org/doc/draft-ietf-mmusic-traffic-class-for-sdp/" TargetMode="External"/><Relationship Id="rId4" Type="http://schemas.openxmlformats.org/officeDocument/2006/relationships/hyperlink" Target="http://www.ietf.org/id/draft-ivov-mmusic-latching-00.txt" TargetMode="External"/><Relationship Id="rId5" Type="http://schemas.openxmlformats.org/officeDocument/2006/relationships/hyperlink" Target="http://datatracker.ietf.org/doc/draft-muthu-mmusic-offer-answer-g723-g729/" TargetMode="External"/><Relationship Id="rId6" Type="http://schemas.openxmlformats.org/officeDocument/2006/relationships/hyperlink" Target="http://datatracker.ietf.org/doc/draft-zhou-mmusic-sdes-keymod/" TargetMode="External"/><Relationship Id="rId7" Type="http://schemas.openxmlformats.org/officeDocument/2006/relationships/hyperlink" Target="http://www.ietf.org/id/draft-wing-mmusic-ice-mobility-01.txt" TargetMode="External"/><Relationship Id="rId8" Type="http://schemas.openxmlformats.org/officeDocument/2006/relationships/hyperlink" Target="http://www.ietf.org/id/draft-keranen-mmusic-ice-address-selection-01.txt"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tatracker.ietf.org/doc/draft-ietf-mmusic-sdp-cs/" TargetMode="External"/><Relationship Id="rId2" Type="http://schemas.openxmlformats.org/officeDocument/2006/relationships/hyperlink" Target="http://datatracker.ietf.org/doc/draft-ietf-mmusic-rfc2326bis/" TargetMode="External"/><Relationship Id="rId3" Type="http://schemas.openxmlformats.org/officeDocument/2006/relationships/hyperlink" Target="http://datatracker.ietf.org/doc/draft-ietf-mmusic-sdp-media-capabilities/" TargetMode="External"/><Relationship Id="rId4" Type="http://schemas.openxmlformats.org/officeDocument/2006/relationships/hyperlink" Target="http://datatracker.ietf.org/doc/draft-ietf-mmusic-media-loopback/"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sdp-miscellaneous-caps/" TargetMode="External"/><Relationship Id="rId2" Type="http://schemas.openxmlformats.org/officeDocument/2006/relationships/hyperlink" Target="http://datatracker.ietf.org/doc/draft-ietf-mmusic-rtsp-nat-evaluation/" TargetMode="External"/><Relationship Id="rId3" Type="http://schemas.openxmlformats.org/officeDocument/2006/relationships/hyperlink" Target="http://datatracker.ietf.org/doc/draft-ietf-mmusic-rfc4566bis/" TargetMode="External"/><Relationship Id="rId4" Type="http://schemas.openxmlformats.org/officeDocument/2006/relationships/hyperlink" Target="http://datatracker.ietf.org/doc/draft-ietf-mmusic-sctp-sdp/"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datatracker.ietf.org/liaison/1159/"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datatracker.ietf.org/liaison/1158/"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5331-749F-4C88-87DC-31FD1EBCA7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4</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F8A5-C02E-4D3F-84A9-0B5DEACD62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6"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2"/>
              </a:rPr>
              <a:t>RFC 3979 </a:t>
            </a:r>
            <a:r>
              <a:rPr b="0" lang="en-US" sz="1600" spc="-1" strike="noStrike">
                <a:solidFill>
                  <a:srgbClr val="000000"/>
                </a:solidFill>
                <a:latin typeface="Arial"/>
              </a:rPr>
              <a:t>(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5"/>
              </a:rPr>
              <a:t>RFC 3979 </a:t>
            </a:r>
            <a:r>
              <a:rPr b="0" lang="en-US" sz="1600" spc="-1" strike="noStrike">
                <a:solidFill>
                  <a:srgbClr val="000000"/>
                </a:solidFill>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988E-6200-4831-A8C5-04766DB9B0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6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6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435C-7ACB-4A42-A0B2-6F1050EB7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64" name="PlaceHolder 2"/>
          <p:cNvSpPr>
            <a:spLocks noGrp="1"/>
          </p:cNvSpPr>
          <p:nvPr>
            <p:ph/>
          </p:nvPr>
        </p:nvSpPr>
        <p:spPr>
          <a:xfrm>
            <a:off x="394920" y="1125360"/>
            <a:ext cx="8496360" cy="4896000"/>
          </a:xfrm>
          <a:prstGeom prst="rect">
            <a:avLst/>
          </a:prstGeom>
          <a:noFill/>
          <a:ln w="0">
            <a:noFill/>
          </a:ln>
        </p:spPr>
        <p:txBody>
          <a:bodyPr anchor="t">
            <a:normAutofit fontScale="93000"/>
          </a:bodyPr>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00–09:1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Introduction and Status Update (Chair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Courier New"/>
              </a:rPr>
              <a:t>Topic: RTCWEB related draft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10-09:4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Multiplexing Negotiation Using SDP Port Numbers (Christer Holmberg)</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1"/>
              </a:rPr>
              <a:t>draft-ietf-mmusic-sdp-bundle-negotiation-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45-09:55</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Cross Session Stream Identification in the Session Description Protocol (Harald Alvestrand)</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2"/>
              </a:rPr>
              <a:t>draft-alvestrand-rtcweb-msid-02.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Courier New"/>
              </a:rPr>
              <a:t>Topic: SDP 3D and parallax</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55-10:00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3D Video in SDP (Pedro Capelastegui)</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3"/>
              </a:rPr>
              <a:t>draft-capelastegui-mmusic-3dv-sdp-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00-10:0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Signal 3D format (Bert Greevenbosch)</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4"/>
              </a:rPr>
              <a:t>draft-greevenbosch-mmusic-sdp-3d-format-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05-10:10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SDP attribute to signal parallax (Bert Greevenbosch)</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5"/>
              </a:rPr>
              <a:t>draft-greevenbosch-mmusic-sdp-parallax-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10-10:1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Way forward with SDP 3D and Parallax (Discussion lead by chair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66"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3C3D-5FC4-4FF0-A221-949EF3DCD1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68" name="PlaceHolder 2"/>
          <p:cNvSpPr>
            <a:spLocks noGrp="1"/>
          </p:cNvSpPr>
          <p:nvPr>
            <p:ph/>
          </p:nvPr>
        </p:nvSpPr>
        <p:spPr>
          <a:xfrm>
            <a:off x="468360" y="1197000"/>
            <a:ext cx="8229600" cy="4896000"/>
          </a:xfrm>
          <a:prstGeom prst="rect">
            <a:avLst/>
          </a:prstGeom>
          <a:noFill/>
          <a:ln w="0">
            <a:noFill/>
          </a:ln>
        </p:spPr>
        <p:txBody>
          <a:bodyPr anchor="t">
            <a:normAutofit fontScale="97000"/>
          </a:bodyPr>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Courier New"/>
              </a:rPr>
              <a:t>Topic: AVTEXT related drafts</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15-10:3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Duplication Grouping Semantics in the Session Description Protocol (Ali Beg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1"/>
              </a:rPr>
              <a:t>draft-begen-mmusic-redundancy-grouping-03.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Delayed Duplication Attribute in the Session Description Protocol (Ali Beg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2"/>
              </a:rPr>
              <a:t>draft-begen-mmusic-temporal-interleaving-04.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Courier New"/>
              </a:rPr>
              <a:t>Other drafts (time permitting)</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30-10:40</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The 'trafficclass' Attribute (James Polk)</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3"/>
              </a:rPr>
              <a:t>draft-ietf-mmusic-traffic-class-for-sdp-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40-10:5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Latching: Hosted NAT Traversal (HNT) for Media in Real-Time Communication (Emil Ivov)</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4"/>
              </a:rPr>
              <a:t>draft-ivov-mmusic-latching-00.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50-11:0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Offer/Answer Considerations for G.723 Annex A and G.729 Annex B (Parthasarathi Ravindra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5"/>
              </a:rPr>
              <a:t>draft-muthu-mmusic-offer-answer-g723-g729-00.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00-11:1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Security Descriptions Extension for Media Streams (Sujing Zhou)</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6"/>
              </a:rPr>
              <a:t>draft-zhou-mmusic-sdes-keymod-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10-11:2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Mobility with ICE (MICE) (Tiru Reddy)</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7"/>
              </a:rPr>
              <a:t>draft-wing-mmusic-ice-mobility-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20-11:25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Update on Candidate Address Selection for Interactive Connectivity Establishment (ICE) (Ari Kerän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8"/>
              </a:rPr>
              <a:t>draft-keranen-mmusic-ice-address-selection-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25-11:3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Wrap-up (Chairs)</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7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70E3-CC29-4315-8F6A-1FA0D29BA2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1)</a:t>
            </a:r>
            <a:endParaRPr b="0" lang="en-US" sz="4400" spc="-1" strike="noStrike">
              <a:solidFill>
                <a:srgbClr val="000000"/>
              </a:solidFill>
              <a:latin typeface="Arial"/>
            </a:endParaRPr>
          </a:p>
        </p:txBody>
      </p:sp>
      <p:sp>
        <p:nvSpPr>
          <p:cNvPr id="72" name="PlaceHolder 2"/>
          <p:cNvSpPr>
            <a:spLocks noGrp="1"/>
          </p:cNvSpPr>
          <p:nvPr>
            <p:ph/>
          </p:nvPr>
        </p:nvSpPr>
        <p:spPr>
          <a:xfrm>
            <a:off x="468360" y="1197000"/>
            <a:ext cx="4038480" cy="4896000"/>
          </a:xfrm>
          <a:prstGeom prst="rect">
            <a:avLst/>
          </a:prstGeom>
          <a:noFill/>
          <a:ln w="0">
            <a:noFill/>
          </a:ln>
        </p:spPr>
        <p:txBody>
          <a:bodyPr anchor="t">
            <a:normAutofit/>
          </a:bodyPr>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FC Editor:</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ESG evaluation:</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P directorate reviews:</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dccp-udpencap-10</a:t>
            </a:r>
            <a:endParaRPr b="0" lang="en-US" sz="18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062240" y="1197000"/>
            <a:ext cx="4973760" cy="4896000"/>
          </a:xfrm>
          <a:prstGeom prst="rect">
            <a:avLst/>
          </a:prstGeom>
          <a:noFill/>
          <a:ln w="0">
            <a:noFill/>
          </a:ln>
        </p:spPr>
        <p:txBody>
          <a:bodyPr lIns="90000" rIns="90000" tIns="46800" bIns="46800" anchor="t">
            <a:normAutofit/>
          </a:bodyPr>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a new version:</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draft-ietf-mmusic-sdp-cs-11</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write-up:</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raft-ietf-mmusic-rfc2326-bis-30</a:t>
            </a:r>
            <a:endParaRPr b="0" lang="en-US" sz="18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draft-ietf-mmusic-sdp-media-capabilities-14</a:t>
            </a:r>
            <a:endParaRPr b="0" lang="en-US" sz="18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draft-ietf-mmusic-media-loopback-20</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75"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DD57-C0D4-4FA5-85C4-55F50C3B8F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77" name="PlaceHolder 2"/>
          <p:cNvSpPr>
            <a:spLocks noGrp="1"/>
          </p:cNvSpPr>
          <p:nvPr>
            <p:ph/>
          </p:nvPr>
        </p:nvSpPr>
        <p:spPr>
          <a:xfrm>
            <a:off x="468360" y="1341000"/>
            <a:ext cx="8229600" cy="5327640"/>
          </a:xfrm>
          <a:prstGeom prst="rect">
            <a:avLst/>
          </a:prstGeom>
          <a:noFill/>
          <a:ln w="0">
            <a:noFill/>
          </a:ln>
        </p:spPr>
        <p:txBody>
          <a:bodyPr anchor="t">
            <a:normAutofit/>
          </a:bodyPr>
          <a:p>
            <a:pPr marL="343080" indent="-34308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LC schedule:</a:t>
            </a:r>
            <a:endParaRPr b="0" lang="en-US" sz="18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draft-ietf-mmusic-sdp-miscellaneous-caps-00</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August 27th.</a:t>
            </a:r>
            <a:endParaRPr b="0" lang="en-US" sz="1400" spc="-1" strike="noStrike">
              <a:solidFill>
                <a:srgbClr val="000000"/>
              </a:solidFill>
              <a:latin typeface="Arial"/>
            </a:endParaRPr>
          </a:p>
          <a:p>
            <a:pPr lvl="1" marL="743040" indent="-285840">
              <a:lnSpc>
                <a:spcPct val="85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draft-ietf-mmusic-rtsp-nat-evaluation-05</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September 13</a:t>
            </a:r>
            <a:r>
              <a:rPr b="0" lang="en-US" sz="1400" spc="-1" strike="noStrike" baseline="30000">
                <a:solidFill>
                  <a:srgbClr val="000000"/>
                </a:solidFill>
                <a:latin typeface="Arial"/>
              </a:rPr>
              <a:t>th.</a:t>
            </a:r>
            <a:endParaRPr b="0" lang="en-US" sz="14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ietf-mmusic-rtsp-nat-12</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October 2</a:t>
            </a:r>
            <a:r>
              <a:rPr b="0" lang="en-US" sz="1400" spc="-1" strike="noStrike" baseline="30000">
                <a:solidFill>
                  <a:srgbClr val="000000"/>
                </a:solidFill>
                <a:latin typeface="Arial"/>
              </a:rPr>
              <a:t>nd</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ietf-mmusic-media-path-middleboxes-04</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October 18</a:t>
            </a:r>
            <a:r>
              <a:rPr b="0" lang="en-US" sz="1400" spc="-1" strike="noStrike" baseline="30000">
                <a:solidFill>
                  <a:srgbClr val="000000"/>
                </a:solidFill>
                <a:latin typeface="Arial"/>
              </a:rPr>
              <a:t>th</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 (those not being discussed later):</a:t>
            </a:r>
            <a:endParaRPr b="0" lang="en-US" sz="18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3"/>
              </a:rPr>
              <a:t>draft-ietf-mmusic-rfc4566bis-05</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8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urgent. Basically done.</a:t>
            </a:r>
            <a:endParaRPr b="0" lang="en-US" sz="16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a:t>
            </a:r>
            <a:r>
              <a:rPr b="0" lang="en-US" sz="1600" spc="-1" strike="noStrike" u="sng">
                <a:solidFill>
                  <a:srgbClr val="009999"/>
                </a:solidFill>
                <a:uFillTx/>
                <a:latin typeface="Arial"/>
                <a:hlinkClick r:id="rId4"/>
              </a:rPr>
              <a:t>draft-ietf-mmusic-sctp-sdp-01  </a:t>
            </a:r>
            <a:endParaRPr b="0" lang="en-US" sz="1600" spc="-1" strike="noStrike">
              <a:solidFill>
                <a:srgbClr val="000000"/>
              </a:solidFill>
              <a:latin typeface="Arial"/>
            </a:endParaRPr>
          </a:p>
          <a:p>
            <a:pPr lvl="2" marL="1143000" indent="-228600">
              <a:lnSpc>
                <a:spcPct val="8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discussing. New version expected.</a:t>
            </a:r>
            <a:endParaRPr b="0" lang="en-US" sz="1600" spc="-1" strike="noStrike">
              <a:solidFill>
                <a:srgbClr val="000000"/>
              </a:solidFill>
              <a:latin typeface="Arial"/>
            </a:endParaRPr>
          </a:p>
          <a:p>
            <a:pPr lvl="2" marL="1143000" indent="0">
              <a:lnSpc>
                <a:spcPct val="8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aison statements (1)</a:t>
            </a:r>
            <a:endParaRPr b="0" lang="en-US" sz="4400" spc="-1" strike="noStrike">
              <a:solidFill>
                <a:srgbClr val="000000"/>
              </a:solidFill>
              <a:latin typeface="Arial"/>
            </a:endParaRPr>
          </a:p>
        </p:txBody>
      </p:sp>
      <p:sp>
        <p:nvSpPr>
          <p:cNvPr id="7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TCP Bandwidth Negoti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datatracker.ietf.org/liaison/115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is needed before August 7</a:t>
            </a:r>
            <a:r>
              <a:rPr b="0" lang="en-US" sz="2000" spc="-1" strike="noStrike" baseline="30000">
                <a:solidFill>
                  <a:srgbClr val="000000"/>
                </a:solidFill>
                <a:latin typeface="Arial"/>
              </a:rPr>
              <a:t>th</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us has sent a proposed answer on the lis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ttp://www.ietf.org/mail-archive/web/mmusic/current/msg09446.html</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have Magnus’es proposal for comments until August 3</a:t>
            </a:r>
            <a:r>
              <a:rPr b="0" lang="en-US" sz="2000" spc="-1" strike="noStrike" baseline="30000">
                <a:solidFill>
                  <a:srgbClr val="000000"/>
                </a:solidFill>
                <a:latin typeface="Arial"/>
              </a:rPr>
              <a:t>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read the proposal and comment on the mailing 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aison statements (2)</a:t>
            </a:r>
            <a:endParaRPr b="0" lang="en-US" sz="4400" spc="-1" strike="noStrike">
              <a:solidFill>
                <a:srgbClr val="000000"/>
              </a:solidFill>
              <a:latin typeface="Arial"/>
            </a:endParaRPr>
          </a:p>
        </p:txBody>
      </p:sp>
      <p:sp>
        <p:nvSpPr>
          <p:cNvPr id="81"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oding Independent Media Code Poi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datatracker.ietf.org/liaison/115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clear whether it fits into MMUS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Involve PAYLOAD 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Miguel A. Garcia</cp:lastModifiedBy>
  <dcterms:modified xsi:type="dcterms:W3CDTF">2012-08-01T06:54:54Z</dcterms:modified>
  <cp:revision>87</cp:revision>
  <dc:subject/>
  <dc:title>MMUSIC @ IETF 84</dc:title>
</cp:coreProperties>
</file>