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11D8-5F31-4806-ADB1-3462FB0F8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AFAB-D385-4DD3-9A3C-11C4A8B1F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D20-42DB-4EA3-A81B-421F1F09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CF7-F02D-4E78-A503-2B3CD80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B40-9F5B-4819-9F68-7B650205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02E-C6DA-47BB-B59E-9F387A7F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5C0-22D4-4E30-8B18-16A45BA0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6D4-83F5-4C25-938A-FF2C91CD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B0E-98BD-43E9-B913-5A82249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573-CDB8-499A-9315-B0F1A60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352-D08E-42D6-BC52-4E8A184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C3B-0E63-4048-9D52-C0188F0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0E5-2561-4545-B029-0D42B99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0A3-59DB-40FE-ADAE-BC62612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8CCC-4EBF-401B-95C3-14A93C1F472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D01-EE61-46C7-A423-F780047C05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tatracker.ietf.org/doc/draft-greevenbosch-mmusic-sdp-parallax/" TargetMode="External"/><Relationship Id="rId2" Type="http://schemas.openxmlformats.org/officeDocument/2006/relationships/hyperlink" Target="http://datatracker.ietf.org/doc/draft-greevenbosch-mmusic-sdp-3d-forma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3D SDP signalling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 Greevenbo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rt.greevenbosch@huawe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3D draf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aft-greevenbosch-mmusic-sdp-parallax-00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raft-greevenbosch-mmusic-sdp-3d-format-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drafts extend SDP to signal stereoscopic vid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one is for static positioning of 2D objects, such as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ond is for signaling the format of the stereoscopic 3D video str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DEE-268B-4F9E-8686-11F9CD82F1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R 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oth drafts have associated IP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PR disclosures are available at the IETF web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F803-C353-4D93-BBC3-29FF031297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 of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-greevenbosch-mmusic-sdp-parallax-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"ParallaxInfo" SDP attribute can be used to signal the depth positioning of captures when displaying them in 3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t of the "ParallaxInfo" attribute is normalised to a screen width of 11520 pix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28C-CD36-4900-A68F-2A29C35404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 of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-greevenbosch-mmusic-sdp-3d-format-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"3dFormat" SDP attribute can be used to signal the following 3D form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ulca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fer the L- and R-views as separate video str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ame Pack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ck L- and R-views in a single video stream, by dividing each video frame over the L- and R-view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D + auxilia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ynthesize L- and R-views from 2D video and auxiliary data, such as depth or parallax m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F9E-1C5E-4468-813A-D589C35E39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v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o=Alice 2890844526 2890842807 IN IP4 131.163.72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s=The technology of 3D-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=IN IP4 131.164.74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=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=video 49170 RTP/AVP 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=rtpmap:99 H264/9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a=3dFormat:FP S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=video 52888 RTP/AVP 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=rtpmap:97 3gpp-tt/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a=ParallaxInfo:L -1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=audio 52890 RTP/AVP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=rtpmap:10 L16/16000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16C-21FC-40B1-85F0-6E12C88C91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munication with other bo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sented the drafts to the 3GPP SA#4 video working group, who included it in their M3DV technical report in November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MPEG-FTV group aware of the work, by sending an e-mail to their reflector on 3 February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ed with several MPEG expe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recent LS from MPEG to us, we see that MPEG work is complementary to 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69E-F2A7-4F1D-B090-81BFB1D173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7"/>
          <p:cNvSpPr/>
          <p:nvPr/>
        </p:nvSpPr>
        <p:spPr>
          <a:xfrm>
            <a:off x="4572000" y="1916280"/>
            <a:ext cx="4032360" cy="3168360"/>
          </a:xfrm>
          <a:prstGeom prst="ellipse">
            <a:avLst/>
          </a:prstGeom>
          <a:solidFill>
            <a:srgbClr val="92d05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539640" y="1916280"/>
            <a:ext cx="4032360" cy="316836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961920" y="2205000"/>
            <a:ext cx="3311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849920" y="2205000"/>
            <a:ext cx="3313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41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5F66-E054-4F93-A389-093A36B6D1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9"/>
          <p:cNvSpPr/>
          <p:nvPr/>
        </p:nvSpPr>
        <p:spPr>
          <a:xfrm>
            <a:off x="2556000" y="1916280"/>
            <a:ext cx="40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1:22Z</dcterms:created>
  <dc:creator>Bert Greevenbosch</dc:creator>
  <dc:description/>
  <dc:language>en-US</dc:language>
  <cp:lastModifiedBy>Bert Greevenbosch</cp:lastModifiedBy>
  <dcterms:modified xsi:type="dcterms:W3CDTF">2012-07-27T09:33:51Z</dcterms:modified>
  <cp:revision>142</cp:revision>
  <dc:subject/>
  <dc:title>Overview of 3D TV draf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352189</vt:lpwstr>
  </property>
</Properties>
</file>