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8A1B-6D7D-4639-917E-8675F63AAB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F3EA-6564-4544-B887-8A7831C001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4C22-B34C-4C79-B54A-74EA20284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0602-8C36-4F43-B002-B6D1968C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C275-0908-4425-A3B6-263010B7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9363-735A-43CA-ADB5-2F87D957D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ECC8-E39D-4084-AE22-38D9A482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1DF2-3EDC-4C51-896F-35CBD887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19ED-5C10-4D04-B9F0-7FA2A37A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87C7-C191-4EFE-B850-F816B24B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0C30-5BDE-4EBC-BC8A-3A74E3C7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22FD-2493-4B8D-83DD-F4C8FE17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D3CD-44AE-4941-AF57-B67AF07E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5A55-F524-4B7A-AE9A-3A8D6E36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F44B-F1DF-49EB-AECA-F6B8E7C6BF39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FD38-9DD5-4649-98BF-0E074DB13EE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atatracker.ietf.org/doc/draft-greevenbosch-mmusic-sdp-parallax/" TargetMode="External"/><Relationship Id="rId2" Type="http://schemas.openxmlformats.org/officeDocument/2006/relationships/hyperlink" Target="http://datatracker.ietf.org/doc/draft-greevenbosch-mmusic-sdp-3d-format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3D SDP signalling draf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Bert Greevenbo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bert.greevenbosch@huawei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3D draf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raft-greevenbosch-mmusic-sdp-parallax-00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draft-greevenbosch-mmusic-sdp-3d-format-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th drafts extend SDP to signal stereoscopic vide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one is for static positioning of 2D objects, such as te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econd is for signaling the format of the stereoscopic 3D video stre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B170-2B6C-4EC3-A331-6FC5D56D6F6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PR disclo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oth drafts have associated IP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IPR disclosures are available at the IETF web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576E-F515-4053-8F08-2B6184C31B0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p of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raft-greevenbosch-mmusic-sdp-parallax-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"ParallaxInfo" SDP attribute can be used to signal the depth positioning of captures when displaying them in 3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nit of the "ParallaxInfo" attribute is normalised to a screen width of 11520 pix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CA35-3B33-421E-B3D5-4B8D617B75D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p of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raft-greevenbosch-mmusic-sdp-3d-format-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"3dFormat" SDP attribute can be used to signal the following 3D forma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imulcas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ransfer the L- and R-views as separate video strea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ame Pack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ck L- and R-views in a single video stream, by dividing each video frame over the L- and R-view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2D + auxiliar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ynthesize L- and R-views from 2D video and auxiliary data, such as depth or parallax map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8FE3-B528-4364-827F-95B9C6AB1A8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v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o=Alice 2890844526 2890842807 IN IP4 131.163.72.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s=The technology of 3D-T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c=IN IP4 131.164.74.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t=0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m=video 49170 RTP/AVP 9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a=rtpmap:99 H264/90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a=3dFormat:FP Sb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m=video 52888 RTP/AVP 9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a=rtpmap:97 3gpp-tt/1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a=ParallaxInfo:L -14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m=audio 52890 RTP/AVP 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a=rtpmap:10 L16/16000/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BCBF-460C-463D-85C3-332C39D1DF4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munication with other bo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esented the drafts to the 3GPP SA#4 video working group, who included it in their M3DV technical report in November 201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de MPEG-FTV group aware of the work, by sending an e-mail to their reflector on 3 February 201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scussed with several MPEG exper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rom recent LS from MPEG to us, we see that MPEG work is complementary to ou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54F3-204E-4418-AD38-743CCA604DE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val 7"/>
          <p:cNvSpPr/>
          <p:nvPr/>
        </p:nvSpPr>
        <p:spPr>
          <a:xfrm>
            <a:off x="4572000" y="1916280"/>
            <a:ext cx="4032360" cy="3168360"/>
          </a:xfrm>
          <a:prstGeom prst="ellipse">
            <a:avLst/>
          </a:prstGeom>
          <a:solidFill>
            <a:srgbClr val="92d05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>
            <a:off x="539640" y="1916280"/>
            <a:ext cx="4032360" cy="3168360"/>
          </a:xfrm>
          <a:prstGeom prst="ellipse">
            <a:avLst/>
          </a:prstGeom>
          <a:solidFill>
            <a:srgbClr val="c0000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961920" y="2205000"/>
            <a:ext cx="33116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Than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4849920" y="2205000"/>
            <a:ext cx="33130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Than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41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AC09-D464-4B33-910A-38D99D1F2C0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9"/>
          <p:cNvSpPr/>
          <p:nvPr/>
        </p:nvSpPr>
        <p:spPr>
          <a:xfrm>
            <a:off x="2556000" y="1916280"/>
            <a:ext cx="40320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01:21:22Z</dcterms:created>
  <dc:creator>Bert Greevenbosch</dc:creator>
  <dc:description/>
  <dc:language>en-US</dc:language>
  <cp:lastModifiedBy>Bert Greevenbosch</cp:lastModifiedBy>
  <dcterms:modified xsi:type="dcterms:W3CDTF">2012-07-27T09:33:51Z</dcterms:modified>
  <cp:revision>142</cp:revision>
  <dc:subject/>
  <dc:title>Overview of 3D TV draf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43352189</vt:lpwstr>
  </property>
</Properties>
</file>