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C8E-03E3-45F4-A656-95C8A038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0EF-28BF-439C-B42B-AE11CC7C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30E-7605-4BF4-A858-DFA8ACC3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064-20B1-44AF-8B99-ABDA53AE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CA6-90BB-48C1-AFBC-016D31B3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64E-E5EC-48E9-B8ED-6DB3BC12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DCA-F09E-498D-A3B5-53F09C27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052-9912-4DA6-B167-69558464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272-C951-464B-BC16-E236507A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0F6-C3AD-4D1B-8962-505274CD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958-7BB8-4D24-B285-F9489790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FE0-0615-4515-B595-353BE31E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B75F-27A2-4805-BA76-BD8AA9ADD3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ecurity Descriptions Extension for Media Streams</a:t>
            </a:r>
            <a:br>
              <a:rPr sz="5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ft-zhou-mmusic-sdes-keymod-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. Zho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. Tian,  Z. 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ETF 84-mmusic ,  2012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415-C4AA-4CA0-99E1-D66ECA2C88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Key exposure problem of SDES in forking and re-targeting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lice </a:t>
            </a:r>
            <a:r>
              <a:rPr b="0" lang="zh-CN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zh-CN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rol </a:t>
            </a:r>
            <a:r>
              <a:rPr b="0" lang="zh-CN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zh-CN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--------------------D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957-5BF7-4534-B00D-653A4EC582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 2/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 new session parameter extension "keymod" to extend SDES (RFC 456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Defined in 3GPP TR 33.829 V0.0.9 (2011-12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9.3.1.3 SDES solu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nce to become 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2EC-9F41-470B-91FB-732FF39CCA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Usag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533600" y="1938240"/>
            <a:ext cx="607680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B7E-A325-43E2-B191-62E6BEFB41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in Some 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5010120" cy="2038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700360" y="3645000"/>
            <a:ext cx="5803920" cy="196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229440" y="198900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-targeting  sce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50920" y="43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orking  scenario   </a:t>
            </a: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939-ABB6-4628-B2E0-5389323990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ow  about  this I-D become  a  WG work i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68E-FF04-4299-888D-BC1931A311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03:33:05Z</dcterms:created>
  <dc:creator>sujing</dc:creator>
  <dc:description/>
  <dc:language>en-US</dc:language>
  <cp:lastModifiedBy>sujing</cp:lastModifiedBy>
  <dcterms:modified xsi:type="dcterms:W3CDTF">2012-08-01T03:51:09Z</dcterms:modified>
  <cp:revision>4</cp:revision>
  <dc:subject/>
  <dc:title>Security Descriptions Extension for Media Streams draft-zhou-mmusic-sdes-keymod-01</dc:title>
</cp:coreProperties>
</file>