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0EB-5178-46A7-8CC7-E951363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507-9A11-4633-8E01-58595A29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522-75CB-4D90-95A5-0CE4B02E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98B-BFF2-47D4-BED3-1282A232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E32-9713-463D-AA80-BBE6772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F0E-CE57-483C-87CF-9F63AD81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F91-6080-4D27-84E0-50E7D79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09C-EBF1-4C0A-A6F0-F2B4ED9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5D4-BD5C-42CC-BD7F-2ABD781D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DB4-C0B2-42B4-90B2-41D4FDA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5A2-7129-42B7-9422-EF4FACA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B05-EE71-41EA-9C01-4C38578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DFD-3C9B-434C-B6AB-DCFFBFBCF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curity Descriptions Extension for Media Streams</a:t>
            </a:r>
            <a:br>
              <a:rPr sz="5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ft-zhou-mmusic-sdes-keymod-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. Zh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. Tian,  Z. 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ETF 84-mmusic ,  2012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381-6F2D-4605-801A-16C916610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Key exposure problem of SDES in forking and re-targeting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rol 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zh-CN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--------------------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0F7-F7CF-4FE2-B91A-1D65D45AF5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 2/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 new session parameter extension "keymod" to extend SDES (RFC 456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Defined in 3GPP TR 33.829 V0.0.9 (2011-1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9.3.1.3 SDES 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nce to become 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55A-9BAD-422F-A0C9-2F682F133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Usa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33600" y="1938240"/>
            <a:ext cx="60768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A15-87CE-4734-A19E-DF310A50C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in Some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010120" cy="20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00360" y="3645000"/>
            <a:ext cx="5803920" cy="196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29440" y="198900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-targeting 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50920" y="43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king  scenario   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909-25A5-4A2F-974A-4DA080861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ow  about  this I-D become  a  WG work i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2CA-B613-4C42-B8EE-B1E966F6A2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03:33:05Z</dcterms:created>
  <dc:creator>sujing</dc:creator>
  <dc:description/>
  <dc:language>en-US</dc:language>
  <cp:lastModifiedBy>sujing</cp:lastModifiedBy>
  <dcterms:modified xsi:type="dcterms:W3CDTF">2012-08-01T03:51:09Z</dcterms:modified>
  <cp:revision>4</cp:revision>
  <dc:subject/>
  <dc:title>Security Descriptions Extension for Media Streams draft-zhou-mmusic-sdes-keymod-01</dc:title>
</cp:coreProperties>
</file>