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52F-7FB4-4818-889F-E53B7ED0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150-A795-4DEC-90E8-2CD566FE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FF7-E67C-45FD-8B75-2486124C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F65-EAFE-40B2-AE58-26EE585D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B9D-53F8-410C-BE2D-21616FE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CC0-6D16-40A7-9BA2-42964E76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B15-BE17-4456-B471-0D22738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116-61D3-480F-B565-4477C270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990-F9D3-4D38-B5B2-DB56F3C7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812-B070-40E8-9D7A-8C50AD8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AF5-79A4-4851-89A7-F0A9DD7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582-1638-4944-B675-1067FE3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4EAB-BB3D-474F-8784-6C2693DB3E5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7C7E-557E-4BC6-9520-4AED150F9447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date on Candidate Address Selection for Interactive Connectivity Establishment (ICE)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keranen-mmusic-ice-address-selection-01</a:t>
            </a:r>
            <a:br>
              <a:rPr sz="36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. Keränen, J. Ark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ETF 84, Vancouver, BC, Ca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ust 1</a:t>
            </a:r>
            <a:r>
              <a:rPr b="0" lang="en-US" sz="24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ri Keränen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ri.keranen@ericsson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fferent kind of (IPv6) candidates should be combined with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use loopback addresses, deprecated IPv6 addresses, or IPv4-mapped IPv6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revised RFC 3484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 link-local/ULA only with link-local/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combine local relayed with IPv4 private or IPv6 link-local/ULA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gotiation whether updated rules ar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0D6-E994-4BE1-A920-1A8B5C4C9355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s since 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 operating system preferences over the defaults (if avail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loopback or deprecated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9C1-829D-441D-B7E4-E5EE3F4A5E72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(still) miss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adop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F3A0-7AE4-4ACF-AB9B-1EE4246C4EA7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2:21:16Z</dcterms:created>
  <dc:creator>Ari</dc:creator>
  <dc:description/>
  <cp:keywords/>
  <dc:language>en-US</dc:language>
  <cp:lastModifiedBy>Ari Keränen</cp:lastModifiedBy>
  <dcterms:modified xsi:type="dcterms:W3CDTF">2012-07-31T05:32:44Z</dcterms:modified>
  <cp:revision>69</cp:revision>
  <dc:subject/>
  <dc:title>draft-mmusic-ice-tcp</dc:title>
</cp:coreProperties>
</file>