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8D78-6B85-4D5A-98AF-B642FE48D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6B52-E1C6-46A0-9AD7-43A3670AC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D4BE-882E-4F39-93AD-CE79F1091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E972-5AA7-465B-9AB3-9E1C753D9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99EC-7BEF-47B2-840E-9162B19F6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A94B-6ECB-41B8-934E-79E2EA9EC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780D-1526-47B0-A371-AD6A8A08D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738A-29BA-4783-A549-D5DC75F9A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071E-58ED-4492-8AF1-099E42E9C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BD2D-EE73-493D-BEE4-B408B822C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217E-18F3-4B03-BEA9-13B0AD8AC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2F03-852A-4BE9-8379-A1951504E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81B82-9ED6-4B74-A3A8-0B78B14B6E51}" type="datetime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BF4D9-C5B2-49A1-AC31-E6CD043F6BDF}" type="slidenum">
              <a:rPr b="0" lang="fi-FI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2130120"/>
            <a:ext cx="8496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Update on Candidate Address Selection for Interactive Connectivity Establishment (ICE)</a:t>
            </a:r>
            <a:br>
              <a:rPr sz="40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raft-keranen-mmusic-ice-address-selection-01</a:t>
            </a:r>
            <a:br>
              <a:rPr sz="3600"/>
            </a:b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A. Keränen, J. Arkk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479736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IETF 84, Vancouver, BC, Canad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August 1</a:t>
            </a:r>
            <a:r>
              <a:rPr b="0" lang="en-US" sz="2400" spc="-1" strike="noStrike" baseline="30000">
                <a:solidFill>
                  <a:srgbClr val="898989"/>
                </a:solidFill>
                <a:latin typeface="Calibri"/>
              </a:rPr>
              <a:t>st</a:t>
            </a: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, 201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Ari Keränen</a:t>
            </a:r>
            <a:br>
              <a:rPr sz="2400"/>
            </a:b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ari.keranen@ericsson.co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different kind of (IPv6) candidates should be combined with 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on’t use loopback addresses, deprecated IPv6 addresses, or IPv4-mapped IPv6 addre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Use revised RFC 3484 r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ombine link-local/ULA only with link-local/UL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on’t combine local relayed with IPv4 private or IPv6 link-local/ULA addre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egotiation whether updated rules are u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9492E-B674-4F5E-8EA1-51DE32329033}" type="slidenum">
              <a:rPr b="0" lang="fi-FI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pdates since -0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efer operating system preferences over the defaults (if availabl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ver use loopback or deprecated addres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mall clarific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AD950-E516-4067-8F76-6F7D647A7C36}" type="slidenum">
              <a:rPr b="0" lang="fi-FI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thing (still) missing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G adoptio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7DB74-4C59-431C-A23A-3A29C9D2A09B}" type="slidenum">
              <a:rPr b="0" lang="fi-FI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2T12:21:16Z</dcterms:created>
  <dc:creator>Ari</dc:creator>
  <dc:description/>
  <cp:keywords/>
  <dc:language>en-US</dc:language>
  <cp:lastModifiedBy>Ari Keränen</cp:lastModifiedBy>
  <dcterms:modified xsi:type="dcterms:W3CDTF">2012-07-31T05:32:44Z</dcterms:modified>
  <cp:revision>69</cp:revision>
  <dc:subject/>
  <dc:title>draft-mmusic-ice-tcp</dc:title>
</cp:coreProperties>
</file>