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669000"/>
            <a:ext cx="9132840" cy="189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969000" y="6673680"/>
            <a:ext cx="677520" cy="1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0800" tIns="6480" bIns="6480" anchor="t">
            <a:spAutoFit/>
          </a:bodyPr>
          <a:p>
            <a:pPr algn="ctr">
              <a:tabLst>
                <a:tab algn="l" pos="0"/>
                <a:tab algn="l" pos="398520"/>
                <a:tab algn="l" pos="797040"/>
                <a:tab algn="l" pos="1195560"/>
                <a:tab algn="l" pos="1593720"/>
                <a:tab algn="l" pos="1992240"/>
                <a:tab algn="l" pos="2390760"/>
                <a:tab algn="l" pos="2789280"/>
                <a:tab algn="l" pos="3187800"/>
                <a:tab algn="l" pos="3586320"/>
                <a:tab algn="l" pos="3984480"/>
                <a:tab algn="l" pos="4383000"/>
                <a:tab algn="l" pos="4781520"/>
                <a:tab algn="l" pos="5180040"/>
                <a:tab algn="l" pos="5578560"/>
                <a:tab algn="l" pos="5977080"/>
                <a:tab algn="l" pos="6375240"/>
                <a:tab algn="l" pos="6773760"/>
                <a:tab algn="l" pos="7172280"/>
                <a:tab algn="l" pos="7570800"/>
                <a:tab algn="l" pos="7969320"/>
              </a:tabLst>
            </a:pPr>
            <a:fld id="{DF971FFB-CE20-40F8-A939-D38748B77D97}" type="slidenum">
              <a:rPr b="1" i="1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657600" y="201600"/>
            <a:ext cx="548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12600" y="0"/>
            <a:ext cx="2916360" cy="85716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200160" y="284040"/>
            <a:ext cx="22111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  <a:ea typeface="黑体"/>
              </a:rPr>
              <a:t>Huawei Techn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2560" y="81000"/>
            <a:ext cx="8101080" cy="65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00cc"/>
                </a:solidFill>
                <a:uFillTx/>
                <a:latin typeface="Arial"/>
              </a:rPr>
              <a:t>Click to edit the title text format</a:t>
            </a:r>
            <a:endParaRPr b="1" lang="en-US" sz="3000" spc="-1" strike="noStrike" u="sng">
              <a:solidFill>
                <a:srgbClr val="6600cc"/>
              </a:solidFill>
              <a:uFillTx/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322040" y="6622920"/>
            <a:ext cx="191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Huawei Top Confidential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57320" y="6610320"/>
            <a:ext cx="121248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F5E11-55AA-42B2-B4FE-4463CCA92D6A}" type="datetime">
              <a:rPr b="1" lang="en-US" sz="1200" spc="-1" strike="noStrike">
                <a:solidFill>
                  <a:srgbClr val="ffffff"/>
                </a:solidFill>
                <a:latin typeface="Arial"/>
                <a:ea typeface="楷体_GB2312"/>
              </a:rPr>
              <a:t>07/30/26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fld id="{4ABF8B95-C3CB-44C9-97FD-16902BAD9B1E}" type="datetime10">
              <a:rPr b="1" lang="en-US" sz="1200" spc="-1" strike="noStrike">
                <a:solidFill>
                  <a:srgbClr val="ffffff"/>
                </a:solidFill>
                <a:latin typeface="Arial"/>
                <a:ea typeface="楷体_GB2312"/>
              </a:rPr>
              <a:t>21:32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6221520"/>
            <a:ext cx="9142560" cy="636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50880" y="6435720"/>
            <a:ext cx="2752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UAWEI TECHNOLOGIES CO., LT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08880" y="6400800"/>
            <a:ext cx="1309680" cy="3096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dt" idx="1"/>
          </p:nvPr>
        </p:nvSpPr>
        <p:spPr>
          <a:xfrm>
            <a:off x="6360840" y="6489720"/>
            <a:ext cx="2097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  <a:defRPr b="0" lang="de-DE" sz="1200" spc="-1" strike="noStrike">
                <a:solidFill>
                  <a:srgbClr val="000000"/>
                </a:solidFill>
                <a:latin typeface="Arial"/>
                <a:ea typeface="MS PGothic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Page </a:t>
            </a:r>
            <a:fld id="{E2C9EF57-B752-45DA-8C46-8E8C0754771D}" type="slidenum">
              <a:rPr b="0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651960" y="384120"/>
            <a:ext cx="7923240" cy="46512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9" name=""/>
          <p:cNvSpPr/>
          <p:nvPr/>
        </p:nvSpPr>
        <p:spPr>
          <a:xfrm>
            <a:off x="3886200" y="6435720"/>
            <a:ext cx="1559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uawei Confidenti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651960" y="955800"/>
            <a:ext cx="7929720" cy="520992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293760" indent="-293760">
              <a:lnSpc>
                <a:spcPct val="140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36480" indent="-244440">
              <a:lnSpc>
                <a:spcPct val="140000"/>
              </a:lnSpc>
              <a:buClr>
                <a:srgbClr val="000000"/>
              </a:buClr>
              <a:buFont typeface="FrutigerNext LT Regular"/>
              <a:buChar char="›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979560" indent="-195480">
              <a:lnSpc>
                <a:spcPct val="140000"/>
              </a:lnSpc>
              <a:buClr>
                <a:srgbClr val="000000"/>
              </a:buClr>
              <a:buFont typeface="FrutigerNext LT Light"/>
              <a:buChar char="»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371600" indent="-19692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763640" indent="-19692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763640" indent="-19692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763640" indent="-19692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508880" y="5578560"/>
            <a:ext cx="820800" cy="8222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0" y="784080"/>
            <a:ext cx="9144000" cy="38102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1391760"/>
            <a:ext cx="5305320" cy="16671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663300"/>
              </a:solidFill>
              <a:latin typeface="黑体"/>
            </a:endParaRPr>
          </a:p>
        </p:txBody>
      </p:sp>
      <p:sp>
        <p:nvSpPr>
          <p:cNvPr id="90" name=""/>
          <p:cNvSpPr/>
          <p:nvPr/>
        </p:nvSpPr>
        <p:spPr>
          <a:xfrm>
            <a:off x="7144920" y="4070520"/>
            <a:ext cx="1639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utigerNext LT Regular"/>
                <a:ea typeface="MS PGothic"/>
              </a:rPr>
              <a:t>www.huawei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30280" y="247680"/>
            <a:ext cx="1795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1400" spc="-1" strike="noStrike">
                <a:solidFill>
                  <a:srgbClr val="666666"/>
                </a:solidFill>
                <a:latin typeface="FrutigerNext LT Regular"/>
                <a:ea typeface="MS PGothic"/>
              </a:rPr>
              <a:t>Security Level:  </a:t>
            </a:r>
            <a:r>
              <a:rPr b="1" lang="zh-CN" sz="1400" spc="-1" strike="noStrike">
                <a:solidFill>
                  <a:srgbClr val="666666"/>
                </a:solidFill>
                <a:latin typeface="FrutigerNext LT Regular"/>
                <a:ea typeface="MS PGothic"/>
              </a:rPr>
              <a:t>机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2"/>
          </p:nvPr>
        </p:nvSpPr>
        <p:spPr>
          <a:xfrm>
            <a:off x="684360" y="28116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  <a:defRPr b="0" lang="zh-CN" sz="1200" spc="-1" strike="noStrike">
                <a:solidFill>
                  <a:srgbClr val="000000"/>
                </a:solidFill>
                <a:latin typeface="FrutigerNext LT Regular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MS P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9440" y="6202440"/>
            <a:ext cx="2644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UAWEI TECHNOLOGIES Co., Lt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7960" y="6202440"/>
            <a:ext cx="1659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UAWEI Confidenti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1960" y="638280"/>
            <a:ext cx="7929720" cy="8697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293760" indent="-29376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4444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195480">
              <a:lnSpc>
                <a:spcPct val="140000"/>
              </a:lnSpc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196920">
              <a:lnSpc>
                <a:spcPct val="140000"/>
              </a:lnSpc>
              <a:buClr>
                <a:srgbClr val="000000"/>
              </a:buClr>
              <a:buFont typeface="Arial"/>
              <a:buChar char="›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63640" indent="-19692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63640" indent="-19692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63640" indent="-19692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1844640" y="898560"/>
            <a:ext cx="184464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rmAutofit/>
          </a:bodyPr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目录标题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0pt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目录标题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0pt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目录正文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8-30p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 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 :20-30pt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Regula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目录正文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8-30p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:20-30p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199440" y="4726080"/>
            <a:ext cx="92556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新建目录页请在选定目录页的前提下新建；内页同理。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183120" y="2131920"/>
            <a:ext cx="266328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utigerNext LT Medium"/>
                <a:ea typeface="MS PGothic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336120" y="3330720"/>
            <a:ext cx="237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FrutigerNext LT Regular"/>
                <a:ea typeface="MS PGothic"/>
              </a:rPr>
              <a:t>www.huawei.co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3760" indent="-2937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44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1954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19692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763640" indent="-19692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763640" indent="-19692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763640" indent="-19692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965240" y="3922560"/>
            <a:ext cx="4657680" cy="18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obert Ta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27040" y="1446120"/>
            <a:ext cx="592164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An Introduction to MPLS-PIM Interwork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(draft-tao-mpls-pim-interworking-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1201680" y="1281240"/>
            <a:ext cx="6004080" cy="158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351080" y="560520"/>
            <a:ext cx="558792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3100" spc="-1" strike="noStrike">
                <a:solidFill>
                  <a:srgbClr val="990000"/>
                </a:solidFill>
                <a:latin typeface="Arial"/>
              </a:rPr>
              <a:t>Current Stat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969840" y="1530360"/>
            <a:ext cx="6811920" cy="33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rmAutofit/>
          </a:bodyPr>
          <a:p>
            <a:pPr marL="293760" indent="-2937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0 Dr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nitiated Conversations with PIM W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ext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44440">
              <a:lnSpc>
                <a:spcPct val="100000"/>
              </a:lnSpc>
              <a:spcBef>
                <a:spcPts val="524"/>
              </a:spcBef>
              <a:buClr>
                <a:srgbClr val="333399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100" spc="-1" strike="noStrike">
                <a:solidFill>
                  <a:srgbClr val="333399"/>
                </a:solidFill>
                <a:latin typeface="Arial"/>
              </a:rPr>
              <a:t>Acceptance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44440">
              <a:lnSpc>
                <a:spcPct val="100000"/>
              </a:lnSpc>
              <a:spcBef>
                <a:spcPts val="524"/>
              </a:spcBef>
              <a:buClr>
                <a:srgbClr val="333399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100" spc="-1" strike="noStrike">
                <a:solidFill>
                  <a:srgbClr val="333399"/>
                </a:solidFill>
                <a:latin typeface="Arial"/>
              </a:rPr>
              <a:t>Next Vers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1201680" y="1281240"/>
            <a:ext cx="6004080" cy="158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351080" y="560520"/>
            <a:ext cx="558792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3100" spc="-1" strike="noStrike">
                <a:solidFill>
                  <a:srgbClr val="990000"/>
                </a:solidFill>
                <a:latin typeface="Arial"/>
              </a:rPr>
              <a:t>Outlin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1055520" y="2536920"/>
            <a:ext cx="973440" cy="90144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/>
          <p:nvPr/>
        </p:nvSpPr>
        <p:spPr>
          <a:xfrm>
            <a:off x="2023920" y="2927520"/>
            <a:ext cx="5757840" cy="19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rmAutofit/>
          </a:bodyPr>
          <a:p>
            <a:pPr marL="293760" indent="-2937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roblem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n Interworking (In-Band)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Q’s &amp; A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201680" y="1281240"/>
            <a:ext cx="6004080" cy="158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51080" y="560520"/>
            <a:ext cx="558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055520" y="2536920"/>
            <a:ext cx="973440" cy="90144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205000" y="2927520"/>
            <a:ext cx="5786640" cy="19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rmAutofit/>
          </a:bodyPr>
          <a:p>
            <a:pPr marL="293760" indent="-2937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roblem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n Interworking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Q’s &amp; A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23840" y="1297080"/>
            <a:ext cx="844560" cy="14605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te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44680" y="189000"/>
            <a:ext cx="816264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Problem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19400" y="2241720"/>
            <a:ext cx="5869080" cy="423828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rmAutofit/>
          </a:bodyPr>
          <a:p>
            <a:pPr marL="293760" indent="-2937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2000" spc="-1" strike="noStrike" u="sng">
                <a:solidFill>
                  <a:srgbClr val="333399"/>
                </a:solidFill>
                <a:uFillTx/>
                <a:latin typeface="Arial"/>
              </a:rPr>
              <a:t>Application Scen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IP Multicast Sites Around MPLS Backb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PIM Running In Each S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PIM Meets MPLS at MPLS-PIM Multicast Border Router (mPMB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444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PIM Control St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444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Multicast Data Traff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Major Challe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444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Scalability and 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444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Optimal Routing in MPLS Backb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444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PIM Fea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770040" y="882720"/>
            <a:ext cx="7618320" cy="81000"/>
            <a:chOff x="770040" y="882720"/>
            <a:chExt cx="7618320" cy="81000"/>
          </a:xfrm>
        </p:grpSpPr>
        <p:sp>
          <p:nvSpPr>
            <p:cNvPr id="222" name=""/>
            <p:cNvSpPr/>
            <p:nvPr/>
          </p:nvSpPr>
          <p:spPr>
            <a:xfrm flipV="1">
              <a:off x="770040" y="941400"/>
              <a:ext cx="7565760" cy="6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331120" y="882720"/>
              <a:ext cx="57240" cy="8100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1020600" y="2235240"/>
            <a:ext cx="1925640" cy="185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28" descr="05"/>
          <p:cNvPicPr/>
          <p:nvPr/>
        </p:nvPicPr>
        <p:blipFill>
          <a:blip r:embed="rId1"/>
          <a:stretch/>
        </p:blipFill>
        <p:spPr>
          <a:xfrm>
            <a:off x="2360520" y="2922480"/>
            <a:ext cx="293760" cy="1936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8" descr="05"/>
          <p:cNvPicPr/>
          <p:nvPr/>
        </p:nvPicPr>
        <p:blipFill>
          <a:blip r:embed="rId2"/>
          <a:stretch/>
        </p:blipFill>
        <p:spPr>
          <a:xfrm>
            <a:off x="1673280" y="3083040"/>
            <a:ext cx="295200" cy="193680"/>
          </a:xfrm>
          <a:prstGeom prst="rect">
            <a:avLst/>
          </a:prstGeom>
          <a:ln w="0">
            <a:noFill/>
          </a:ln>
        </p:spPr>
      </p:pic>
      <p:cxnSp>
        <p:nvCxnSpPr>
          <p:cNvPr id="227" name="AutoShape 100"/>
          <p:cNvCxnSpPr>
            <a:stCxn id="228" idx="0"/>
            <a:endCxn id="229" idx="0"/>
          </p:cNvCxnSpPr>
          <p:nvPr/>
        </p:nvCxnSpPr>
        <p:spPr>
          <a:xfrm flipV="1">
            <a:off x="1360440" y="2312280"/>
            <a:ext cx="667440" cy="516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0" name="AutoShape 101"/>
          <p:cNvCxnSpPr>
            <a:stCxn id="226" idx="1"/>
          </p:cNvCxnSpPr>
          <p:nvPr/>
        </p:nvCxnSpPr>
        <p:spPr>
          <a:xfrm flipH="1" flipV="1">
            <a:off x="1305720" y="2895120"/>
            <a:ext cx="367560" cy="2851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31" name="AutoShape 104"/>
          <p:cNvCxnSpPr>
            <a:stCxn id="232" idx="0"/>
            <a:endCxn id="226" idx="2"/>
          </p:cNvCxnSpPr>
          <p:nvPr/>
        </p:nvCxnSpPr>
        <p:spPr>
          <a:xfrm flipH="1" flipV="1">
            <a:off x="1820520" y="3276000"/>
            <a:ext cx="254880" cy="5943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33" name="AutoShape 105"/>
          <p:cNvCxnSpPr>
            <a:stCxn id="226" idx="3"/>
            <a:endCxn id="225" idx="1"/>
          </p:cNvCxnSpPr>
          <p:nvPr/>
        </p:nvCxnSpPr>
        <p:spPr>
          <a:xfrm flipV="1">
            <a:off x="1968120" y="3018960"/>
            <a:ext cx="392760" cy="161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4" name="AutoShape 106"/>
          <p:cNvCxnSpPr>
            <a:stCxn id="229" idx="1"/>
            <a:endCxn id="225" idx="0"/>
          </p:cNvCxnSpPr>
          <p:nvPr/>
        </p:nvCxnSpPr>
        <p:spPr>
          <a:xfrm>
            <a:off x="2313000" y="2324160"/>
            <a:ext cx="195840" cy="598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5" name="AutoShape 107"/>
          <p:cNvCxnSpPr>
            <a:stCxn id="236" idx="0"/>
            <a:endCxn id="225" idx="2"/>
          </p:cNvCxnSpPr>
          <p:nvPr/>
        </p:nvCxnSpPr>
        <p:spPr>
          <a:xfrm flipV="1">
            <a:off x="2048040" y="3115800"/>
            <a:ext cx="460800" cy="74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7" name="AutoShape 108"/>
          <p:cNvCxnSpPr>
            <a:stCxn id="229" idx="2"/>
            <a:endCxn id="226" idx="0"/>
          </p:cNvCxnSpPr>
          <p:nvPr/>
        </p:nvCxnSpPr>
        <p:spPr>
          <a:xfrm flipH="1">
            <a:off x="1820520" y="2411280"/>
            <a:ext cx="351360" cy="6724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38" name="AutoShape 103"/>
          <p:cNvCxnSpPr>
            <a:stCxn id="239" idx="0"/>
            <a:endCxn id="240" idx="3"/>
          </p:cNvCxnSpPr>
          <p:nvPr/>
        </p:nvCxnSpPr>
        <p:spPr>
          <a:xfrm flipH="1" flipV="1">
            <a:off x="656640" y="2507400"/>
            <a:ext cx="417960" cy="188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1" name="AutoShape 103"/>
          <p:cNvCxnSpPr>
            <a:stCxn id="239" idx="1"/>
            <a:endCxn id="242" idx="2"/>
          </p:cNvCxnSpPr>
          <p:nvPr/>
        </p:nvCxnSpPr>
        <p:spPr>
          <a:xfrm flipH="1" flipV="1">
            <a:off x="755280" y="1852200"/>
            <a:ext cx="319680" cy="843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243" name="Picture 28" descr="05"/>
          <p:cNvPicPr/>
          <p:nvPr/>
        </p:nvPicPr>
        <p:blipFill>
          <a:blip r:embed="rId3"/>
          <a:stretch/>
        </p:blipFill>
        <p:spPr>
          <a:xfrm>
            <a:off x="1946160" y="4400640"/>
            <a:ext cx="292320" cy="195120"/>
          </a:xfrm>
          <a:prstGeom prst="rect">
            <a:avLst/>
          </a:prstGeom>
          <a:ln w="0">
            <a:noFill/>
          </a:ln>
        </p:spPr>
      </p:pic>
      <p:cxnSp>
        <p:nvCxnSpPr>
          <p:cNvPr id="244" name="AutoShape 103"/>
          <p:cNvCxnSpPr>
            <a:stCxn id="243" idx="0"/>
            <a:endCxn id="245" idx="0"/>
          </p:cNvCxnSpPr>
          <p:nvPr/>
        </p:nvCxnSpPr>
        <p:spPr>
          <a:xfrm flipH="1" flipV="1">
            <a:off x="2069640" y="4125240"/>
            <a:ext cx="23040" cy="275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246" name="Picture 28" descr="05"/>
          <p:cNvPicPr/>
          <p:nvPr/>
        </p:nvPicPr>
        <p:blipFill>
          <a:blip r:embed="rId4"/>
          <a:stretch/>
        </p:blipFill>
        <p:spPr>
          <a:xfrm>
            <a:off x="365040" y="2411280"/>
            <a:ext cx="292320" cy="1936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8" descr="05"/>
          <p:cNvPicPr/>
          <p:nvPr/>
        </p:nvPicPr>
        <p:blipFill>
          <a:blip r:embed="rId5"/>
          <a:stretch/>
        </p:blipFill>
        <p:spPr>
          <a:xfrm>
            <a:off x="609480" y="1657440"/>
            <a:ext cx="292320" cy="195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1589040" y="4305240"/>
            <a:ext cx="1236600" cy="9111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te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Box 220"/>
          <p:cNvSpPr/>
          <p:nvPr/>
        </p:nvSpPr>
        <p:spPr>
          <a:xfrm>
            <a:off x="996120" y="2195640"/>
            <a:ext cx="89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mPMB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Box 220"/>
          <p:cNvSpPr/>
          <p:nvPr/>
        </p:nvSpPr>
        <p:spPr>
          <a:xfrm>
            <a:off x="2097720" y="2049480"/>
            <a:ext cx="89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mPMB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Box 220"/>
          <p:cNvSpPr/>
          <p:nvPr/>
        </p:nvSpPr>
        <p:spPr>
          <a:xfrm>
            <a:off x="2113560" y="3895560"/>
            <a:ext cx="89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mPMB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1074600" y="2603520"/>
            <a:ext cx="287640" cy="328680"/>
            <a:chOff x="1074600" y="2603520"/>
            <a:chExt cx="287640" cy="328680"/>
          </a:xfrm>
        </p:grpSpPr>
        <p:sp>
          <p:nvSpPr>
            <p:cNvPr id="228" name=""/>
            <p:cNvSpPr/>
            <p:nvPr/>
          </p:nvSpPr>
          <p:spPr>
            <a:xfrm>
              <a:off x="1074600" y="2695680"/>
              <a:ext cx="287640" cy="2365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074600" y="2695680"/>
              <a:ext cx="28764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74600" y="2603520"/>
              <a:ext cx="286920" cy="1792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220400" y="2630520"/>
              <a:ext cx="94680" cy="554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220400" y="2630520"/>
              <a:ext cx="94680" cy="554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118160" y="2695680"/>
              <a:ext cx="94680" cy="601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118160" y="2695680"/>
              <a:ext cx="94680" cy="601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123200" y="2625840"/>
              <a:ext cx="93960" cy="568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123200" y="2625840"/>
              <a:ext cx="93960" cy="568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217160" y="2701800"/>
              <a:ext cx="93600" cy="572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217160" y="2701800"/>
              <a:ext cx="93600" cy="572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223280" y="2633760"/>
              <a:ext cx="92520" cy="5688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223280" y="2633760"/>
              <a:ext cx="92520" cy="5688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20680" y="2698560"/>
              <a:ext cx="93600" cy="604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120680" y="2698560"/>
              <a:ext cx="93600" cy="604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125000" y="2630520"/>
              <a:ext cx="93960" cy="554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125000" y="2630520"/>
              <a:ext cx="93960" cy="554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218960" y="2705040"/>
              <a:ext cx="93600" cy="572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218960" y="2705040"/>
              <a:ext cx="93600" cy="572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925640" y="3797280"/>
            <a:ext cx="287280" cy="328680"/>
            <a:chOff x="1925640" y="3797280"/>
            <a:chExt cx="287280" cy="328680"/>
          </a:xfrm>
        </p:grpSpPr>
        <p:sp>
          <p:nvSpPr>
            <p:cNvPr id="245" name=""/>
            <p:cNvSpPr/>
            <p:nvPr/>
          </p:nvSpPr>
          <p:spPr>
            <a:xfrm>
              <a:off x="1925640" y="3889440"/>
              <a:ext cx="287280" cy="2365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25640" y="3889440"/>
              <a:ext cx="287280" cy="144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925640" y="3797280"/>
              <a:ext cx="286560" cy="1792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71440" y="3824280"/>
              <a:ext cx="94680" cy="554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071440" y="3824280"/>
              <a:ext cx="94680" cy="554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968840" y="3889440"/>
              <a:ext cx="94680" cy="601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968840" y="3889440"/>
              <a:ext cx="94680" cy="601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974240" y="3819600"/>
              <a:ext cx="93600" cy="568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974240" y="3819600"/>
              <a:ext cx="93600" cy="568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067840" y="3895560"/>
              <a:ext cx="93600" cy="572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067840" y="3895560"/>
              <a:ext cx="93600" cy="572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073960" y="3827520"/>
              <a:ext cx="92520" cy="5688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073960" y="3827520"/>
              <a:ext cx="92520" cy="5688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971360" y="3892320"/>
              <a:ext cx="93600" cy="604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971360" y="3892320"/>
              <a:ext cx="93600" cy="604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976040" y="3824280"/>
              <a:ext cx="93600" cy="554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76040" y="3824280"/>
              <a:ext cx="93600" cy="554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069640" y="3898800"/>
              <a:ext cx="93600" cy="572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069640" y="3898800"/>
              <a:ext cx="93600" cy="572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835200" y="3213000"/>
            <a:ext cx="124452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PLS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2027160" y="2082960"/>
            <a:ext cx="287280" cy="327960"/>
            <a:chOff x="2027160" y="2082960"/>
            <a:chExt cx="287280" cy="327960"/>
          </a:xfrm>
        </p:grpSpPr>
        <p:sp>
          <p:nvSpPr>
            <p:cNvPr id="229" name=""/>
            <p:cNvSpPr/>
            <p:nvPr/>
          </p:nvSpPr>
          <p:spPr>
            <a:xfrm>
              <a:off x="2027160" y="2174760"/>
              <a:ext cx="287280" cy="23616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027160" y="2174760"/>
              <a:ext cx="287280" cy="108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027160" y="2082960"/>
              <a:ext cx="286560" cy="17892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172960" y="2109600"/>
              <a:ext cx="94680" cy="550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172960" y="2109600"/>
              <a:ext cx="94680" cy="550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070360" y="2174760"/>
              <a:ext cx="94680" cy="5976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070360" y="2174760"/>
              <a:ext cx="94680" cy="5976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075760" y="2104920"/>
              <a:ext cx="93600" cy="56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075760" y="2104920"/>
              <a:ext cx="93600" cy="565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169360" y="2180880"/>
              <a:ext cx="93600" cy="568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169360" y="2180880"/>
              <a:ext cx="93600" cy="568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175480" y="2112840"/>
              <a:ext cx="92520" cy="565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175480" y="2112840"/>
              <a:ext cx="92520" cy="565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072880" y="2177640"/>
              <a:ext cx="93600" cy="601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2880" y="2177640"/>
              <a:ext cx="93600" cy="601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077560" y="2109600"/>
              <a:ext cx="93600" cy="550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077560" y="2109600"/>
              <a:ext cx="93600" cy="550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171160" y="2184120"/>
              <a:ext cx="93600" cy="568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171160" y="2184120"/>
              <a:ext cx="93600" cy="568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07" name="Picture 28" descr="05"/>
          <p:cNvPicPr/>
          <p:nvPr/>
        </p:nvPicPr>
        <p:blipFill>
          <a:blip r:embed="rId6"/>
          <a:stretch/>
        </p:blipFill>
        <p:spPr>
          <a:xfrm>
            <a:off x="2238480" y="1663560"/>
            <a:ext cx="291960" cy="195480"/>
          </a:xfrm>
          <a:prstGeom prst="rect">
            <a:avLst/>
          </a:prstGeom>
          <a:ln w="0">
            <a:noFill/>
          </a:ln>
        </p:spPr>
      </p:pic>
      <p:cxnSp>
        <p:nvCxnSpPr>
          <p:cNvPr id="308" name="AutoShape 103"/>
          <p:cNvCxnSpPr>
            <a:stCxn id="307" idx="2"/>
            <a:endCxn id="290" idx="0"/>
          </p:cNvCxnSpPr>
          <p:nvPr/>
        </p:nvCxnSpPr>
        <p:spPr>
          <a:xfrm flipH="1">
            <a:off x="2171520" y="1859040"/>
            <a:ext cx="213120" cy="224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9" name=""/>
          <p:cNvSpPr/>
          <p:nvPr/>
        </p:nvSpPr>
        <p:spPr>
          <a:xfrm>
            <a:off x="1890720" y="1073160"/>
            <a:ext cx="1008000" cy="8920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te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266840" y="2800440"/>
            <a:ext cx="723960" cy="1047600"/>
          </a:xfrm>
          <a:custGeom>
            <a:avLst/>
            <a:gdLst/>
            <a:ahLst/>
            <a:rect l="l" t="t" r="r" b="b"/>
            <a:pathLst>
              <a:path w="486" h="858">
                <a:moveTo>
                  <a:pt x="0" y="0"/>
                </a:moveTo>
                <a:cubicBezTo>
                  <a:pt x="110" y="69"/>
                  <a:pt x="221" y="138"/>
                  <a:pt x="294" y="228"/>
                </a:cubicBezTo>
                <a:cubicBezTo>
                  <a:pt x="367" y="318"/>
                  <a:pt x="406" y="435"/>
                  <a:pt x="438" y="540"/>
                </a:cubicBezTo>
                <a:cubicBezTo>
                  <a:pt x="470" y="645"/>
                  <a:pt x="478" y="805"/>
                  <a:pt x="486" y="858"/>
                </a:cubicBezTo>
              </a:path>
            </a:pathLst>
          </a:custGeom>
          <a:noFill/>
          <a:ln w="34920">
            <a:solidFill>
              <a:srgbClr val="9933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62200" y="2266920"/>
            <a:ext cx="419040" cy="847800"/>
          </a:xfrm>
          <a:custGeom>
            <a:avLst/>
            <a:gdLst/>
            <a:ahLst/>
            <a:rect l="l" t="t" r="r" b="b"/>
            <a:pathLst>
              <a:path w="324" h="630">
                <a:moveTo>
                  <a:pt x="0" y="630"/>
                </a:moveTo>
                <a:cubicBezTo>
                  <a:pt x="108" y="445"/>
                  <a:pt x="216" y="261"/>
                  <a:pt x="270" y="156"/>
                </a:cubicBezTo>
                <a:cubicBezTo>
                  <a:pt x="324" y="51"/>
                  <a:pt x="324" y="25"/>
                  <a:pt x="324" y="0"/>
                </a:cubicBezTo>
              </a:path>
            </a:pathLst>
          </a:custGeom>
          <a:noFill/>
          <a:ln w="34920">
            <a:solidFill>
              <a:srgbClr val="99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09640" y="1866960"/>
            <a:ext cx="254160" cy="679320"/>
          </a:xfrm>
          <a:prstGeom prst="line">
            <a:avLst/>
          </a:prstGeom>
          <a:ln w="22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2212920" y="1889280"/>
            <a:ext cx="209520" cy="209520"/>
          </a:xfrm>
          <a:prstGeom prst="line">
            <a:avLst/>
          </a:prstGeom>
          <a:ln w="22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25720" y="4121280"/>
            <a:ext cx="28440" cy="276120"/>
          </a:xfrm>
          <a:prstGeom prst="line">
            <a:avLst/>
          </a:prstGeom>
          <a:ln w="22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2000" y="4038480"/>
            <a:ext cx="1171440" cy="32364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560" rIns="79560" tIns="39960" bIns="3996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2MP L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762120" y="2945880"/>
            <a:ext cx="704880" cy="108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076400" y="4991040"/>
            <a:ext cx="94284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v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1749600" y="4565520"/>
            <a:ext cx="263520" cy="454320"/>
          </a:xfrm>
          <a:prstGeom prst="line">
            <a:avLst/>
          </a:prstGeom>
          <a:ln w="22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28880" y="1447920"/>
            <a:ext cx="76536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v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2482920" y="1616040"/>
            <a:ext cx="396720" cy="117360"/>
          </a:xfrm>
          <a:prstGeom prst="line">
            <a:avLst/>
          </a:prstGeom>
          <a:ln w="22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3520" y="1454040"/>
            <a:ext cx="231480" cy="276480"/>
          </a:xfrm>
          <a:prstGeom prst="line">
            <a:avLst/>
          </a:prstGeom>
          <a:ln w="22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52280" y="1181160"/>
            <a:ext cx="73980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544680" y="189000"/>
            <a:ext cx="816264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Current IETF Approaches And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55600" y="1009800"/>
            <a:ext cx="8402760" cy="55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rmAutofit/>
          </a:bodyPr>
          <a:p>
            <a:pPr marL="293760" indent="-29376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Approach 1: A 3</a:t>
            </a:r>
            <a:r>
              <a:rPr b="1" lang="zh-CN" sz="1800" spc="-1" strike="noStrike" baseline="30000">
                <a:solidFill>
                  <a:srgbClr val="333399"/>
                </a:solidFill>
                <a:latin typeface="Arial"/>
              </a:rPr>
              <a:t>rd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 Protocol (i.e. BGP) To Discover and Propagate PIM States (Currently For mVP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444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RFC6513/RFC65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444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Works with Various Tunn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Approach 2: Direct State Exchanges between PIM and MP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444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draft-ietf-mpls-mldp-in-band-signaling-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4444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1800" spc="-1" strike="noStrike">
                <a:solidFill>
                  <a:srgbClr val="990000"/>
                </a:solidFill>
                <a:latin typeface="Arial"/>
              </a:rPr>
              <a:t>What is missing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9560" indent="-195480">
              <a:lnSpc>
                <a:spcPct val="100000"/>
              </a:lnSpc>
              <a:spcBef>
                <a:spcPts val="425"/>
              </a:spcBef>
              <a:buClr>
                <a:srgbClr val="333399"/>
              </a:buClr>
              <a:buFont typeface="Arial"/>
              <a:buChar char="•"/>
              <a:tabLst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Arial"/>
              </a:rPr>
              <a:t>mLDP Tunnel Onl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979560" indent="-195480">
              <a:lnSpc>
                <a:spcPct val="100000"/>
              </a:lnSpc>
              <a:spcBef>
                <a:spcPts val="425"/>
              </a:spcBef>
              <a:buClr>
                <a:srgbClr val="333399"/>
              </a:buClr>
              <a:buFont typeface="Arial"/>
              <a:buChar char="•"/>
              <a:tabLst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Arial"/>
              </a:rPr>
              <a:t>Incomple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196920">
              <a:lnSpc>
                <a:spcPct val="100000"/>
              </a:lnSpc>
              <a:spcBef>
                <a:spcPts val="326"/>
              </a:spcBef>
              <a:buClr>
                <a:srgbClr val="333399"/>
              </a:buClr>
              <a:buFont typeface="Arial"/>
              <a:buChar char="–"/>
              <a:tabLst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1300" spc="-1" strike="noStrike">
                <a:solidFill>
                  <a:srgbClr val="333399"/>
                </a:solidFill>
                <a:latin typeface="Arial"/>
              </a:rPr>
              <a:t>Missing PIM Functions (i.e. ASM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196920">
              <a:lnSpc>
                <a:spcPct val="100000"/>
              </a:lnSpc>
              <a:spcBef>
                <a:spcPts val="326"/>
              </a:spcBef>
              <a:buClr>
                <a:srgbClr val="333399"/>
              </a:buClr>
              <a:buFont typeface="Arial"/>
              <a:buChar char="–"/>
              <a:tabLst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1300" spc="-1" strike="noStrike">
                <a:solidFill>
                  <a:srgbClr val="333399"/>
                </a:solidFill>
                <a:latin typeface="Arial"/>
              </a:rPr>
              <a:t>No explicit specifications for PIM operations over MPLS (Adjacency, Bootstrapping, RPT to SPT switch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196920">
              <a:lnSpc>
                <a:spcPct val="100000"/>
              </a:lnSpc>
              <a:spcBef>
                <a:spcPts val="326"/>
              </a:spcBef>
              <a:buClr>
                <a:srgbClr val="333399"/>
              </a:buClr>
              <a:buFont typeface="Arial"/>
              <a:buChar char="–"/>
              <a:tabLst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1300" spc="-1" strike="noStrike">
                <a:solidFill>
                  <a:srgbClr val="333399"/>
                </a:solidFill>
                <a:latin typeface="Arial"/>
              </a:rPr>
              <a:t>No specifications for tunnel aggrega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4444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1800" spc="-1" strike="noStrike">
                <a:solidFill>
                  <a:srgbClr val="990000"/>
                </a:solidFill>
                <a:latin typeface="Arial"/>
              </a:rPr>
              <a:t>What we need: 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A Framework (Counterpart of RFC6513)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9560" indent="-195480">
              <a:lnSpc>
                <a:spcPct val="100000"/>
              </a:lnSpc>
              <a:spcBef>
                <a:spcPts val="425"/>
              </a:spcBef>
              <a:buClr>
                <a:srgbClr val="333399"/>
              </a:buClr>
              <a:buFont typeface="Arial"/>
              <a:buChar char="•"/>
              <a:tabLst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Arial"/>
              </a:rPr>
              <a:t>Support Various Tunnel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979560" indent="-195480">
              <a:lnSpc>
                <a:spcPct val="100000"/>
              </a:lnSpc>
              <a:spcBef>
                <a:spcPts val="425"/>
              </a:spcBef>
              <a:buClr>
                <a:srgbClr val="333399"/>
              </a:buClr>
              <a:buFont typeface="Arial"/>
              <a:buChar char="•"/>
              <a:tabLst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Arial"/>
              </a:rPr>
              <a:t>Complete PIM Features In Efficient and Scalable Way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770040" y="882720"/>
            <a:ext cx="7618320" cy="81000"/>
            <a:chOff x="770040" y="882720"/>
            <a:chExt cx="7618320" cy="81000"/>
          </a:xfrm>
        </p:grpSpPr>
        <p:sp>
          <p:nvSpPr>
            <p:cNvPr id="326" name=""/>
            <p:cNvSpPr/>
            <p:nvPr/>
          </p:nvSpPr>
          <p:spPr>
            <a:xfrm flipV="1">
              <a:off x="770040" y="941400"/>
              <a:ext cx="7565760" cy="6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331120" y="882720"/>
              <a:ext cx="57240" cy="8100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557280" y="189000"/>
            <a:ext cx="7591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PIM/MPLS Interworking Referenc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548160" y="812880"/>
            <a:ext cx="5614920" cy="57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rmAutofit/>
          </a:bodyPr>
          <a:p>
            <a:pPr marL="293760" indent="-29376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mPM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444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PIM and MPLS interfa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444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Quasi-PIM Interface (QP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9560" indent="-1954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600" spc="-1" strike="noStrike">
                <a:solidFill>
                  <a:srgbClr val="333399"/>
                </a:solidFill>
                <a:latin typeface="Arial"/>
              </a:rPr>
              <a:t>Same as PIM Interface Bu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9560" indent="-1954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600" spc="-1" strike="noStrike">
                <a:solidFill>
                  <a:srgbClr val="333399"/>
                </a:solidFill>
                <a:latin typeface="Arial"/>
              </a:rPr>
              <a:t>No PIM Adjac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444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PIM-MPLS Interworking (PMI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9560" indent="-1954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600" spc="-1" strike="noStrike">
                <a:solidFill>
                  <a:srgbClr val="333399"/>
                </a:solidFill>
                <a:latin typeface="Arial"/>
              </a:rPr>
              <a:t>Mapping PIM Forwarding St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PIM States That Terminate at mPMB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44440">
              <a:lnSpc>
                <a:spcPct val="100000"/>
              </a:lnSpc>
              <a:spcBef>
                <a:spcPts val="425"/>
              </a:spcBef>
              <a:buClr>
                <a:srgbClr val="333399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700" spc="-1" strike="noStrike">
                <a:solidFill>
                  <a:srgbClr val="333399"/>
                </a:solidFill>
                <a:latin typeface="Arial"/>
              </a:rPr>
              <a:t>Hello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44440">
              <a:lnSpc>
                <a:spcPct val="100000"/>
              </a:lnSpc>
              <a:spcBef>
                <a:spcPts val="425"/>
              </a:spcBef>
              <a:buClr>
                <a:srgbClr val="333399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700" spc="-1" strike="noStrike">
                <a:solidFill>
                  <a:srgbClr val="333399"/>
                </a:solidFill>
                <a:latin typeface="Arial"/>
              </a:rPr>
              <a:t>Asser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PIM States Mapped Between PIM and MP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444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PIM Forwarding St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9560" indent="-195480">
              <a:lnSpc>
                <a:spcPct val="100000"/>
              </a:lnSpc>
              <a:spcBef>
                <a:spcPts val="425"/>
              </a:spcBef>
              <a:buClr>
                <a:srgbClr val="333399"/>
              </a:buClr>
              <a:buFont typeface="Arial"/>
              <a:buChar char="•"/>
              <a:tabLst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700" spc="-1" strike="noStrike">
                <a:solidFill>
                  <a:srgbClr val="333399"/>
                </a:solidFill>
                <a:latin typeface="Arial"/>
              </a:rPr>
              <a:t>Per-Interfa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979560" indent="-195480">
              <a:lnSpc>
                <a:spcPct val="100000"/>
              </a:lnSpc>
              <a:spcBef>
                <a:spcPts val="425"/>
              </a:spcBef>
              <a:buClr>
                <a:srgbClr val="333399"/>
              </a:buClr>
              <a:buFont typeface="Arial"/>
              <a:buChar char="•"/>
              <a:tabLst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700" spc="-1" strike="noStrike">
                <a:solidFill>
                  <a:srgbClr val="333399"/>
                </a:solidFill>
                <a:latin typeface="Arial"/>
              </a:rPr>
              <a:t>Non-Interface Specifi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PIM States Uni-casted Using Raw 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444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Register, CRP-Ad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Bootstrap: A Bootstrap Channel Over MP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770040" y="625320"/>
            <a:ext cx="7618320" cy="81000"/>
            <a:chOff x="770040" y="625320"/>
            <a:chExt cx="7618320" cy="81000"/>
          </a:xfrm>
        </p:grpSpPr>
        <p:sp>
          <p:nvSpPr>
            <p:cNvPr id="331" name=""/>
            <p:cNvSpPr/>
            <p:nvPr/>
          </p:nvSpPr>
          <p:spPr>
            <a:xfrm flipV="1">
              <a:off x="770040" y="684000"/>
              <a:ext cx="7565760" cy="6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331120" y="625320"/>
              <a:ext cx="57240" cy="8100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-482760" y="901800"/>
            <a:ext cx="15130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079640" y="5118120"/>
            <a:ext cx="22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ulticast Control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12720" y="521352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15960" y="5472000"/>
            <a:ext cx="338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stealth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079640" y="5346720"/>
            <a:ext cx="1266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P Multicast 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46120" y="4584600"/>
            <a:ext cx="70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-2149920" y="753840"/>
            <a:ext cx="5673960" cy="3831480"/>
            <a:chOff x="-2149920" y="753840"/>
            <a:chExt cx="5673960" cy="3831480"/>
          </a:xfrm>
        </p:grpSpPr>
        <p:sp>
          <p:nvSpPr>
            <p:cNvPr id="340" name=""/>
            <p:cNvSpPr/>
            <p:nvPr/>
          </p:nvSpPr>
          <p:spPr>
            <a:xfrm>
              <a:off x="737280" y="1588680"/>
              <a:ext cx="2258280" cy="201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I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938160" y="2035080"/>
              <a:ext cx="543600" cy="98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PI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mFI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469880" y="2035080"/>
              <a:ext cx="888120" cy="98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MI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115640" y="1612440"/>
              <a:ext cx="141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mPMB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4" name=""/>
            <p:cNvGrpSpPr/>
            <p:nvPr/>
          </p:nvGrpSpPr>
          <p:grpSpPr>
            <a:xfrm>
              <a:off x="524160" y="2634120"/>
              <a:ext cx="414000" cy="211320"/>
              <a:chOff x="524160" y="2634120"/>
              <a:chExt cx="414000" cy="211320"/>
            </a:xfrm>
          </p:grpSpPr>
          <p:sp>
            <p:nvSpPr>
              <p:cNvPr id="345" name=""/>
              <p:cNvSpPr/>
              <p:nvPr/>
            </p:nvSpPr>
            <p:spPr>
              <a:xfrm>
                <a:off x="551520" y="2774880"/>
                <a:ext cx="3312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51520" y="2704680"/>
                <a:ext cx="331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headEnd len="med" type="stealth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24160" y="2634120"/>
                <a:ext cx="41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24160" y="2845440"/>
                <a:ext cx="41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2880720" y="2687040"/>
              <a:ext cx="414000" cy="211320"/>
              <a:chOff x="2880720" y="2687040"/>
              <a:chExt cx="414000" cy="211320"/>
            </a:xfrm>
          </p:grpSpPr>
          <p:sp>
            <p:nvSpPr>
              <p:cNvPr id="350" name=""/>
              <p:cNvSpPr/>
              <p:nvPr/>
            </p:nvSpPr>
            <p:spPr>
              <a:xfrm>
                <a:off x="2908080" y="2827800"/>
                <a:ext cx="3312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908080" y="2757240"/>
                <a:ext cx="331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headEnd len="med" type="stealth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880720" y="2687040"/>
                <a:ext cx="41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880720" y="2898360"/>
                <a:ext cx="41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>
              <a:off x="2358000" y="2035080"/>
              <a:ext cx="531720" cy="98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MP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mLI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2889720" y="2410920"/>
              <a:ext cx="414000" cy="140760"/>
              <a:chOff x="2889720" y="2410920"/>
              <a:chExt cx="414000" cy="140760"/>
            </a:xfrm>
          </p:grpSpPr>
          <p:sp>
            <p:nvSpPr>
              <p:cNvPr id="356" name=""/>
              <p:cNvSpPr/>
              <p:nvPr/>
            </p:nvSpPr>
            <p:spPr>
              <a:xfrm>
                <a:off x="2917080" y="2481120"/>
                <a:ext cx="3312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889720" y="2410920"/>
                <a:ext cx="41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889720" y="2551680"/>
                <a:ext cx="41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9" name=""/>
            <p:cNvSpPr/>
            <p:nvPr/>
          </p:nvSpPr>
          <p:spPr>
            <a:xfrm>
              <a:off x="109800" y="2035080"/>
              <a:ext cx="414000" cy="98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I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4905600">
              <a:off x="-1710000" y="1326240"/>
              <a:ext cx="2232360" cy="257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384" y="16"/>
                  </a:moveTo>
                  <a:arcTo wR="10800" hR="10800" stAng="-5214033" swAng="3236009"/>
                  <a:lnTo>
                    <a:pt x="10800" y="10800"/>
                  </a:lnTo>
                  <a:close/>
                </a:path>
                <a:path fill="none" w="21600" h="21600">
                  <a:moveTo>
                    <a:pt x="11384" y="16"/>
                  </a:moveTo>
                  <a:arcTo wR="10800" hR="10800" stAng="-5214033" swAng="3236009"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rot="2176200">
              <a:off x="-1618560" y="1177560"/>
              <a:ext cx="2263320" cy="253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104" y="134"/>
                  </a:moveTo>
                  <a:arcTo wR="10800" hR="10800" stAng="-5942132" swAng="3964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104" y="134"/>
                  </a:moveTo>
                  <a:arcTo wR="10800" hR="10800" stAng="-5942132" swAng="3964109"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21760" y="3761640"/>
              <a:ext cx="105012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IM Interf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443520" y="2845440"/>
              <a:ext cx="226080" cy="9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9560" rIns="7956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472480" y="3726000"/>
              <a:ext cx="105156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PLS Tunn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2898720" y="2951280"/>
              <a:ext cx="142920" cy="77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9560" rIns="7956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3208680" y="2551680"/>
              <a:ext cx="0" cy="117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9560" rIns="7956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468440" y="2660760"/>
              <a:ext cx="88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560" rIns="7956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474560" y="2851200"/>
              <a:ext cx="88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560" rIns="7956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469880" y="4278240"/>
              <a:ext cx="81756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QP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 flipV="1">
              <a:off x="1742040" y="2912760"/>
              <a:ext cx="98280" cy="132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9560" rIns="7956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480320" y="2750040"/>
              <a:ext cx="880200" cy="8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stealth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468440" y="2404800"/>
              <a:ext cx="875880" cy="343440"/>
            </a:xfrm>
            <a:custGeom>
              <a:avLst/>
              <a:gdLst/>
              <a:ahLst/>
              <a:rect l="l" t="t" r="r" b="b"/>
              <a:pathLst>
                <a:path w="588" h="234">
                  <a:moveTo>
                    <a:pt x="0" y="234"/>
                  </a:moveTo>
                  <a:cubicBezTo>
                    <a:pt x="92" y="117"/>
                    <a:pt x="184" y="0"/>
                    <a:pt x="282" y="0"/>
                  </a:cubicBezTo>
                  <a:cubicBezTo>
                    <a:pt x="380" y="0"/>
                    <a:pt x="484" y="117"/>
                    <a:pt x="588" y="234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prstDash val="dash"/>
              <a:round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79560" rIns="7956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227160" y="189000"/>
            <a:ext cx="8708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apping PIM States To/From MPLS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770040" y="625320"/>
            <a:ext cx="7618320" cy="81000"/>
            <a:chOff x="770040" y="625320"/>
            <a:chExt cx="7618320" cy="81000"/>
          </a:xfrm>
        </p:grpSpPr>
        <p:sp>
          <p:nvSpPr>
            <p:cNvPr id="375" name=""/>
            <p:cNvSpPr/>
            <p:nvPr/>
          </p:nvSpPr>
          <p:spPr>
            <a:xfrm flipV="1">
              <a:off x="770040" y="684000"/>
              <a:ext cx="7565760" cy="6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331120" y="625320"/>
              <a:ext cx="57240" cy="8100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388800" y="3479760"/>
            <a:ext cx="7623360" cy="3146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1680" y="3984480"/>
            <a:ext cx="2212920" cy="72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M  Up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538360" y="3868560"/>
            <a:ext cx="258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Mapping At Leaf mPMB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822920" y="4052880"/>
            <a:ext cx="2441520" cy="70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-Flow Spec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090960" y="4205160"/>
            <a:ext cx="1245960" cy="395280"/>
          </a:xfrm>
          <a:prstGeom prst="rightArrow">
            <a:avLst>
              <a:gd name="adj1" fmla="val 50000"/>
              <a:gd name="adj2" fmla="val 7880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63480" y="5578560"/>
            <a:ext cx="2051280" cy="690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M Per-Interfa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751280" y="5610240"/>
            <a:ext cx="2443320" cy="61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-Flow Spec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062160" y="5772240"/>
            <a:ext cx="1162080" cy="399960"/>
          </a:xfrm>
          <a:prstGeom prst="leftArrow">
            <a:avLst>
              <a:gd name="adj1" fmla="val 50000"/>
              <a:gd name="adj2" fmla="val 726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424240" y="5354640"/>
            <a:ext cx="258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Mapping At Root mPMB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732200" y="981000"/>
            <a:ext cx="3652920" cy="218448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rmAutofit/>
          </a:bodyPr>
          <a:p>
            <a:pPr marL="293760" indent="-29376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M-Flow Specs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nderstood, Consumed By Tunneling Protoc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ound To P2MP Tun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olicy-based Aggreg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Other optimizations within MP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4360" y="1031760"/>
            <a:ext cx="2903400" cy="196848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rmAutofit/>
          </a:bodyPr>
          <a:p>
            <a:pPr marL="293760" indent="-29376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PIM St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*, *, R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*, 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S, 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S, G, R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454560" y="1739880"/>
            <a:ext cx="1155600" cy="723960"/>
          </a:xfrm>
          <a:prstGeom prst="leftRightArrow">
            <a:avLst>
              <a:gd name="adj1" fmla="val 50000"/>
              <a:gd name="adj2" fmla="val 31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740560" y="4851360"/>
            <a:ext cx="380880" cy="647640"/>
          </a:xfrm>
          <a:prstGeom prst="downArrow">
            <a:avLst>
              <a:gd name="adj1" fmla="val 50000"/>
              <a:gd name="adj2" fmla="val 425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031080" y="4846680"/>
            <a:ext cx="2157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pagated and Us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 MP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544680" y="189000"/>
            <a:ext cx="816264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MPLS-PIM Interworking At Lea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335480" y="1022400"/>
            <a:ext cx="4633920" cy="56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rmAutofit/>
          </a:bodyPr>
          <a:p>
            <a:pPr marL="293760" indent="-293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Suppose There Is A Prospective PIM Upstream State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MPLS Initiates A Tunnel Signaling with M-Flow Spec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444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Skip if it exists for 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Create QPI For The Tu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444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Skip if it exi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444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Bind S to QPI (thus the tunn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9560" indent="-195480">
              <a:lnSpc>
                <a:spcPct val="100000"/>
              </a:lnSpc>
              <a:spcBef>
                <a:spcPts val="425"/>
              </a:spcBef>
              <a:buClr>
                <a:srgbClr val="333399"/>
              </a:buClr>
              <a:buFont typeface="Arial"/>
              <a:buChar char="•"/>
              <a:tabLst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Arial"/>
              </a:rPr>
              <a:t>Merge M-Flow Spe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Create PIM Upstream sta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444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QPI as RFP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770040" y="882720"/>
            <a:ext cx="7618320" cy="81000"/>
            <a:chOff x="770040" y="882720"/>
            <a:chExt cx="7618320" cy="81000"/>
          </a:xfrm>
        </p:grpSpPr>
        <p:sp>
          <p:nvSpPr>
            <p:cNvPr id="394" name=""/>
            <p:cNvSpPr/>
            <p:nvPr/>
          </p:nvSpPr>
          <p:spPr>
            <a:xfrm flipV="1">
              <a:off x="770040" y="941400"/>
              <a:ext cx="7565760" cy="6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331120" y="882720"/>
              <a:ext cx="57240" cy="8100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939960" y="2502000"/>
            <a:ext cx="2349360" cy="275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133720" y="5257800"/>
            <a:ext cx="0" cy="48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952560" y="43434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9560" rIns="7956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09480" y="4546440"/>
            <a:ext cx="120672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977760" y="30988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9560" rIns="7956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46320" y="1816200"/>
            <a:ext cx="12600" cy="67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23960" y="2610000"/>
            <a:ext cx="10922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P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49160" y="3632040"/>
            <a:ext cx="10540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MI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044800" y="5791320"/>
            <a:ext cx="190440" cy="609480"/>
          </a:xfrm>
          <a:prstGeom prst="upArrow">
            <a:avLst>
              <a:gd name="adj1" fmla="val 50000"/>
              <a:gd name="adj2" fmla="val 80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1933920" y="3098880"/>
            <a:ext cx="402840" cy="1193400"/>
            <a:chOff x="1933920" y="3098880"/>
            <a:chExt cx="402840" cy="1193400"/>
          </a:xfrm>
        </p:grpSpPr>
        <p:grpSp>
          <p:nvGrpSpPr>
            <p:cNvPr id="406" name=""/>
            <p:cNvGrpSpPr/>
            <p:nvPr/>
          </p:nvGrpSpPr>
          <p:grpSpPr>
            <a:xfrm>
              <a:off x="2019240" y="3098880"/>
              <a:ext cx="228240" cy="1193400"/>
              <a:chOff x="2019240" y="3098880"/>
              <a:chExt cx="228240" cy="1193400"/>
            </a:xfrm>
          </p:grpSpPr>
          <p:sp>
            <p:nvSpPr>
              <p:cNvPr id="407" name=""/>
              <p:cNvSpPr/>
              <p:nvPr/>
            </p:nvSpPr>
            <p:spPr>
              <a:xfrm>
                <a:off x="2019240" y="3114360"/>
                <a:ext cx="0" cy="117792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560" rIns="7956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247480" y="3098880"/>
                <a:ext cx="0" cy="117792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560" rIns="7956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9" name=""/>
            <p:cNvSpPr/>
            <p:nvPr/>
          </p:nvSpPr>
          <p:spPr>
            <a:xfrm>
              <a:off x="1933920" y="3340080"/>
              <a:ext cx="402840" cy="7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560" rIns="79560" tIns="39960" bIns="39960" anchor="t" vert="eaVer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QP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0" name=""/>
          <p:cNvSpPr/>
          <p:nvPr/>
        </p:nvSpPr>
        <p:spPr>
          <a:xfrm>
            <a:off x="2184480" y="6019920"/>
            <a:ext cx="79992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/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06640" y="4356000"/>
            <a:ext cx="330120" cy="355680"/>
          </a:xfrm>
          <a:prstGeom prst="ellipse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486080" y="5410080"/>
            <a:ext cx="172692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960" bIns="3996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M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422360" y="1638360"/>
            <a:ext cx="172728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PLS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46120" y="1092240"/>
            <a:ext cx="3174840" cy="3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Leaf mPMBR Ac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977760" y="2705040"/>
            <a:ext cx="1295640" cy="1676520"/>
            <a:chOff x="977760" y="2705040"/>
            <a:chExt cx="1295640" cy="1676520"/>
          </a:xfrm>
        </p:grpSpPr>
        <p:sp>
          <p:nvSpPr>
            <p:cNvPr id="416" name=""/>
            <p:cNvSpPr/>
            <p:nvPr/>
          </p:nvSpPr>
          <p:spPr>
            <a:xfrm>
              <a:off x="1674720" y="2705040"/>
              <a:ext cx="306360" cy="1676520"/>
            </a:xfrm>
            <a:custGeom>
              <a:avLst/>
              <a:gdLst/>
              <a:ahLst/>
              <a:rect l="l" t="t" r="r" b="b"/>
              <a:pathLst>
                <a:path w="193" h="1056">
                  <a:moveTo>
                    <a:pt x="193" y="1056"/>
                  </a:moveTo>
                  <a:cubicBezTo>
                    <a:pt x="97" y="880"/>
                    <a:pt x="2" y="704"/>
                    <a:pt x="1" y="528"/>
                  </a:cubicBezTo>
                  <a:cubicBezTo>
                    <a:pt x="0" y="352"/>
                    <a:pt x="154" y="88"/>
                    <a:pt x="185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prstDash val="dash"/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79560" rIns="7956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977760" y="3048120"/>
              <a:ext cx="1295640" cy="6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560" rIns="79560" tIns="39960" bIns="3996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M-Flow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Spe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2031840" y="1905120"/>
            <a:ext cx="1854360" cy="570960"/>
            <a:chOff x="2031840" y="1905120"/>
            <a:chExt cx="1854360" cy="570960"/>
          </a:xfrm>
        </p:grpSpPr>
        <p:grpSp>
          <p:nvGrpSpPr>
            <p:cNvPr id="419" name=""/>
            <p:cNvGrpSpPr/>
            <p:nvPr/>
          </p:nvGrpSpPr>
          <p:grpSpPr>
            <a:xfrm>
              <a:off x="2031840" y="1905120"/>
              <a:ext cx="241200" cy="570960"/>
              <a:chOff x="2031840" y="1905120"/>
              <a:chExt cx="241200" cy="570960"/>
            </a:xfrm>
          </p:grpSpPr>
          <p:sp>
            <p:nvSpPr>
              <p:cNvPr id="420" name=""/>
              <p:cNvSpPr/>
              <p:nvPr/>
            </p:nvSpPr>
            <p:spPr>
              <a:xfrm>
                <a:off x="2031840" y="1912320"/>
                <a:ext cx="0" cy="56376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560" rIns="7956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73040" y="1905120"/>
                <a:ext cx="0" cy="56376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560" rIns="7956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2" name=""/>
            <p:cNvSpPr/>
            <p:nvPr/>
          </p:nvSpPr>
          <p:spPr>
            <a:xfrm>
              <a:off x="2158920" y="2095560"/>
              <a:ext cx="1727280" cy="29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560" rIns="79560" tIns="39960" bIns="3996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P2MP Tunn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544680" y="189000"/>
            <a:ext cx="816264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MPLS-PIM Interworking At Ro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335480" y="1022400"/>
            <a:ext cx="4633920" cy="56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rmAutofit/>
          </a:bodyPr>
          <a:p>
            <a:pPr marL="293760" indent="-293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M-Flow Spec(S) Reaches Ro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MPLS Completes Tunnel Signa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444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Skip if it exists for 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Create QPI For The Tu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444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Skip if it exi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444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Bind S to QPI (thus the tunn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9560" indent="-195480">
              <a:lnSpc>
                <a:spcPct val="100000"/>
              </a:lnSpc>
              <a:spcBef>
                <a:spcPts val="425"/>
              </a:spcBef>
              <a:buClr>
                <a:srgbClr val="333399"/>
              </a:buClr>
              <a:buFont typeface="Arial"/>
              <a:buChar char="•"/>
              <a:tabLst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Arial"/>
              </a:rPr>
              <a:t>Merge M-Flow Spec if necessar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Create PIM Per-Interface State With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444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QPI as RFP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770040" y="882720"/>
            <a:ext cx="7618320" cy="81000"/>
            <a:chOff x="770040" y="882720"/>
            <a:chExt cx="7618320" cy="81000"/>
          </a:xfrm>
        </p:grpSpPr>
        <p:sp>
          <p:nvSpPr>
            <p:cNvPr id="426" name=""/>
            <p:cNvSpPr/>
            <p:nvPr/>
          </p:nvSpPr>
          <p:spPr>
            <a:xfrm flipV="1">
              <a:off x="770040" y="941400"/>
              <a:ext cx="7565760" cy="6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331120" y="882720"/>
              <a:ext cx="57240" cy="8100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939960" y="2502000"/>
            <a:ext cx="2349360" cy="275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133720" y="525780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952560" y="43434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9560" rIns="7956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09480" y="4546440"/>
            <a:ext cx="120672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P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977760" y="30988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9560" rIns="7956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46320" y="1816200"/>
            <a:ext cx="12600" cy="67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23960" y="2610000"/>
            <a:ext cx="10922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49160" y="3632040"/>
            <a:ext cx="10540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MI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1933920" y="3098880"/>
            <a:ext cx="402840" cy="1193400"/>
            <a:chOff x="1933920" y="3098880"/>
            <a:chExt cx="402840" cy="1193400"/>
          </a:xfrm>
        </p:grpSpPr>
        <p:grpSp>
          <p:nvGrpSpPr>
            <p:cNvPr id="437" name=""/>
            <p:cNvGrpSpPr/>
            <p:nvPr/>
          </p:nvGrpSpPr>
          <p:grpSpPr>
            <a:xfrm>
              <a:off x="2019240" y="3098880"/>
              <a:ext cx="228240" cy="1193400"/>
              <a:chOff x="2019240" y="3098880"/>
              <a:chExt cx="228240" cy="1193400"/>
            </a:xfrm>
          </p:grpSpPr>
          <p:sp>
            <p:nvSpPr>
              <p:cNvPr id="438" name=""/>
              <p:cNvSpPr/>
              <p:nvPr/>
            </p:nvSpPr>
            <p:spPr>
              <a:xfrm>
                <a:off x="2019240" y="3114360"/>
                <a:ext cx="0" cy="117792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560" rIns="7956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247480" y="3098880"/>
                <a:ext cx="0" cy="117792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560" rIns="7956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0" name=""/>
            <p:cNvSpPr/>
            <p:nvPr/>
          </p:nvSpPr>
          <p:spPr>
            <a:xfrm>
              <a:off x="1933920" y="3340080"/>
              <a:ext cx="402840" cy="7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560" rIns="79560" tIns="39960" bIns="39960" anchor="t" vert="eaVer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QP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1" name=""/>
          <p:cNvSpPr/>
          <p:nvPr/>
        </p:nvSpPr>
        <p:spPr>
          <a:xfrm>
            <a:off x="1447920" y="6032520"/>
            <a:ext cx="172692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960" bIns="3996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PLS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74640" y="1828800"/>
            <a:ext cx="172728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M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46120" y="1092240"/>
            <a:ext cx="3174840" cy="3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Root mPMBR Ac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977760" y="2832120"/>
            <a:ext cx="1295640" cy="1562040"/>
            <a:chOff x="977760" y="2832120"/>
            <a:chExt cx="1295640" cy="1562040"/>
          </a:xfrm>
        </p:grpSpPr>
        <p:sp>
          <p:nvSpPr>
            <p:cNvPr id="445" name=""/>
            <p:cNvSpPr/>
            <p:nvPr/>
          </p:nvSpPr>
          <p:spPr>
            <a:xfrm>
              <a:off x="1674720" y="2832120"/>
              <a:ext cx="306360" cy="1562040"/>
            </a:xfrm>
            <a:custGeom>
              <a:avLst/>
              <a:gdLst/>
              <a:ahLst/>
              <a:rect l="l" t="t" r="r" b="b"/>
              <a:pathLst>
                <a:path w="193" h="1056">
                  <a:moveTo>
                    <a:pt x="193" y="1056"/>
                  </a:moveTo>
                  <a:cubicBezTo>
                    <a:pt x="97" y="880"/>
                    <a:pt x="2" y="704"/>
                    <a:pt x="1" y="528"/>
                  </a:cubicBezTo>
                  <a:cubicBezTo>
                    <a:pt x="0" y="352"/>
                    <a:pt x="154" y="88"/>
                    <a:pt x="185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prstDash val="dash"/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79560" rIns="7956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977760" y="3151440"/>
              <a:ext cx="1295640" cy="6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560" rIns="79560" tIns="39960" bIns="3996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Downstre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St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1955880" y="4470480"/>
            <a:ext cx="1904760" cy="304560"/>
            <a:chOff x="1955880" y="4470480"/>
            <a:chExt cx="1904760" cy="304560"/>
          </a:xfrm>
        </p:grpSpPr>
        <p:sp>
          <p:nvSpPr>
            <p:cNvPr id="448" name=""/>
            <p:cNvSpPr/>
            <p:nvPr/>
          </p:nvSpPr>
          <p:spPr>
            <a:xfrm>
              <a:off x="1955880" y="4470480"/>
              <a:ext cx="266760" cy="3045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960" bIns="3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133720" y="4470480"/>
              <a:ext cx="1726920" cy="29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560" rIns="79560" tIns="39960" bIns="3996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1" lang="zh-CN" sz="1400" spc="-1" strike="noStrike">
                  <a:solidFill>
                    <a:srgbClr val="ff0000"/>
                  </a:solidFill>
                  <a:latin typeface="Arial"/>
                </a:rPr>
                <a:t>M-Flow Spec(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1994040" y="2666880"/>
            <a:ext cx="30456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1549440" y="5257800"/>
            <a:ext cx="2310840" cy="570960"/>
            <a:chOff x="1549440" y="5257800"/>
            <a:chExt cx="2310840" cy="570960"/>
          </a:xfrm>
        </p:grpSpPr>
        <p:grpSp>
          <p:nvGrpSpPr>
            <p:cNvPr id="452" name=""/>
            <p:cNvGrpSpPr/>
            <p:nvPr/>
          </p:nvGrpSpPr>
          <p:grpSpPr>
            <a:xfrm>
              <a:off x="2006640" y="5257800"/>
              <a:ext cx="1853640" cy="570960"/>
              <a:chOff x="2006640" y="5257800"/>
              <a:chExt cx="1853640" cy="570960"/>
            </a:xfrm>
          </p:grpSpPr>
          <p:grpSp>
            <p:nvGrpSpPr>
              <p:cNvPr id="453" name=""/>
              <p:cNvGrpSpPr/>
              <p:nvPr/>
            </p:nvGrpSpPr>
            <p:grpSpPr>
              <a:xfrm>
                <a:off x="2006640" y="5257800"/>
                <a:ext cx="240840" cy="570960"/>
                <a:chOff x="2006640" y="5257800"/>
                <a:chExt cx="240840" cy="57096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2006640" y="5265000"/>
                  <a:ext cx="0" cy="5637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2247480" y="5257800"/>
                  <a:ext cx="0" cy="5637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6" name=""/>
              <p:cNvSpPr/>
              <p:nvPr/>
            </p:nvSpPr>
            <p:spPr>
              <a:xfrm>
                <a:off x="2133360" y="5448240"/>
                <a:ext cx="1726920" cy="29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560" rIns="79560" tIns="39960" bIns="3996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797040"/>
                    <a:tab algn="l" pos="1593720"/>
                    <a:tab algn="l" pos="2390760"/>
                    <a:tab algn="l" pos="3187800"/>
                    <a:tab algn="l" pos="3984480"/>
                    <a:tab algn="l" pos="4781520"/>
                    <a:tab algn="l" pos="5578560"/>
                    <a:tab algn="l" pos="6375240"/>
                    <a:tab algn="l" pos="7172280"/>
                    <a:tab algn="l" pos="7969320"/>
                    <a:tab algn="l" pos="8766000"/>
                    <a:tab algn="l" pos="9563040"/>
                    <a:tab algn="l" pos="1036008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Arial"/>
                  </a:rPr>
                  <a:t>P2MP Tunne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7" name=""/>
            <p:cNvSpPr/>
            <p:nvPr/>
          </p:nvSpPr>
          <p:spPr>
            <a:xfrm>
              <a:off x="1549440" y="5308560"/>
              <a:ext cx="304920" cy="469800"/>
            </a:xfrm>
            <a:prstGeom prst="upArrow">
              <a:avLst>
                <a:gd name="adj1" fmla="val 50000"/>
                <a:gd name="adj2" fmla="val 38518"/>
              </a:avLst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1014480" y="189000"/>
            <a:ext cx="7642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PIM Bootstrap Over Backb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65400" y="1555920"/>
            <a:ext cx="6221520" cy="43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rmAutofit/>
          </a:bodyPr>
          <a:p>
            <a:pPr marL="293760" indent="-29376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</a:rPr>
              <a:t>Bootstrap MP2MP Tr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4444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600" spc="-1" strike="noStrike">
                <a:solidFill>
                  <a:srgbClr val="000066"/>
                </a:solidFill>
                <a:latin typeface="Arial"/>
              </a:rPr>
              <a:t>At Startup, each mPMBR do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9560" indent="-195480">
              <a:lnSpc>
                <a:spcPct val="100000"/>
              </a:lnSpc>
              <a:spcBef>
                <a:spcPts val="425"/>
              </a:spcBef>
              <a:buClr>
                <a:srgbClr val="000066"/>
              </a:buClr>
              <a:buFont typeface="Arial"/>
              <a:buChar char="•"/>
              <a:tabLst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700" spc="-1" strike="noStrike">
                <a:solidFill>
                  <a:srgbClr val="000066"/>
                </a:solidFill>
                <a:latin typeface="Arial"/>
              </a:rPr>
              <a:t>Designate A Root BSTRAP_ROO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979560" indent="-195480">
              <a:lnSpc>
                <a:spcPct val="100000"/>
              </a:lnSpc>
              <a:spcBef>
                <a:spcPts val="425"/>
              </a:spcBef>
              <a:buClr>
                <a:srgbClr val="000066"/>
              </a:buClr>
              <a:buFont typeface="Arial"/>
              <a:buChar char="•"/>
              <a:tabLst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700" spc="-1" strike="noStrike">
                <a:solidFill>
                  <a:srgbClr val="000066"/>
                </a:solidFill>
                <a:latin typeface="Arial"/>
              </a:rPr>
              <a:t>Each mPMB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196920">
              <a:lnSpc>
                <a:spcPct val="100000"/>
              </a:lnSpc>
              <a:spcBef>
                <a:spcPts val="349"/>
              </a:spcBef>
              <a:buClr>
                <a:srgbClr val="000066"/>
              </a:buClr>
              <a:buFont typeface="Arial"/>
              <a:buChar char="–"/>
              <a:tabLst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400" spc="-1" strike="noStrike">
                <a:solidFill>
                  <a:srgbClr val="000066"/>
                </a:solidFill>
                <a:latin typeface="Arial"/>
              </a:rPr>
              <a:t>Join (BSTRAP_ROOT, ALL_PIM_ROUTER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</a:rPr>
              <a:t>PIM on mPMBR sends and receives Bootstra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4444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</a:rPr>
              <a:t>To/From the chann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4444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</a:rPr>
              <a:t>To/From PIM neighb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770040" y="625320"/>
            <a:ext cx="7618320" cy="81000"/>
            <a:chOff x="770040" y="625320"/>
            <a:chExt cx="7618320" cy="81000"/>
          </a:xfrm>
        </p:grpSpPr>
        <p:sp>
          <p:nvSpPr>
            <p:cNvPr id="461" name=""/>
            <p:cNvSpPr/>
            <p:nvPr/>
          </p:nvSpPr>
          <p:spPr>
            <a:xfrm flipV="1">
              <a:off x="770040" y="684000"/>
              <a:ext cx="7565760" cy="6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331120" y="625320"/>
              <a:ext cx="57240" cy="8100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762120" y="2133720"/>
            <a:ext cx="1971720" cy="1731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Box 220"/>
          <p:cNvSpPr/>
          <p:nvPr/>
        </p:nvSpPr>
        <p:spPr>
          <a:xfrm>
            <a:off x="447840" y="2085840"/>
            <a:ext cx="113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Picture 28" descr="05"/>
          <p:cNvPicPr/>
          <p:nvPr/>
        </p:nvPicPr>
        <p:blipFill>
          <a:blip r:embed="rId1"/>
          <a:stretch/>
        </p:blipFill>
        <p:spPr>
          <a:xfrm>
            <a:off x="914400" y="2508120"/>
            <a:ext cx="325440" cy="2336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28" descr="05"/>
          <p:cNvPicPr/>
          <p:nvPr/>
        </p:nvPicPr>
        <p:blipFill>
          <a:blip r:embed="rId2"/>
          <a:stretch/>
        </p:blipFill>
        <p:spPr>
          <a:xfrm>
            <a:off x="1569960" y="2262240"/>
            <a:ext cx="325440" cy="23184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28" descr="05"/>
          <p:cNvPicPr/>
          <p:nvPr/>
        </p:nvPicPr>
        <p:blipFill>
          <a:blip r:embed="rId3"/>
          <a:stretch/>
        </p:blipFill>
        <p:spPr>
          <a:xfrm>
            <a:off x="2243160" y="2773440"/>
            <a:ext cx="325440" cy="23328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28" descr="05"/>
          <p:cNvPicPr/>
          <p:nvPr/>
        </p:nvPicPr>
        <p:blipFill>
          <a:blip r:embed="rId4"/>
          <a:stretch/>
        </p:blipFill>
        <p:spPr>
          <a:xfrm>
            <a:off x="1484280" y="2965320"/>
            <a:ext cx="325440" cy="233640"/>
          </a:xfrm>
          <a:prstGeom prst="rect">
            <a:avLst/>
          </a:prstGeom>
          <a:ln w="0">
            <a:noFill/>
          </a:ln>
        </p:spPr>
      </p:pic>
      <p:cxnSp>
        <p:nvCxnSpPr>
          <p:cNvPr id="469" name="AutoShape 100"/>
          <p:cNvCxnSpPr>
            <a:stCxn id="465" idx="3"/>
            <a:endCxn id="466" idx="1"/>
          </p:cNvCxnSpPr>
          <p:nvPr/>
        </p:nvCxnSpPr>
        <p:spPr>
          <a:xfrm flipV="1">
            <a:off x="1239480" y="2377800"/>
            <a:ext cx="330840" cy="248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0" name="AutoShape 101"/>
          <p:cNvCxnSpPr>
            <a:stCxn id="468" idx="1"/>
            <a:endCxn id="465" idx="2"/>
          </p:cNvCxnSpPr>
          <p:nvPr/>
        </p:nvCxnSpPr>
        <p:spPr>
          <a:xfrm flipH="1" flipV="1">
            <a:off x="1077120" y="2741400"/>
            <a:ext cx="407160" cy="342000"/>
          </a:xfrm>
          <a:prstGeom prst="straightConnector1">
            <a:avLst/>
          </a:prstGeom>
          <a:ln w="25560">
            <a:solidFill>
              <a:srgbClr val="800000"/>
            </a:solidFill>
            <a:miter/>
          </a:ln>
        </p:spPr>
      </p:cxnSp>
      <p:cxnSp>
        <p:nvCxnSpPr>
          <p:cNvPr id="471" name="AutoShape 104"/>
          <p:cNvCxnSpPr>
            <a:endCxn id="468" idx="2"/>
          </p:cNvCxnSpPr>
          <p:nvPr/>
        </p:nvCxnSpPr>
        <p:spPr>
          <a:xfrm flipH="1" flipV="1">
            <a:off x="1647000" y="3198600"/>
            <a:ext cx="205560" cy="303840"/>
          </a:xfrm>
          <a:prstGeom prst="straightConnector1">
            <a:avLst/>
          </a:prstGeom>
          <a:ln w="25560">
            <a:solidFill>
              <a:srgbClr val="800000"/>
            </a:solidFill>
            <a:miter/>
          </a:ln>
        </p:spPr>
      </p:cxnSp>
      <p:cxnSp>
        <p:nvCxnSpPr>
          <p:cNvPr id="472" name="AutoShape 105"/>
          <p:cNvCxnSpPr>
            <a:stCxn id="468" idx="3"/>
            <a:endCxn id="467" idx="1"/>
          </p:cNvCxnSpPr>
          <p:nvPr/>
        </p:nvCxnSpPr>
        <p:spPr>
          <a:xfrm flipV="1">
            <a:off x="1809720" y="2890440"/>
            <a:ext cx="434160" cy="192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3" name="AutoShape 106"/>
          <p:cNvCxnSpPr>
            <a:stCxn id="466" idx="3"/>
            <a:endCxn id="467" idx="0"/>
          </p:cNvCxnSpPr>
          <p:nvPr/>
        </p:nvCxnSpPr>
        <p:spPr>
          <a:xfrm>
            <a:off x="1895400" y="2378160"/>
            <a:ext cx="511920" cy="396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4" name="AutoShape 107"/>
          <p:cNvCxnSpPr>
            <a:endCxn id="467" idx="2"/>
          </p:cNvCxnSpPr>
          <p:nvPr/>
        </p:nvCxnSpPr>
        <p:spPr>
          <a:xfrm flipV="1">
            <a:off x="1852200" y="3006360"/>
            <a:ext cx="554760" cy="49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5" name="AutoShape 108"/>
          <p:cNvCxnSpPr>
            <a:stCxn id="466" idx="2"/>
            <a:endCxn id="468" idx="0"/>
          </p:cNvCxnSpPr>
          <p:nvPr/>
        </p:nvCxnSpPr>
        <p:spPr>
          <a:xfrm flipH="1">
            <a:off x="1647360" y="2493720"/>
            <a:ext cx="86400" cy="471960"/>
          </a:xfrm>
          <a:prstGeom prst="straightConnector1">
            <a:avLst/>
          </a:prstGeom>
          <a:ln w="25560">
            <a:solidFill>
              <a:srgbClr val="800000"/>
            </a:solidFill>
            <a:miter/>
          </a:ln>
        </p:spPr>
      </p:cxnSp>
      <p:pic>
        <p:nvPicPr>
          <p:cNvPr id="476" name="Picture 28" descr="05"/>
          <p:cNvPicPr/>
          <p:nvPr/>
        </p:nvPicPr>
        <p:blipFill>
          <a:blip r:embed="rId5"/>
          <a:stretch/>
        </p:blipFill>
        <p:spPr>
          <a:xfrm>
            <a:off x="1743120" y="3514680"/>
            <a:ext cx="323640" cy="233280"/>
          </a:xfrm>
          <a:prstGeom prst="rect">
            <a:avLst/>
          </a:prstGeom>
          <a:ln w="0">
            <a:noFill/>
          </a:ln>
        </p:spPr>
      </p:pic>
      <p:cxnSp>
        <p:nvCxnSpPr>
          <p:cNvPr id="477" name="AutoShape 100"/>
          <p:cNvCxnSpPr>
            <a:stCxn id="465" idx="0"/>
            <a:endCxn id="478" idx="0"/>
          </p:cNvCxnSpPr>
          <p:nvPr/>
        </p:nvCxnSpPr>
        <p:spPr>
          <a:xfrm flipH="1" flipV="1">
            <a:off x="641160" y="1839600"/>
            <a:ext cx="437040" cy="668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9" name="TextBox 220"/>
          <p:cNvSpPr/>
          <p:nvPr/>
        </p:nvSpPr>
        <p:spPr>
          <a:xfrm>
            <a:off x="734040" y="140976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SR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522360" y="1638360"/>
            <a:ext cx="236520" cy="201600"/>
            <a:chOff x="522360" y="1638360"/>
            <a:chExt cx="236520" cy="201600"/>
          </a:xfrm>
        </p:grpSpPr>
        <p:sp>
          <p:nvSpPr>
            <p:cNvPr id="478" name=""/>
            <p:cNvSpPr/>
            <p:nvPr/>
          </p:nvSpPr>
          <p:spPr>
            <a:xfrm>
              <a:off x="522360" y="1694880"/>
              <a:ext cx="236520" cy="14508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22360" y="1694880"/>
              <a:ext cx="236520" cy="72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22360" y="1638360"/>
              <a:ext cx="235800" cy="10980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42240" y="1654920"/>
              <a:ext cx="77760" cy="338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42240" y="1654920"/>
              <a:ext cx="77760" cy="338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58000" y="1694880"/>
              <a:ext cx="77760" cy="367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58000" y="1694880"/>
              <a:ext cx="77760" cy="367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62320" y="1652040"/>
              <a:ext cx="77040" cy="345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62320" y="1652040"/>
              <a:ext cx="77040" cy="345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39720" y="1698480"/>
              <a:ext cx="77040" cy="349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39720" y="1698480"/>
              <a:ext cx="77040" cy="349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44760" y="1656720"/>
              <a:ext cx="76320" cy="345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44760" y="1656720"/>
              <a:ext cx="76320" cy="345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60160" y="1696680"/>
              <a:ext cx="77040" cy="370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60160" y="1696680"/>
              <a:ext cx="77040" cy="370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63760" y="1654920"/>
              <a:ext cx="77040" cy="338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63760" y="1654920"/>
              <a:ext cx="77040" cy="338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1160" y="1700640"/>
              <a:ext cx="77040" cy="349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41160" y="1700640"/>
              <a:ext cx="77040" cy="349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1440000" y="4464000"/>
            <a:ext cx="236520" cy="201600"/>
            <a:chOff x="1440000" y="4464000"/>
            <a:chExt cx="236520" cy="201600"/>
          </a:xfrm>
        </p:grpSpPr>
        <p:sp>
          <p:nvSpPr>
            <p:cNvPr id="500" name=""/>
            <p:cNvSpPr/>
            <p:nvPr/>
          </p:nvSpPr>
          <p:spPr>
            <a:xfrm>
              <a:off x="1440000" y="4520520"/>
              <a:ext cx="236520" cy="14508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440000" y="4520520"/>
              <a:ext cx="236520" cy="72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440000" y="4464000"/>
              <a:ext cx="235800" cy="10980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559880" y="4480560"/>
              <a:ext cx="77760" cy="338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559880" y="4480560"/>
              <a:ext cx="77760" cy="338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475640" y="4520520"/>
              <a:ext cx="77760" cy="367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475640" y="4520520"/>
              <a:ext cx="77760" cy="367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479960" y="4477680"/>
              <a:ext cx="77040" cy="345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479960" y="4477680"/>
              <a:ext cx="77040" cy="345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557360" y="4524120"/>
              <a:ext cx="77040" cy="349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557360" y="4524120"/>
              <a:ext cx="77040" cy="349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562400" y="4482360"/>
              <a:ext cx="76320" cy="345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562400" y="4482360"/>
              <a:ext cx="76320" cy="345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477800" y="4522320"/>
              <a:ext cx="77040" cy="370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477800" y="4522320"/>
              <a:ext cx="77040" cy="370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481400" y="4480560"/>
              <a:ext cx="77040" cy="338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481400" y="4480560"/>
              <a:ext cx="77040" cy="338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558800" y="4526280"/>
              <a:ext cx="77040" cy="349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558800" y="4526280"/>
              <a:ext cx="77040" cy="349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1805040" y="1587600"/>
            <a:ext cx="236520" cy="201600"/>
            <a:chOff x="1805040" y="1587600"/>
            <a:chExt cx="236520" cy="201600"/>
          </a:xfrm>
        </p:grpSpPr>
        <p:sp>
          <p:nvSpPr>
            <p:cNvPr id="520" name=""/>
            <p:cNvSpPr/>
            <p:nvPr/>
          </p:nvSpPr>
          <p:spPr>
            <a:xfrm>
              <a:off x="1805040" y="1644120"/>
              <a:ext cx="236520" cy="14508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c3a229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805040" y="1644120"/>
              <a:ext cx="236520" cy="720"/>
            </a:xfrm>
            <a:custGeom>
              <a:avLst/>
              <a:gdLst/>
              <a:ahLst/>
              <a:rect l="l" t="t" r="r" b="b"/>
              <a:pathLst>
                <a:path w="331" h="1">
                  <a:moveTo>
                    <a:pt x="331" y="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30" y="1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61b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805040" y="1587600"/>
              <a:ext cx="235800" cy="10980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e1c973"/>
            </a:solidFill>
            <a:ln w="9360">
              <a:solidFill>
                <a:srgbClr val="dd8d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924920" y="1604160"/>
              <a:ext cx="77760" cy="338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924920" y="1604160"/>
              <a:ext cx="77760" cy="338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40680" y="1644120"/>
              <a:ext cx="77760" cy="367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40680" y="1644120"/>
              <a:ext cx="77760" cy="367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845000" y="1601280"/>
              <a:ext cx="77040" cy="345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845000" y="1601280"/>
              <a:ext cx="77040" cy="345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922400" y="1647720"/>
              <a:ext cx="77040" cy="349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922400" y="1647720"/>
              <a:ext cx="77040" cy="349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927440" y="1605960"/>
              <a:ext cx="76320" cy="345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927440" y="1605960"/>
              <a:ext cx="76320" cy="345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842840" y="1645920"/>
              <a:ext cx="77040" cy="370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42840" y="1645920"/>
              <a:ext cx="77040" cy="3708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846440" y="1604160"/>
              <a:ext cx="77040" cy="338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846440" y="1604160"/>
              <a:ext cx="77040" cy="338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923840" y="1649880"/>
              <a:ext cx="77040" cy="349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923840" y="1649880"/>
              <a:ext cx="77040" cy="349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9" name="TextBox 220"/>
          <p:cNvSpPr/>
          <p:nvPr/>
        </p:nvSpPr>
        <p:spPr>
          <a:xfrm>
            <a:off x="1670400" y="1257480"/>
            <a:ext cx="77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-RP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Box 220"/>
          <p:cNvSpPr/>
          <p:nvPr/>
        </p:nvSpPr>
        <p:spPr>
          <a:xfrm>
            <a:off x="686160" y="4346640"/>
            <a:ext cx="77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-RP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1" name="AutoShape 100"/>
          <p:cNvCxnSpPr>
            <a:stCxn id="466" idx="0"/>
            <a:endCxn id="520" idx="0"/>
          </p:cNvCxnSpPr>
          <p:nvPr/>
        </p:nvCxnSpPr>
        <p:spPr>
          <a:xfrm flipV="1">
            <a:off x="1733400" y="1788840"/>
            <a:ext cx="191520" cy="473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2" name="AutoShape 100"/>
          <p:cNvCxnSpPr/>
          <p:nvPr/>
        </p:nvCxnSpPr>
        <p:spPr>
          <a:xfrm flipV="1">
            <a:off x="1549080" y="3728160"/>
            <a:ext cx="346680" cy="716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3" name=""/>
          <p:cNvSpPr/>
          <p:nvPr/>
        </p:nvSpPr>
        <p:spPr>
          <a:xfrm>
            <a:off x="584280" y="1968480"/>
            <a:ext cx="177840" cy="3175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Box 220"/>
          <p:cNvSpPr/>
          <p:nvPr/>
        </p:nvSpPr>
        <p:spPr>
          <a:xfrm>
            <a:off x="6480" y="2997360"/>
            <a:ext cx="90000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SR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Box 220"/>
          <p:cNvSpPr/>
          <p:nvPr/>
        </p:nvSpPr>
        <p:spPr>
          <a:xfrm>
            <a:off x="1048320" y="473724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SR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Box 220"/>
          <p:cNvSpPr/>
          <p:nvPr/>
        </p:nvSpPr>
        <p:spPr>
          <a:xfrm>
            <a:off x="1870200" y="4003560"/>
            <a:ext cx="90000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SR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165240" y="2222640"/>
            <a:ext cx="444240" cy="79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104840" y="2870280"/>
            <a:ext cx="304920" cy="27936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1600200" y="2514240"/>
            <a:ext cx="76320" cy="43164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1676520" y="1854360"/>
            <a:ext cx="139680" cy="3175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H="1" flipV="1">
            <a:off x="1726920" y="3149280"/>
            <a:ext cx="190440" cy="29196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1727280" y="2577600"/>
            <a:ext cx="88920" cy="38124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1816200" y="1790280"/>
            <a:ext cx="152280" cy="38124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 flipV="1">
            <a:off x="1219320" y="2768760"/>
            <a:ext cx="304560" cy="27936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 flipV="1">
            <a:off x="736560" y="1854000"/>
            <a:ext cx="279360" cy="43164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1647720" y="3774600"/>
            <a:ext cx="285840" cy="65412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568520" y="3238560"/>
            <a:ext cx="190440" cy="26964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1517400" y="3740040"/>
            <a:ext cx="266760" cy="6318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6T09:41:22Z</dcterms:created>
  <dc:creator>ggb1</dc:creator>
  <dc:description/>
  <dc:language>en-US</dc:language>
  <cp:lastModifiedBy>r90954</cp:lastModifiedBy>
  <cp:lastPrinted>2002-09-26T02:29:13Z</cp:lastPrinted>
  <dcterms:modified xsi:type="dcterms:W3CDTF">2012-08-02T18:10:27Z</dcterms:modified>
  <cp:revision>1940</cp:revision>
  <dc:subject/>
  <dc:title>没有幻灯片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343918904</vt:lpwstr>
  </property>
</Properties>
</file>