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69000" y="6673680"/>
            <a:ext cx="67752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fld id="{8E4AAA41-A836-4321-99B2-8E93591EC50D}" type="slidenum">
              <a:rPr b="1" i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81000"/>
            <a:ext cx="81010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322040" y="6622920"/>
            <a:ext cx="191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7320" y="6610320"/>
            <a:ext cx="1212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24D6-FA1A-4804-9E64-047E60B59D50}" type="datetime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07/31/26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fld id="{4ACF9206-8BE5-4276-83C5-AD8826DD01D3}" type="datetime10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07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0880" y="6435720"/>
            <a:ext cx="275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28681769-9E42-40A1-89DB-50554687974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51960" y="384120"/>
            <a:ext cx="7923240" cy="4651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6435720"/>
            <a:ext cx="155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391760"/>
            <a:ext cx="5305320" cy="16671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90" name=""/>
          <p:cNvSpPr/>
          <p:nvPr/>
        </p:nvSpPr>
        <p:spPr>
          <a:xfrm>
            <a:off x="7144920" y="4070520"/>
            <a:ext cx="163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30280" y="247680"/>
            <a:ext cx="1795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  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机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9440" y="6202440"/>
            <a:ext cx="264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7960" y="6202440"/>
            <a:ext cx="165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Arial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844640" y="89856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99440" y="4726080"/>
            <a:ext cx="925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新建目录页请在选定目录页的前提下新建；内页同理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8312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612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65240" y="3922560"/>
            <a:ext cx="465768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obert T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27040" y="1446120"/>
            <a:ext cx="5921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Introduction to MPLS-PIM Inter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draft-tao-mpls-pim-interworking-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Current Stat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69840" y="1530360"/>
            <a:ext cx="6811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0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itiated Conversations with PIM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Acceptanc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Next 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023920" y="2927520"/>
            <a:ext cx="57578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(In-Band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51080" y="560520"/>
            <a:ext cx="55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05000" y="2927520"/>
            <a:ext cx="57866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3840" y="1297080"/>
            <a:ext cx="844560" cy="1460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blem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2241720"/>
            <a:ext cx="5869080" cy="423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 u="sng">
                <a:solidFill>
                  <a:srgbClr val="333399"/>
                </a:solidFill>
                <a:uFillTx/>
                <a:latin typeface="Arial"/>
              </a:rPr>
              <a:t>Application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IP Multicast Sites Around MPLS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Running In Each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Meets MPLS at MPLS-PIM Multicast Border Router (mPM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PIM Control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Multicast Data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Major Challe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calability and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Optimal Routing in MPLS 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PIM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222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020600" y="2235240"/>
            <a:ext cx="1925640" cy="185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8" descr="05"/>
          <p:cNvPicPr/>
          <p:nvPr/>
        </p:nvPicPr>
        <p:blipFill>
          <a:blip r:embed="rId1"/>
          <a:stretch/>
        </p:blipFill>
        <p:spPr>
          <a:xfrm>
            <a:off x="2360520" y="2922480"/>
            <a:ext cx="293760" cy="19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05"/>
          <p:cNvPicPr/>
          <p:nvPr/>
        </p:nvPicPr>
        <p:blipFill>
          <a:blip r:embed="rId2"/>
          <a:stretch/>
        </p:blipFill>
        <p:spPr>
          <a:xfrm>
            <a:off x="1673280" y="3083040"/>
            <a:ext cx="295200" cy="193680"/>
          </a:xfrm>
          <a:prstGeom prst="rect">
            <a:avLst/>
          </a:prstGeom>
          <a:ln w="0">
            <a:noFill/>
          </a:ln>
        </p:spPr>
      </p:pic>
      <p:cxnSp>
        <p:nvCxnSpPr>
          <p:cNvPr id="227" name="AutoShape 100"/>
          <p:cNvCxnSpPr>
            <a:stCxn id="228" idx="0"/>
            <a:endCxn id="229" idx="0"/>
          </p:cNvCxnSpPr>
          <p:nvPr/>
        </p:nvCxnSpPr>
        <p:spPr>
          <a:xfrm flipV="1">
            <a:off x="1360440" y="2312280"/>
            <a:ext cx="6674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01"/>
          <p:cNvCxnSpPr>
            <a:stCxn id="226" idx="1"/>
          </p:cNvCxnSpPr>
          <p:nvPr/>
        </p:nvCxnSpPr>
        <p:spPr>
          <a:xfrm flipH="1" flipV="1">
            <a:off x="1305720" y="2895120"/>
            <a:ext cx="367560" cy="28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1" name="AutoShape 104"/>
          <p:cNvCxnSpPr>
            <a:stCxn id="232" idx="0"/>
            <a:endCxn id="226" idx="2"/>
          </p:cNvCxnSpPr>
          <p:nvPr/>
        </p:nvCxnSpPr>
        <p:spPr>
          <a:xfrm flipH="1" flipV="1">
            <a:off x="1820520" y="3276000"/>
            <a:ext cx="254880" cy="594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3" name="AutoShape 105"/>
          <p:cNvCxnSpPr>
            <a:stCxn id="226" idx="3"/>
            <a:endCxn id="225" idx="1"/>
          </p:cNvCxnSpPr>
          <p:nvPr/>
        </p:nvCxnSpPr>
        <p:spPr>
          <a:xfrm flipV="1">
            <a:off x="1968120" y="3018960"/>
            <a:ext cx="39276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AutoShape 106"/>
          <p:cNvCxnSpPr>
            <a:stCxn id="229" idx="1"/>
            <a:endCxn id="225" idx="0"/>
          </p:cNvCxnSpPr>
          <p:nvPr/>
        </p:nvCxnSpPr>
        <p:spPr>
          <a:xfrm>
            <a:off x="2313000" y="2324160"/>
            <a:ext cx="19584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AutoShape 107"/>
          <p:cNvCxnSpPr>
            <a:stCxn id="236" idx="0"/>
            <a:endCxn id="225" idx="2"/>
          </p:cNvCxnSpPr>
          <p:nvPr/>
        </p:nvCxnSpPr>
        <p:spPr>
          <a:xfrm flipV="1">
            <a:off x="2048040" y="3115800"/>
            <a:ext cx="46080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AutoShape 108"/>
          <p:cNvCxnSpPr>
            <a:stCxn id="229" idx="2"/>
            <a:endCxn id="226" idx="0"/>
          </p:cNvCxnSpPr>
          <p:nvPr/>
        </p:nvCxnSpPr>
        <p:spPr>
          <a:xfrm flipH="1">
            <a:off x="1820520" y="2411280"/>
            <a:ext cx="35136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8" name="AutoShape 103"/>
          <p:cNvCxnSpPr>
            <a:stCxn id="239" idx="0"/>
            <a:endCxn id="240" idx="3"/>
          </p:cNvCxnSpPr>
          <p:nvPr/>
        </p:nvCxnSpPr>
        <p:spPr>
          <a:xfrm flipH="1" flipV="1">
            <a:off x="656640" y="2507400"/>
            <a:ext cx="41796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AutoShape 103"/>
          <p:cNvCxnSpPr>
            <a:stCxn id="239" idx="1"/>
            <a:endCxn id="242" idx="2"/>
          </p:cNvCxnSpPr>
          <p:nvPr/>
        </p:nvCxnSpPr>
        <p:spPr>
          <a:xfrm flipH="1" flipV="1">
            <a:off x="755280" y="1852200"/>
            <a:ext cx="31968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43" name="Picture 28" descr="05"/>
          <p:cNvPicPr/>
          <p:nvPr/>
        </p:nvPicPr>
        <p:blipFill>
          <a:blip r:embed="rId3"/>
          <a:stretch/>
        </p:blipFill>
        <p:spPr>
          <a:xfrm>
            <a:off x="1946160" y="4400640"/>
            <a:ext cx="292320" cy="195120"/>
          </a:xfrm>
          <a:prstGeom prst="rect">
            <a:avLst/>
          </a:prstGeom>
          <a:ln w="0">
            <a:noFill/>
          </a:ln>
        </p:spPr>
      </p:pic>
      <p:cxnSp>
        <p:nvCxnSpPr>
          <p:cNvPr id="244" name="AutoShape 103"/>
          <p:cNvCxnSpPr>
            <a:stCxn id="243" idx="0"/>
            <a:endCxn id="245" idx="0"/>
          </p:cNvCxnSpPr>
          <p:nvPr/>
        </p:nvCxnSpPr>
        <p:spPr>
          <a:xfrm flipH="1" flipV="1">
            <a:off x="2069640" y="4125240"/>
            <a:ext cx="2304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46" name="Picture 28" descr="05"/>
          <p:cNvPicPr/>
          <p:nvPr/>
        </p:nvPicPr>
        <p:blipFill>
          <a:blip r:embed="rId4"/>
          <a:stretch/>
        </p:blipFill>
        <p:spPr>
          <a:xfrm>
            <a:off x="365040" y="2411280"/>
            <a:ext cx="292320" cy="19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8" descr="05"/>
          <p:cNvPicPr/>
          <p:nvPr/>
        </p:nvPicPr>
        <p:blipFill>
          <a:blip r:embed="rId5"/>
          <a:stretch/>
        </p:blipFill>
        <p:spPr>
          <a:xfrm>
            <a:off x="609480" y="1657440"/>
            <a:ext cx="292320" cy="19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589040" y="4305240"/>
            <a:ext cx="1236600" cy="9111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20"/>
          <p:cNvSpPr/>
          <p:nvPr/>
        </p:nvSpPr>
        <p:spPr>
          <a:xfrm>
            <a:off x="996120" y="219564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20"/>
          <p:cNvSpPr/>
          <p:nvPr/>
        </p:nvSpPr>
        <p:spPr>
          <a:xfrm>
            <a:off x="2097720" y="20494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20"/>
          <p:cNvSpPr/>
          <p:nvPr/>
        </p:nvSpPr>
        <p:spPr>
          <a:xfrm>
            <a:off x="2113560" y="389556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74600" y="2603520"/>
            <a:ext cx="287640" cy="328680"/>
            <a:chOff x="1074600" y="2603520"/>
            <a:chExt cx="287640" cy="328680"/>
          </a:xfrm>
        </p:grpSpPr>
        <p:sp>
          <p:nvSpPr>
            <p:cNvPr id="228" name=""/>
            <p:cNvSpPr/>
            <p:nvPr/>
          </p:nvSpPr>
          <p:spPr>
            <a:xfrm>
              <a:off x="1074600" y="2695680"/>
              <a:ext cx="287640" cy="2365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74600" y="2695680"/>
              <a:ext cx="28764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74600" y="2603520"/>
              <a:ext cx="286920" cy="1792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925640" y="3797280"/>
            <a:ext cx="287280" cy="328680"/>
            <a:chOff x="1925640" y="3797280"/>
            <a:chExt cx="287280" cy="328680"/>
          </a:xfrm>
        </p:grpSpPr>
        <p:sp>
          <p:nvSpPr>
            <p:cNvPr id="245" name=""/>
            <p:cNvSpPr/>
            <p:nvPr/>
          </p:nvSpPr>
          <p:spPr>
            <a:xfrm>
              <a:off x="1925640" y="3889440"/>
              <a:ext cx="287280" cy="2365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25640" y="3889440"/>
              <a:ext cx="2872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25640" y="3797280"/>
              <a:ext cx="286560" cy="1792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35200" y="3213000"/>
            <a:ext cx="1244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027160" y="2082960"/>
            <a:ext cx="287280" cy="327960"/>
            <a:chOff x="2027160" y="2082960"/>
            <a:chExt cx="287280" cy="327960"/>
          </a:xfrm>
        </p:grpSpPr>
        <p:sp>
          <p:nvSpPr>
            <p:cNvPr id="229" name=""/>
            <p:cNvSpPr/>
            <p:nvPr/>
          </p:nvSpPr>
          <p:spPr>
            <a:xfrm>
              <a:off x="2027160" y="2174760"/>
              <a:ext cx="287280" cy="2361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27160" y="2174760"/>
              <a:ext cx="287280" cy="108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27160" y="2082960"/>
              <a:ext cx="286560" cy="178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Picture 28" descr="05"/>
          <p:cNvPicPr/>
          <p:nvPr/>
        </p:nvPicPr>
        <p:blipFill>
          <a:blip r:embed="rId6"/>
          <a:stretch/>
        </p:blipFill>
        <p:spPr>
          <a:xfrm>
            <a:off x="2238480" y="1663560"/>
            <a:ext cx="291960" cy="195480"/>
          </a:xfrm>
          <a:prstGeom prst="rect">
            <a:avLst/>
          </a:prstGeom>
          <a:ln w="0">
            <a:noFill/>
          </a:ln>
        </p:spPr>
      </p:pic>
      <p:cxnSp>
        <p:nvCxnSpPr>
          <p:cNvPr id="308" name="AutoShape 103"/>
          <p:cNvCxnSpPr>
            <a:stCxn id="307" idx="2"/>
            <a:endCxn id="290" idx="0"/>
          </p:cNvCxnSpPr>
          <p:nvPr/>
        </p:nvCxnSpPr>
        <p:spPr>
          <a:xfrm flipH="1">
            <a:off x="2171520" y="1859040"/>
            <a:ext cx="21312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1890720" y="1073160"/>
            <a:ext cx="1008000" cy="892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66840" y="2800440"/>
            <a:ext cx="723960" cy="1047600"/>
          </a:xfrm>
          <a:custGeom>
            <a:avLst/>
            <a:gdLst/>
            <a:ahLst/>
            <a:rect l="l" t="t" r="r" b="b"/>
            <a:pathLst>
              <a:path w="486" h="858">
                <a:moveTo>
                  <a:pt x="0" y="0"/>
                </a:moveTo>
                <a:cubicBezTo>
                  <a:pt x="110" y="69"/>
                  <a:pt x="221" y="138"/>
                  <a:pt x="294" y="228"/>
                </a:cubicBezTo>
                <a:cubicBezTo>
                  <a:pt x="367" y="318"/>
                  <a:pt x="406" y="435"/>
                  <a:pt x="438" y="540"/>
                </a:cubicBezTo>
                <a:cubicBezTo>
                  <a:pt x="470" y="645"/>
                  <a:pt x="478" y="805"/>
                  <a:pt x="486" y="858"/>
                </a:cubicBezTo>
              </a:path>
            </a:pathLst>
          </a:custGeom>
          <a:noFill/>
          <a:ln w="34920">
            <a:solidFill>
              <a:srgbClr val="99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62200" y="2266920"/>
            <a:ext cx="419040" cy="847800"/>
          </a:xfrm>
          <a:custGeom>
            <a:avLst/>
            <a:gdLst/>
            <a:ahLst/>
            <a:rect l="l" t="t" r="r" b="b"/>
            <a:pathLst>
              <a:path w="324" h="630">
                <a:moveTo>
                  <a:pt x="0" y="630"/>
                </a:moveTo>
                <a:cubicBezTo>
                  <a:pt x="108" y="445"/>
                  <a:pt x="216" y="261"/>
                  <a:pt x="270" y="156"/>
                </a:cubicBezTo>
                <a:cubicBezTo>
                  <a:pt x="324" y="51"/>
                  <a:pt x="324" y="25"/>
                  <a:pt x="324" y="0"/>
                </a:cubicBezTo>
              </a:path>
            </a:pathLst>
          </a:custGeom>
          <a:noFill/>
          <a:ln w="3492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9640" y="1866960"/>
            <a:ext cx="254160" cy="6793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212920" y="1889280"/>
            <a:ext cx="209520" cy="2095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25720" y="4121280"/>
            <a:ext cx="28440" cy="2761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000" y="4038480"/>
            <a:ext cx="1171440" cy="32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62120" y="2945880"/>
            <a:ext cx="704880" cy="10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76400" y="4991040"/>
            <a:ext cx="9428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v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749600" y="4565520"/>
            <a:ext cx="263520" cy="4543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8880" y="1447920"/>
            <a:ext cx="7653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v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482920" y="1616040"/>
            <a:ext cx="396720" cy="11736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454040"/>
            <a:ext cx="231480" cy="27648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1181160"/>
            <a:ext cx="7398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urrent IETF Approaches An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" y="1009800"/>
            <a:ext cx="8402760" cy="55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pproach 1: A 3</a:t>
            </a:r>
            <a:r>
              <a:rPr b="1" lang="zh-CN" sz="18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Protocol (i.e. BGP) To Discover and Propagate PIM States (Currently For m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RFC6513/RFC65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Works with Various Tu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pproach 2: Direct State Exchanges between PIM and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draft-ietf-mpls-mldp-in-band-signaling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What is miss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mLDP Tunnel On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Incomple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300" spc="-1" strike="noStrike">
                <a:solidFill>
                  <a:srgbClr val="333399"/>
                </a:solidFill>
                <a:latin typeface="Arial"/>
              </a:rPr>
              <a:t>Missing PIM Functions (i.e. ASM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300" spc="-1" strike="noStrike">
                <a:solidFill>
                  <a:srgbClr val="333399"/>
                </a:solidFill>
                <a:latin typeface="Arial"/>
              </a:rPr>
              <a:t>No explicit specifications for PIM operations over MPLS (Adjacency, Bootstrapping, RPT to SPT switch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300" spc="-1" strike="noStrike">
                <a:solidFill>
                  <a:srgbClr val="333399"/>
                </a:solidFill>
                <a:latin typeface="Arial"/>
              </a:rPr>
              <a:t>No specifications for tunnel aggreg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What we need: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 Framework (Counterpart of RFC6513)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Support Various Tunn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Complete PIM Features In Efficient and Scalable W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26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57280" y="189000"/>
            <a:ext cx="75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/MPLS Interworking 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48160" y="812880"/>
            <a:ext cx="56149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mP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IM and MPLS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Quasi-PIM Interface (Q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Same as PIM Interface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No PIM Adjac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IM-MPLS Interworking (PMI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Mapping PIM Forwarding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States That Terminate at mPMB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Hell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Asse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States Mapped Between PIM and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IM Forwarding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Per-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Non-Interface Specif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States Uni-casted Using Raw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Register, CRP-Ad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Bootstrap: A Bootstrap Channel Over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31" name="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-482760" y="901800"/>
            <a:ext cx="151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79640" y="5118120"/>
            <a:ext cx="22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cast Contro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2720" y="52135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5960" y="54720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79640" y="534672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 Multicas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6120" y="458460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-2149920" y="753840"/>
            <a:ext cx="5673960" cy="3831480"/>
            <a:chOff x="-2149920" y="753840"/>
            <a:chExt cx="5673960" cy="3831480"/>
          </a:xfrm>
        </p:grpSpPr>
        <p:sp>
          <p:nvSpPr>
            <p:cNvPr id="340" name=""/>
            <p:cNvSpPr/>
            <p:nvPr/>
          </p:nvSpPr>
          <p:spPr>
            <a:xfrm>
              <a:off x="737280" y="1588680"/>
              <a:ext cx="2258280" cy="201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38160" y="2035080"/>
              <a:ext cx="5436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mF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69880" y="2035080"/>
              <a:ext cx="8881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I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5640" y="161244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mPM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4160" y="2634120"/>
              <a:ext cx="414000" cy="211320"/>
              <a:chOff x="524160" y="2634120"/>
              <a:chExt cx="414000" cy="211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51520" y="277488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520" y="270468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160" y="26341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160" y="28454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880720" y="2687040"/>
              <a:ext cx="414000" cy="211320"/>
              <a:chOff x="2880720" y="2687040"/>
              <a:chExt cx="414000" cy="211320"/>
            </a:xfrm>
          </p:grpSpPr>
          <p:sp>
            <p:nvSpPr>
              <p:cNvPr id="350" name=""/>
              <p:cNvSpPr/>
              <p:nvPr/>
            </p:nvSpPr>
            <p:spPr>
              <a:xfrm>
                <a:off x="2908080" y="282780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08080" y="275724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80720" y="26870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80720" y="289836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358000" y="2035080"/>
              <a:ext cx="5317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MP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m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2889720" y="2410920"/>
              <a:ext cx="414000" cy="140760"/>
              <a:chOff x="2889720" y="2410920"/>
              <a:chExt cx="414000" cy="140760"/>
            </a:xfrm>
          </p:grpSpPr>
          <p:sp>
            <p:nvSpPr>
              <p:cNvPr id="356" name=""/>
              <p:cNvSpPr/>
              <p:nvPr/>
            </p:nvSpPr>
            <p:spPr>
              <a:xfrm>
                <a:off x="2917080" y="248112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89720" y="24109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89720" y="255168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09800" y="2035080"/>
              <a:ext cx="4140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4905600">
              <a:off x="-1710000" y="1326240"/>
              <a:ext cx="2232360" cy="25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84" y="16"/>
                  </a:moveTo>
                  <a:arcTo wR="10800" hR="10800" stAng="-5214033" swAng="3236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84" y="16"/>
                  </a:moveTo>
                  <a:arcTo wR="10800" hR="10800" stAng="-5214033" swAng="3236009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176200">
              <a:off x="-1618560" y="1177560"/>
              <a:ext cx="2263320" cy="25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4" y="134"/>
                  </a:moveTo>
                  <a:arcTo wR="10800" hR="10800" stAng="-5942132" swAng="3964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4" y="134"/>
                  </a:moveTo>
                  <a:arcTo wR="10800" hR="10800" stAng="-5942132" swAng="3964109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1760" y="3761640"/>
              <a:ext cx="10501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43520" y="2845440"/>
              <a:ext cx="22608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72480" y="3726000"/>
              <a:ext cx="10515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PLS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98720" y="2951280"/>
              <a:ext cx="14292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208680" y="2551680"/>
              <a:ext cx="0" cy="11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68440" y="266076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74560" y="285120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69880" y="4278240"/>
              <a:ext cx="817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1742040" y="2912760"/>
              <a:ext cx="98280" cy="13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80320" y="2750040"/>
              <a:ext cx="880200" cy="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68440" y="2404800"/>
              <a:ext cx="875880" cy="343440"/>
            </a:xfrm>
            <a:custGeom>
              <a:avLst/>
              <a:gdLst/>
              <a:ahLst/>
              <a:rect l="l" t="t" r="r" b="b"/>
              <a:pathLst>
                <a:path w="588" h="234">
                  <a:moveTo>
                    <a:pt x="0" y="234"/>
                  </a:moveTo>
                  <a:cubicBezTo>
                    <a:pt x="92" y="117"/>
                    <a:pt x="184" y="0"/>
                    <a:pt x="282" y="0"/>
                  </a:cubicBezTo>
                  <a:cubicBezTo>
                    <a:pt x="380" y="0"/>
                    <a:pt x="484" y="117"/>
                    <a:pt x="588" y="23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27160" y="189000"/>
            <a:ext cx="87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apping PIM States To/From MPLS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75" name="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8800" y="3479760"/>
            <a:ext cx="7623360" cy="314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680" y="3984480"/>
            <a:ext cx="2212920" cy="7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M 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38360" y="3868560"/>
            <a:ext cx="25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Mapping At Leaf mPM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22920" y="4052880"/>
            <a:ext cx="244152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-Flow Spe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90960" y="4205160"/>
            <a:ext cx="1245960" cy="395280"/>
          </a:xfrm>
          <a:prstGeom prst="rightArrow">
            <a:avLst>
              <a:gd name="adj1" fmla="val 50000"/>
              <a:gd name="adj2" fmla="val 788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3480" y="5578560"/>
            <a:ext cx="205128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M Per-Inte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51280" y="5610240"/>
            <a:ext cx="244332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-Flow Spe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62160" y="5772240"/>
            <a:ext cx="1162080" cy="399960"/>
          </a:xfrm>
          <a:prstGeom prst="leftArrow">
            <a:avLst>
              <a:gd name="adj1" fmla="val 50000"/>
              <a:gd name="adj2" fmla="val 726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24240" y="5354640"/>
            <a:ext cx="25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Mapping At Root mPM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32200" y="981000"/>
            <a:ext cx="3652920" cy="21844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-Flow Spec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derstood, Consumed By Tunneling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ound To P2MP 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olicy-based 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optimizations within 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4360" y="1031760"/>
            <a:ext cx="2903400" cy="19684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PIM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*, *, 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*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, G, R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54560" y="1739880"/>
            <a:ext cx="1155600" cy="723960"/>
          </a:xfrm>
          <a:prstGeom prst="leftRightArrow">
            <a:avLst>
              <a:gd name="adj1" fmla="val 50000"/>
              <a:gd name="adj2" fmla="val 31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40560" y="4851360"/>
            <a:ext cx="380880" cy="647640"/>
          </a:xfrm>
          <a:prstGeom prst="downArrow">
            <a:avLst>
              <a:gd name="adj1" fmla="val 50000"/>
              <a:gd name="adj2" fmla="val 42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31080" y="4846680"/>
            <a:ext cx="2157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agated and U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-PIM Interworking At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35480" y="1022400"/>
            <a:ext cx="463392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uppose There Is A Prospective PIM Upstream Stat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PLS Initiates A Tunnel Signaling with M-Flow Spec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 for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QPI For The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Bind S to QPI (thus the tun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Merge M-Flow Sp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PIM Upstream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QPI as RF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94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39960" y="2502000"/>
            <a:ext cx="2349360" cy="27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525780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5256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4546440"/>
            <a:ext cx="120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7760" y="309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46320" y="1816200"/>
            <a:ext cx="1260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960" y="2610000"/>
            <a:ext cx="10922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9160" y="3632040"/>
            <a:ext cx="1054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I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44800" y="5791320"/>
            <a:ext cx="190440" cy="609480"/>
          </a:xfrm>
          <a:prstGeom prst="upArrow">
            <a:avLst>
              <a:gd name="adj1" fmla="val 50000"/>
              <a:gd name="adj2" fmla="val 8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933920" y="3098880"/>
            <a:ext cx="402840" cy="1193400"/>
            <a:chOff x="1933920" y="3098880"/>
            <a:chExt cx="402840" cy="1193400"/>
          </a:xfrm>
        </p:grpSpPr>
        <p:grpSp>
          <p:nvGrpSpPr>
            <p:cNvPr id="406" name=""/>
            <p:cNvGrpSpPr/>
            <p:nvPr/>
          </p:nvGrpSpPr>
          <p:grpSpPr>
            <a:xfrm>
              <a:off x="2019240" y="3098880"/>
              <a:ext cx="228240" cy="1193400"/>
              <a:chOff x="2019240" y="3098880"/>
              <a:chExt cx="228240" cy="1193400"/>
            </a:xfrm>
          </p:grpSpPr>
          <p:sp>
            <p:nvSpPr>
              <p:cNvPr id="407" name=""/>
              <p:cNvSpPr/>
              <p:nvPr/>
            </p:nvSpPr>
            <p:spPr>
              <a:xfrm>
                <a:off x="2019240" y="311436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47480" y="309888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933920" y="3340080"/>
              <a:ext cx="4028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Q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184480" y="6019920"/>
            <a:ext cx="7999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06640" y="4356000"/>
            <a:ext cx="330120" cy="35568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86080" y="5410080"/>
            <a:ext cx="17269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22360" y="1638360"/>
            <a:ext cx="1727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6120" y="1092240"/>
            <a:ext cx="317484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Leaf mPMBR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77760" y="2705040"/>
            <a:ext cx="1295640" cy="1676520"/>
            <a:chOff x="977760" y="2705040"/>
            <a:chExt cx="1295640" cy="1676520"/>
          </a:xfrm>
        </p:grpSpPr>
        <p:sp>
          <p:nvSpPr>
            <p:cNvPr id="416" name=""/>
            <p:cNvSpPr/>
            <p:nvPr/>
          </p:nvSpPr>
          <p:spPr>
            <a:xfrm>
              <a:off x="1674720" y="2705040"/>
              <a:ext cx="306360" cy="1676520"/>
            </a:xfrm>
            <a:custGeom>
              <a:avLst/>
              <a:gdLst/>
              <a:ahLst/>
              <a:rect l="l" t="t" r="r" b="b"/>
              <a:pathLst>
                <a:path w="193" h="1056">
                  <a:moveTo>
                    <a:pt x="193" y="1056"/>
                  </a:moveTo>
                  <a:cubicBezTo>
                    <a:pt x="97" y="880"/>
                    <a:pt x="2" y="704"/>
                    <a:pt x="1" y="528"/>
                  </a:cubicBezTo>
                  <a:cubicBezTo>
                    <a:pt x="0" y="352"/>
                    <a:pt x="154" y="88"/>
                    <a:pt x="185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77760" y="3048120"/>
              <a:ext cx="129564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-Flow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031840" y="1905120"/>
            <a:ext cx="1854360" cy="570960"/>
            <a:chOff x="2031840" y="1905120"/>
            <a:chExt cx="1854360" cy="570960"/>
          </a:xfrm>
        </p:grpSpPr>
        <p:grpSp>
          <p:nvGrpSpPr>
            <p:cNvPr id="419" name=""/>
            <p:cNvGrpSpPr/>
            <p:nvPr/>
          </p:nvGrpSpPr>
          <p:grpSpPr>
            <a:xfrm>
              <a:off x="2031840" y="1905120"/>
              <a:ext cx="241200" cy="570960"/>
              <a:chOff x="2031840" y="1905120"/>
              <a:chExt cx="241200" cy="570960"/>
            </a:xfrm>
          </p:grpSpPr>
          <p:sp>
            <p:nvSpPr>
              <p:cNvPr id="420" name=""/>
              <p:cNvSpPr/>
              <p:nvPr/>
            </p:nvSpPr>
            <p:spPr>
              <a:xfrm>
                <a:off x="2031840" y="1912320"/>
                <a:ext cx="0" cy="56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73040" y="1905120"/>
                <a:ext cx="0" cy="56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158920" y="2095560"/>
              <a:ext cx="17272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2MP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-PIM Interworking At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35480" y="1022400"/>
            <a:ext cx="463392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-Flow Spec(S) Reaches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PLS Completes Tunnel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 for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QPI For The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Bind S to QPI (thus the tun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Merge M-Flow Spec if necess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PIM Per-Interface State With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QPI as RF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426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939960" y="2502000"/>
            <a:ext cx="2349360" cy="27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525780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5256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4546440"/>
            <a:ext cx="120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77760" y="309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46320" y="1816200"/>
            <a:ext cx="1260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3960" y="2610000"/>
            <a:ext cx="10922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9160" y="3632040"/>
            <a:ext cx="1054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I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933920" y="3098880"/>
            <a:ext cx="402840" cy="1193400"/>
            <a:chOff x="1933920" y="3098880"/>
            <a:chExt cx="402840" cy="1193400"/>
          </a:xfrm>
        </p:grpSpPr>
        <p:grpSp>
          <p:nvGrpSpPr>
            <p:cNvPr id="437" name=""/>
            <p:cNvGrpSpPr/>
            <p:nvPr/>
          </p:nvGrpSpPr>
          <p:grpSpPr>
            <a:xfrm>
              <a:off x="2019240" y="3098880"/>
              <a:ext cx="228240" cy="1193400"/>
              <a:chOff x="2019240" y="3098880"/>
              <a:chExt cx="228240" cy="1193400"/>
            </a:xfrm>
          </p:grpSpPr>
          <p:sp>
            <p:nvSpPr>
              <p:cNvPr id="438" name=""/>
              <p:cNvSpPr/>
              <p:nvPr/>
            </p:nvSpPr>
            <p:spPr>
              <a:xfrm>
                <a:off x="2019240" y="311436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47480" y="309888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933920" y="3340080"/>
              <a:ext cx="4028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Q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447920" y="6032520"/>
            <a:ext cx="17269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74640" y="1828800"/>
            <a:ext cx="1727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6120" y="1092240"/>
            <a:ext cx="317484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Root mPMBR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977760" y="2832120"/>
            <a:ext cx="1295640" cy="1562040"/>
            <a:chOff x="977760" y="2832120"/>
            <a:chExt cx="1295640" cy="1562040"/>
          </a:xfrm>
        </p:grpSpPr>
        <p:sp>
          <p:nvSpPr>
            <p:cNvPr id="445" name=""/>
            <p:cNvSpPr/>
            <p:nvPr/>
          </p:nvSpPr>
          <p:spPr>
            <a:xfrm>
              <a:off x="1674720" y="2832120"/>
              <a:ext cx="306360" cy="1562040"/>
            </a:xfrm>
            <a:custGeom>
              <a:avLst/>
              <a:gdLst/>
              <a:ahLst/>
              <a:rect l="l" t="t" r="r" b="b"/>
              <a:pathLst>
                <a:path w="193" h="1056">
                  <a:moveTo>
                    <a:pt x="193" y="1056"/>
                  </a:moveTo>
                  <a:cubicBezTo>
                    <a:pt x="97" y="880"/>
                    <a:pt x="2" y="704"/>
                    <a:pt x="1" y="528"/>
                  </a:cubicBezTo>
                  <a:cubicBezTo>
                    <a:pt x="0" y="352"/>
                    <a:pt x="154" y="88"/>
                    <a:pt x="185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77760" y="3151440"/>
              <a:ext cx="129564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955880" y="4470480"/>
            <a:ext cx="1904760" cy="304560"/>
            <a:chOff x="1955880" y="4470480"/>
            <a:chExt cx="1904760" cy="304560"/>
          </a:xfrm>
        </p:grpSpPr>
        <p:sp>
          <p:nvSpPr>
            <p:cNvPr id="448" name=""/>
            <p:cNvSpPr/>
            <p:nvPr/>
          </p:nvSpPr>
          <p:spPr>
            <a:xfrm>
              <a:off x="1955880" y="4470480"/>
              <a:ext cx="26676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33720" y="4470480"/>
              <a:ext cx="17269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M-Flow Spec(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994040" y="2666880"/>
            <a:ext cx="3045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549440" y="5257800"/>
            <a:ext cx="2310840" cy="570960"/>
            <a:chOff x="1549440" y="5257800"/>
            <a:chExt cx="2310840" cy="570960"/>
          </a:xfrm>
        </p:grpSpPr>
        <p:grpSp>
          <p:nvGrpSpPr>
            <p:cNvPr id="452" name=""/>
            <p:cNvGrpSpPr/>
            <p:nvPr/>
          </p:nvGrpSpPr>
          <p:grpSpPr>
            <a:xfrm>
              <a:off x="2006640" y="5257800"/>
              <a:ext cx="1853640" cy="570960"/>
              <a:chOff x="2006640" y="5257800"/>
              <a:chExt cx="1853640" cy="570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2006640" y="5257800"/>
                <a:ext cx="240840" cy="570960"/>
                <a:chOff x="2006640" y="5257800"/>
                <a:chExt cx="240840" cy="5709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006640" y="5265000"/>
                  <a:ext cx="0" cy="563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247480" y="5257800"/>
                  <a:ext cx="0" cy="563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2133360" y="5448240"/>
                <a:ext cx="172692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960" bIns="399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P2MP Tunn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549440" y="5308560"/>
              <a:ext cx="304920" cy="469800"/>
            </a:xfrm>
            <a:prstGeom prst="upArrow">
              <a:avLst>
                <a:gd name="adj1" fmla="val 50000"/>
                <a:gd name="adj2" fmla="val 38518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14480" y="189000"/>
            <a:ext cx="76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 Bootstrap Over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65400" y="1555920"/>
            <a:ext cx="622152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Bootstrap MP2MP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</a:rPr>
              <a:t>At Startup, each mPMBR do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000066"/>
                </a:solidFill>
                <a:latin typeface="Arial"/>
              </a:rPr>
              <a:t>Designate A Root BSTRAP_ROO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000066"/>
                </a:solidFill>
                <a:latin typeface="Arial"/>
              </a:rPr>
              <a:t>Each mPMB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Arial"/>
              </a:rPr>
              <a:t>Join (BSTRAP_ROOT, ALL_PIM_ROU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PIM on mPMBR sends and receives Bootstr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To/From the chann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To/From PIM neighb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461" name="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762120" y="2133720"/>
            <a:ext cx="1971720" cy="173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220"/>
          <p:cNvSpPr/>
          <p:nvPr/>
        </p:nvSpPr>
        <p:spPr>
          <a:xfrm>
            <a:off x="447840" y="208584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28" descr="05"/>
          <p:cNvPicPr/>
          <p:nvPr/>
        </p:nvPicPr>
        <p:blipFill>
          <a:blip r:embed="rId1"/>
          <a:stretch/>
        </p:blipFill>
        <p:spPr>
          <a:xfrm>
            <a:off x="914400" y="2508120"/>
            <a:ext cx="325440" cy="233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8" descr="05"/>
          <p:cNvPicPr/>
          <p:nvPr/>
        </p:nvPicPr>
        <p:blipFill>
          <a:blip r:embed="rId2"/>
          <a:stretch/>
        </p:blipFill>
        <p:spPr>
          <a:xfrm>
            <a:off x="1569960" y="2262240"/>
            <a:ext cx="325440" cy="231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8" descr="05"/>
          <p:cNvPicPr/>
          <p:nvPr/>
        </p:nvPicPr>
        <p:blipFill>
          <a:blip r:embed="rId3"/>
          <a:stretch/>
        </p:blipFill>
        <p:spPr>
          <a:xfrm>
            <a:off x="2243160" y="2773440"/>
            <a:ext cx="325440" cy="233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8" descr="05"/>
          <p:cNvPicPr/>
          <p:nvPr/>
        </p:nvPicPr>
        <p:blipFill>
          <a:blip r:embed="rId4"/>
          <a:stretch/>
        </p:blipFill>
        <p:spPr>
          <a:xfrm>
            <a:off x="1484280" y="2965320"/>
            <a:ext cx="325440" cy="233640"/>
          </a:xfrm>
          <a:prstGeom prst="rect">
            <a:avLst/>
          </a:prstGeom>
          <a:ln w="0">
            <a:noFill/>
          </a:ln>
        </p:spPr>
      </p:pic>
      <p:cxnSp>
        <p:nvCxnSpPr>
          <p:cNvPr id="469" name="AutoShape 100"/>
          <p:cNvCxnSpPr>
            <a:stCxn id="465" idx="3"/>
            <a:endCxn id="466" idx="1"/>
          </p:cNvCxnSpPr>
          <p:nvPr/>
        </p:nvCxnSpPr>
        <p:spPr>
          <a:xfrm flipV="1">
            <a:off x="1239480" y="2377800"/>
            <a:ext cx="33084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AutoShape 101"/>
          <p:cNvCxnSpPr>
            <a:stCxn id="468" idx="1"/>
            <a:endCxn id="465" idx="2"/>
          </p:cNvCxnSpPr>
          <p:nvPr/>
        </p:nvCxnSpPr>
        <p:spPr>
          <a:xfrm flipH="1" flipV="1">
            <a:off x="1077120" y="2741400"/>
            <a:ext cx="407160" cy="342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71" name="AutoShape 104"/>
          <p:cNvCxnSpPr>
            <a:endCxn id="468" idx="2"/>
          </p:cNvCxnSpPr>
          <p:nvPr/>
        </p:nvCxnSpPr>
        <p:spPr>
          <a:xfrm flipH="1" flipV="1">
            <a:off x="1647000" y="3198600"/>
            <a:ext cx="205560" cy="30384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72" name="AutoShape 105"/>
          <p:cNvCxnSpPr>
            <a:stCxn id="468" idx="3"/>
            <a:endCxn id="467" idx="1"/>
          </p:cNvCxnSpPr>
          <p:nvPr/>
        </p:nvCxnSpPr>
        <p:spPr>
          <a:xfrm flipV="1">
            <a:off x="1809720" y="2890440"/>
            <a:ext cx="43416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AutoShape 106"/>
          <p:cNvCxnSpPr>
            <a:stCxn id="466" idx="3"/>
            <a:endCxn id="467" idx="0"/>
          </p:cNvCxnSpPr>
          <p:nvPr/>
        </p:nvCxnSpPr>
        <p:spPr>
          <a:xfrm>
            <a:off x="1895400" y="2378160"/>
            <a:ext cx="511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AutoShape 107"/>
          <p:cNvCxnSpPr>
            <a:endCxn id="467" idx="2"/>
          </p:cNvCxnSpPr>
          <p:nvPr/>
        </p:nvCxnSpPr>
        <p:spPr>
          <a:xfrm flipV="1">
            <a:off x="1852200" y="3006360"/>
            <a:ext cx="5547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AutoShape 108"/>
          <p:cNvCxnSpPr>
            <a:stCxn id="466" idx="2"/>
            <a:endCxn id="468" idx="0"/>
          </p:cNvCxnSpPr>
          <p:nvPr/>
        </p:nvCxnSpPr>
        <p:spPr>
          <a:xfrm flipH="1">
            <a:off x="1647360" y="2493720"/>
            <a:ext cx="86400" cy="47196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pic>
        <p:nvPicPr>
          <p:cNvPr id="476" name="Picture 28" descr="05"/>
          <p:cNvPicPr/>
          <p:nvPr/>
        </p:nvPicPr>
        <p:blipFill>
          <a:blip r:embed="rId5"/>
          <a:stretch/>
        </p:blipFill>
        <p:spPr>
          <a:xfrm>
            <a:off x="1743120" y="3514680"/>
            <a:ext cx="323640" cy="233280"/>
          </a:xfrm>
          <a:prstGeom prst="rect">
            <a:avLst/>
          </a:prstGeom>
          <a:ln w="0">
            <a:noFill/>
          </a:ln>
        </p:spPr>
      </p:pic>
      <p:cxnSp>
        <p:nvCxnSpPr>
          <p:cNvPr id="477" name="AutoShape 100"/>
          <p:cNvCxnSpPr>
            <a:stCxn id="465" idx="0"/>
            <a:endCxn id="478" idx="0"/>
          </p:cNvCxnSpPr>
          <p:nvPr/>
        </p:nvCxnSpPr>
        <p:spPr>
          <a:xfrm flipH="1" flipV="1">
            <a:off x="641160" y="1839600"/>
            <a:ext cx="43704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9" name="TextBox 220"/>
          <p:cNvSpPr/>
          <p:nvPr/>
        </p:nvSpPr>
        <p:spPr>
          <a:xfrm>
            <a:off x="734040" y="14097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22360" y="1638360"/>
            <a:ext cx="236520" cy="201600"/>
            <a:chOff x="522360" y="1638360"/>
            <a:chExt cx="236520" cy="201600"/>
          </a:xfrm>
        </p:grpSpPr>
        <p:sp>
          <p:nvSpPr>
            <p:cNvPr id="478" name=""/>
            <p:cNvSpPr/>
            <p:nvPr/>
          </p:nvSpPr>
          <p:spPr>
            <a:xfrm>
              <a:off x="522360" y="1694880"/>
              <a:ext cx="236520" cy="145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2360" y="1694880"/>
              <a:ext cx="236520" cy="72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2360" y="1638360"/>
              <a:ext cx="235800" cy="10980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440000" y="4464000"/>
            <a:ext cx="236520" cy="201600"/>
            <a:chOff x="1440000" y="4464000"/>
            <a:chExt cx="236520" cy="201600"/>
          </a:xfrm>
        </p:grpSpPr>
        <p:sp>
          <p:nvSpPr>
            <p:cNvPr id="500" name=""/>
            <p:cNvSpPr/>
            <p:nvPr/>
          </p:nvSpPr>
          <p:spPr>
            <a:xfrm>
              <a:off x="1440000" y="4520520"/>
              <a:ext cx="236520" cy="145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0000" y="4520520"/>
              <a:ext cx="236520" cy="72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0000" y="4464000"/>
              <a:ext cx="235800" cy="10980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805040" y="1587600"/>
            <a:ext cx="236520" cy="201600"/>
            <a:chOff x="1805040" y="1587600"/>
            <a:chExt cx="236520" cy="201600"/>
          </a:xfrm>
        </p:grpSpPr>
        <p:sp>
          <p:nvSpPr>
            <p:cNvPr id="520" name=""/>
            <p:cNvSpPr/>
            <p:nvPr/>
          </p:nvSpPr>
          <p:spPr>
            <a:xfrm>
              <a:off x="1805040" y="1644120"/>
              <a:ext cx="236520" cy="145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05040" y="1644120"/>
              <a:ext cx="236520" cy="72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05040" y="1587600"/>
              <a:ext cx="235800" cy="10980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Box 220"/>
          <p:cNvSpPr/>
          <p:nvPr/>
        </p:nvSpPr>
        <p:spPr>
          <a:xfrm>
            <a:off x="1670400" y="125748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220"/>
          <p:cNvSpPr/>
          <p:nvPr/>
        </p:nvSpPr>
        <p:spPr>
          <a:xfrm>
            <a:off x="686160" y="434664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AutoShape 100"/>
          <p:cNvCxnSpPr>
            <a:stCxn id="466" idx="0"/>
            <a:endCxn id="520" idx="0"/>
          </p:cNvCxnSpPr>
          <p:nvPr/>
        </p:nvCxnSpPr>
        <p:spPr>
          <a:xfrm flipV="1">
            <a:off x="1733400" y="1788840"/>
            <a:ext cx="19152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AutoShape 100"/>
          <p:cNvCxnSpPr/>
          <p:nvPr/>
        </p:nvCxnSpPr>
        <p:spPr>
          <a:xfrm flipV="1">
            <a:off x="1549080" y="3728160"/>
            <a:ext cx="346680" cy="71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584280" y="1968480"/>
            <a:ext cx="17784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220"/>
          <p:cNvSpPr/>
          <p:nvPr/>
        </p:nvSpPr>
        <p:spPr>
          <a:xfrm>
            <a:off x="6480" y="29973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220"/>
          <p:cNvSpPr/>
          <p:nvPr/>
        </p:nvSpPr>
        <p:spPr>
          <a:xfrm>
            <a:off x="1048320" y="47372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220"/>
          <p:cNvSpPr/>
          <p:nvPr/>
        </p:nvSpPr>
        <p:spPr>
          <a:xfrm>
            <a:off x="1870200" y="40035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65240" y="2222640"/>
            <a:ext cx="44424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04840" y="2870280"/>
            <a:ext cx="304920" cy="279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00200" y="2514240"/>
            <a:ext cx="76320" cy="431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76520" y="1854360"/>
            <a:ext cx="13968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726920" y="3149280"/>
            <a:ext cx="190440" cy="291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727280" y="2577600"/>
            <a:ext cx="8892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816200" y="1790280"/>
            <a:ext cx="15228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1219320" y="2768760"/>
            <a:ext cx="304560" cy="279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736560" y="1854000"/>
            <a:ext cx="279360" cy="431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647720" y="3774600"/>
            <a:ext cx="285840" cy="654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68520" y="3238560"/>
            <a:ext cx="190440" cy="269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517400" y="3740040"/>
            <a:ext cx="266760" cy="6318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ggb1</dc:creator>
  <dc:description/>
  <dc:language>en-US</dc:language>
  <cp:lastModifiedBy>r90954</cp:lastModifiedBy>
  <cp:lastPrinted>2002-09-26T02:29:13Z</cp:lastPrinted>
  <dcterms:modified xsi:type="dcterms:W3CDTF">2012-08-02T18:10:27Z</dcterms:modified>
  <cp:revision>1940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918904</vt:lpwstr>
  </property>
</Properties>
</file>