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F83-345E-4487-A8DF-EC516A953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7DB1-F46B-466A-B3C2-E5EB447538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70B5-E5C3-4ED9-B642-8CB6FEAAC2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EDB-A22A-4617-9620-4E9109A295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9DC-8EAB-4CB5-BE4D-52D3BB38EF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70E-AA28-4533-B770-1426ADA3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45E-101E-428C-A4D3-B239691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CC5-754C-4C73-BDF6-EE3385E8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643-54FB-46AC-B0DA-6090E3E5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A3B-E79B-40F1-BA5C-DEEC3781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A84-2C3A-467A-AB76-0F58C29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D8A-0448-483A-A039-38D0485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81-4F85-4A5E-8340-F0988B9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F6B-3A37-465A-BF41-F22746B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440-1FCD-497A-A6F2-DD29D66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1EB-09C2-4C3D-A439-D0B67DC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EF7-58A4-4868-8AF9-90D6E75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0228-CCA4-4452-AFB0-F44527AA35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50096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lay and Loss Traffic Engineering Framework for MPL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-fuxh-mpls-delay-loss-te-framework-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85720"/>
            <a:ext cx="69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gust 3, 20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TF 84, Vancouver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769-E0E3-4E00-B4C0-1DA8449456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-Auth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E78-89F4-4C31-A4AE-56556ED7C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112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ihua Fu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hwas Man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ave McDysa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izon (Pres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rew Mal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ncer Giacalon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omson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colm Bet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ilei Wa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hn Drak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uniper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85840" y="490500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2240"/>
                <a:tab algn="l" pos="1096920"/>
                <a:tab algn="l" pos="1371600"/>
                <a:tab algn="l" pos="1646280"/>
                <a:tab algn="l" pos="1920960"/>
                <a:tab algn="l" pos="2193840"/>
                <a:tab algn="l" pos="2468520"/>
                <a:tab algn="l" pos="2743200"/>
                <a:tab algn="l" pos="3017880"/>
                <a:tab algn="l" pos="3292560"/>
                <a:tab algn="l" pos="3565440"/>
                <a:tab algn="l" pos="3840120"/>
                <a:tab algn="l" pos="4114800"/>
                <a:tab algn="l" pos="4389480"/>
                <a:tab algn="l" pos="4664160"/>
                <a:tab algn="l" pos="4937040"/>
                <a:tab algn="l" pos="5211720"/>
                <a:tab algn="l" pos="5486400"/>
                <a:tab algn="l" pos="6035760"/>
                <a:tab algn="l" pos="6308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Thanks to the MPLS Review Team (MPLS-RT) Stewart Bryant, Daniel King and Jia He for their review and com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s in -05 from Version 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following references with citations in section "6. Protocol Considerations” based upon list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atlas-mpls-te-express-path-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ietf-ospf-te-metric-extensions-00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previdi-isis-te-metric-extensions-01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fuxh-mpls-delay-loss-rsvp-te-ext-01.t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following reference to resolved comments about relative time management from Masa DAIKOKU (KD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-ietf-mpls-tp-use-cases-and-design-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677-D9F0-4896-935B-3C76FB24F5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lit Text into two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Statement/Requirem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ubstantial re-write and add new text focusing on problem statement, context , use case and requir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mework draft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marize framework to meet requirements using current/proposed approach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 scalability assessment and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any needed protocol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solution specific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ntended Status from Standards Track to Informational for these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6D9F-63C0-4A05-8112-550A29D76F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e lat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queuing 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’t prohibit solution from considering node latency, range of problems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rge geographic separation of nodes, few nodes (e.g., trans-oceanic) - link latency a good approxim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mall geographic separation of nodes, many no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ode/device latency very impor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nk may be negligi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dium geographic separation, few-many no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ommend usage of both link and node latenc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imply things, could resurrect the following from a previous ve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certain customers (e.g., financial) care deeply about node latency, solution may provide configuration knob to the user to let them add some fixed value of a portion (e.g., one half) node latency to link laten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917-0149-4ECC-ADE4-E8DB89568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of of Jitter/Delay Variation Accu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 ITU-T Y.1541 delay variation models and propose simple upper b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ve is very loose upper bound, tighter approximations are known – but more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 operational experience with delay variation in re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of Nodal La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current and potential methods for measuring nodal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7550-955E-4288-8BA2-046EF273E0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 Response to MPLS-RT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09224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state domains of applicability and requirements for 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, Metro, Medium network geography/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domains, number/rate of change of inter-domain TE LS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 topic of framework draft would be to agree on categorization, evaluation of current approaches and assessment of applicability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/Proposed Potentially Applicable IETF Appro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P flooding/ state change frequency within one area/level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VP-TE signaling across multiple domains (area/level, AS) probing, recording status of previous attempts, re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obal state not known at the origin as in a single IGP area/le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tateful) PCE listening to each domain, communicating amongst PCEs in other domains approximating global state to reduce probing and retries to improve scal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96C9-C2F7-4386-8C5B-12B209F1C3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285920"/>
            <a:ext cx="8501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eds more work before W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lit into two separate draf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blem statement/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ramework, Approach Assessment (e.g., Scalabi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ditional comments invited on the list in the thread started by the MPLS-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PLS-RT process and inputs were most helpf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AC22-B3B6-40FD-927C-54FB5ECA04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39:15Z</dcterms:created>
  <dc:creator>王其磊</dc:creator>
  <dc:description/>
  <dc:language>en-US</dc:language>
  <cp:lastModifiedBy>Xihua Fu</cp:lastModifiedBy>
  <dcterms:modified xsi:type="dcterms:W3CDTF">2012-07-31T06:36:04Z</dcterms:modified>
  <cp:revision>585</cp:revision>
  <dc:subject/>
  <dc:title>幻灯片 1</dc:title>
</cp:coreProperties>
</file>