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6946-2201-4322-B8AF-214DAE1CB5D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D89A-D110-4761-8306-B7AB709843A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4A5A-C97F-40E5-8D5F-F59B6BC0AEC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96C6-B8AC-48A6-BDE8-9049D66D5D9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8FBD-D77E-4530-85CD-7A297205E6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4E4-EBEE-469A-91C0-CDBD34BE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8FE4-E3CD-45D3-8481-FF59108A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714-20FF-49EA-B1C8-AA2C340A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A9C1-4000-4305-8A25-A2B860AE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D020-662F-461F-AE62-CA04EB4F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020-AA63-4984-8108-C69DC198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B97-ACD5-4ED6-B339-87411434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9705-24F4-4ACB-A412-43E36BD8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EAD-4010-40D1-BDD8-A2977367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7DC3-29C2-460E-B197-9877D444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8C8E-FBF0-4186-8CB5-1ACF2C43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02C0-DC9A-4F43-B59D-B6539DC2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4F73-2422-44FB-8640-3CBEFC4066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50096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elay and Loss Traffic Engineering Framework for MPL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fuxh-mpls-delay-loss-te-framework-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285720"/>
            <a:ext cx="69865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gust 3, 201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TF 84, Vancouver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5415-C814-4143-A4DD-92CF45AA6D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-Auth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DF14-ADA0-4D21-B38A-77F05BDD8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7112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ihua Fu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hwas Manra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ave McDysa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izon (Presen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rew Mali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iz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ncer Giacalon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omson Reu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lcolm Bett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Qilei Wan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ohn Drak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uniper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285840" y="4905000"/>
            <a:ext cx="87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2240"/>
                <a:tab algn="l" pos="1096920"/>
                <a:tab algn="l" pos="1371600"/>
                <a:tab algn="l" pos="1646280"/>
                <a:tab algn="l" pos="1920960"/>
                <a:tab algn="l" pos="2193840"/>
                <a:tab algn="l" pos="2468520"/>
                <a:tab algn="l" pos="2743200"/>
                <a:tab algn="l" pos="3017880"/>
                <a:tab algn="l" pos="3292560"/>
                <a:tab algn="l" pos="3565440"/>
                <a:tab algn="l" pos="3840120"/>
                <a:tab algn="l" pos="4114800"/>
                <a:tab algn="l" pos="4389480"/>
                <a:tab algn="l" pos="4664160"/>
                <a:tab algn="l" pos="4937040"/>
                <a:tab algn="l" pos="5211720"/>
                <a:tab algn="l" pos="5486400"/>
                <a:tab algn="l" pos="6035760"/>
                <a:tab algn="l" pos="6308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Thanks to the MPLS Review Team (MPLS-RT) Stewart Bryant, Daniel King and Jia He for their review and com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in -05 from Version 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71680" y="1285920"/>
            <a:ext cx="82152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or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ed following references with citations in section "6. Protocol Considerations” based upon list discu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ft-atlas-mpls-te-express-path-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ft-ietf-ospf-te-metric-extensions-00.tx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ft-previdi-isis-te-metric-extensions-01.tx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ft-fuxh-mpls-delay-loss-rsvp-te-ext-01.tx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ed following reference to resolved comments about relative time management from Masa DAIKOKU (KDD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ft-ietf-mpls-tp-use-cases-and-design-0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A0F5-5830-4E44-B931-0F40AD3A62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all Response to MPLS-RT Re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71680" y="1285920"/>
            <a:ext cx="82152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lit Text into two Draf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lem Statement/Requirement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substantial re-write and add new text focusing on problem statement, context , use case and require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mework draft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mmarize framework to meet requirements using current/proposed approach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 scalability assessment and recommend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 any needed protocol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 solution specific mater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Intended Status from Standards Track to Informational for these draf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F8E4-CEC3-45B7-B176-6901F68480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cific Response to MPLS-RT Re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1680" y="1285920"/>
            <a:ext cx="82152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de latenc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queuing lat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n’t prohibit solution from considering node latency, range of problems a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arge geographic separation of nodes, few nodes (e.g., trans-oceanic) - link latency a good approxim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mall geographic separation of nodes, many nod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ode/device latency very importa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ink may be negligi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dium geographic separation, few-many nod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commend usage of both link and node latenc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simply things, could resurrect the following from a previous ver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certain customers (e.g., financial) care deeply about node latency, solution may provide configuration knob to the user to let them add some fixed value of a portion (e.g., one half) node latency to link laten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176D-98BD-4D7C-9070-3B5CBCBB79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cific Response to MPLS-RT Re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of of Jitter/Delay Variation Accu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ize ITU-T Y.1541 delay variation models and propose simple upper b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ve is very loose upper bound, tighter approximations are known – but more compl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ize operational experience with delay variation in real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ment of Nodal Lat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be current and potential methods for measuring nodal lat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A8D2-9023-48C4-ACE5-3B4D967FA5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cific Response to MPLS-RT Re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71680" y="1092240"/>
            <a:ext cx="82152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lability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to state domains of applicability and requirements for 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de, Metro, Medium network geography/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of domains, number/rate of change of inter-domain TE LS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 topic of framework draft would be to agree on categorization, evaluation of current approaches and assessment of applicability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t/Proposed Potentially Applicable IETF Approa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GP flooding/ state change frequency within one area/level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VP-TE signaling across multiple domains (area/level, AS) probing, recording status of previous attempts, retr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lobal state not known at the origin as in a single IGP area/le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Stateful) PCE listening to each domain, communicating amongst PCEs in other domains approximating global state to reduce probing and retries to improve scal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3977-2933-4876-A3D2-5B16F823B7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7120" y="1285920"/>
            <a:ext cx="8501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eeds more work before WG ad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plit into two separate draf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roblem statement/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ramework, Approach Assessment (e.g., Scalabil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dditional comments invited on the list in the thread started by the MPLS-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PLS-RT process and inputs were most helpfu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8DAF-389F-409A-9F23-141A19ECB9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7:39:15Z</dcterms:created>
  <dc:creator>王其磊</dc:creator>
  <dc:description/>
  <dc:language>en-US</dc:language>
  <cp:lastModifiedBy>Xihua Fu</cp:lastModifiedBy>
  <dcterms:modified xsi:type="dcterms:W3CDTF">2012-07-31T06:36:04Z</dcterms:modified>
  <cp:revision>585</cp:revision>
  <dc:subject/>
  <dc:title>幻灯片 1</dc:title>
</cp:coreProperties>
</file>