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54DE5-D2BB-4B08-B1AE-286A881C7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95F61-E2EB-46AD-8810-B818262A5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7868A-FDB0-4247-9376-D2125C7BC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37DA6-A128-47B3-B212-C51DCFA59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F2A11-E406-4F1C-897E-3531B9862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A79CA-7993-4A3B-9873-0C3D88A89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5A799-774D-4A66-8140-A78EC86D8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CD1CB-31C0-4B90-A116-556E1C89A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FF4B6-B385-49C6-831C-A93A00AD5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8EBEA-4919-4CC0-9F04-1C4144BFB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57ED4-08CE-4BC8-A3EC-98B307910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00687-7551-4E00-B9B0-A848E8D9D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0834-B94B-4302-8FA3-20D51E066A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 Framework for Point-to-Multipoint MPLS in Transport Networks</a:t>
            </a:r>
            <a:br>
              <a:rPr sz="4400"/>
            </a:br>
            <a:br>
              <a:rPr sz="4400"/>
            </a:br>
            <a:r>
              <a:rPr b="0" lang="en-US" sz="2400" spc="-1" strike="noStrike">
                <a:solidFill>
                  <a:srgbClr val="000000"/>
                </a:solidFill>
                <a:latin typeface="Arial"/>
              </a:rPr>
              <a:t>draft-fbb-mpls-tp-p2mp-framework-05</a:t>
            </a:r>
            <a:br>
              <a:rPr sz="2400"/>
            </a:br>
            <a:br>
              <a:rPr sz="2400"/>
            </a:br>
            <a:br>
              <a:rPr sz="2400"/>
            </a:b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wart Bryant, Dan Frost} @ Cisco System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thew.bocci@alcatel-lucen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berger@labn.ne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a:t>
            </a:r>
            <a:endParaRPr b="0" lang="en-US" sz="4400" spc="-1" strike="noStrike">
              <a:solidFill>
                <a:srgbClr val="000000"/>
              </a:solidFill>
              <a:latin typeface="Arial"/>
            </a:endParaRPr>
          </a:p>
        </p:txBody>
      </p:sp>
      <p:sp>
        <p:nvSpPr>
          <p:cNvPr id="44" name=""/>
          <p:cNvSpPr txBox="1"/>
          <p:nvPr/>
        </p:nvSpPr>
        <p:spPr>
          <a:xfrm>
            <a:off x="685800" y="198108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ocument defines the elements and functions of the MPLS-TP architecture applicable specifically to supporting point-to-multipoint transport pa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ach</a:t>
            </a:r>
            <a:endParaRPr b="0" lang="en-US" sz="4400" spc="-1" strike="noStrike">
              <a:solidFill>
                <a:srgbClr val="000000"/>
              </a:solidFill>
              <a:latin typeface="Arial"/>
            </a:endParaRPr>
          </a:p>
        </p:txBody>
      </p:sp>
      <p:sp>
        <p:nvSpPr>
          <p:cNvPr id="46" name=""/>
          <p:cNvSpPr txBox="1"/>
          <p:nvPr/>
        </p:nvSpPr>
        <p:spPr>
          <a:xfrm>
            <a:off x="685800" y="1981080"/>
            <a:ext cx="777240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mework is written as a call by reference to existing MPLS, MPLS-TP and PW documents that address P2MP.</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limited degree of profiling of the text in those documents to map to the P2MP requirements published in RFC5654.</a:t>
            </a:r>
            <a:endParaRPr b="0" lang="en-US" sz="24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hmk-mpls-tp-p2mp-oam-framework</a:t>
            </a:r>
            <a:endParaRPr b="0" lang="en-US" sz="36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raft provides valuable input, and the authors of the p2mp framework feel that rather than incorporate the whole of the above draft, it would be better if the authors of the OAM draft provide a summary for inclusion in this document  and then publish draft-hmk-mpls-tp-p2mp-oam-framework as a freestanding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endParaRPr b="0" lang="en-US" sz="4400" spc="-1" strike="noStrike">
              <a:solidFill>
                <a:srgbClr val="000000"/>
              </a:solidFill>
              <a:latin typeface="Arial"/>
            </a:endParaRPr>
          </a:p>
        </p:txBody>
      </p:sp>
      <p:sp>
        <p:nvSpPr>
          <p:cNvPr id="50" name=""/>
          <p:cNvSpPr txBox="1"/>
          <p:nvPr/>
        </p:nvSpPr>
        <p:spPr>
          <a:xfrm>
            <a:off x="685800" y="198108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ors think that this draft is a good starting point to bring the document under the control of the MPLS Working group and ask for its adoption as a WG ite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ppreciate and look forward to review comments so that we can complete this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11:18:53Z</dcterms:created>
  <dc:creator>Danny McPherson</dc:creator>
  <dc:description/>
  <dc:language>en-US</dc:language>
  <cp:lastModifiedBy>Cisco Employee</cp:lastModifiedBy>
  <dcterms:modified xsi:type="dcterms:W3CDTF">2012-08-02T20:53:48Z</dcterms:modified>
  <cp:revision>41</cp:revision>
  <dc:subject/>
  <dc:title>PWE3 WG Document Status</dc:title>
</cp:coreProperties>
</file>