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185A-7CFF-4F9E-A595-5CFBEA642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F12B-315C-4CC7-8B23-05399622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F0A5-8C58-4B5B-A049-9531D1E03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3D69-53E2-4BB9-A5CF-870CF6130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37C7-1A91-4542-AB3E-ED6DCFEB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5B53-FE6D-4322-9DD5-7A5C0E77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C65E-D1C8-4C63-AA6A-91E7C84C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9E20-0843-47D8-A111-2F75F013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2795-6BBA-42CA-A78B-26982E2A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9FBA-3F5D-41D6-993B-A596E560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C646-6699-4D37-B7E4-E2071A8D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4526-3444-4E50-B69E-F36D50ED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57FB-79BC-4AD0-9839-FC554B1384B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25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ETF84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framework for Point-to-Multipoint MPLS-TP OAM in case that return paths don’t exi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71720" y="3886200"/>
            <a:ext cx="6914880" cy="22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alibri"/>
              </a:rPr>
              <a:t>draft-hmk-mpls-tp-p2mp-oam-framework.tx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alibri"/>
              </a:rPr>
              <a:t>August 3, 2012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alibri"/>
              </a:rPr>
              <a:t>Yoshinori Koike</a:t>
            </a:r>
            <a:br>
              <a:rPr sz="2500"/>
            </a:br>
            <a:r>
              <a:rPr b="0" lang="en-US" sz="2500" spc="-1" strike="noStrike">
                <a:solidFill>
                  <a:srgbClr val="898989"/>
                </a:solidFill>
                <a:latin typeface="Calibri"/>
              </a:rPr>
              <a:t>Takafumi Haman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alibri"/>
              </a:rPr>
              <a:t>Masatoshi Namik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3"/>
          <p:cNvSpPr/>
          <p:nvPr/>
        </p:nvSpPr>
        <p:spPr>
          <a:xfrm>
            <a:off x="714240" y="1268280"/>
            <a:ext cx="7858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and for P2MP traffic is expected to increase due to the increase in new services such as IP-TV and video distribution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2MP is also important in terms of energy efficiency and efficient network resourc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reement in ITU-T to support moving forward p2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s://datatracker.ietf.org/liaison/1163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67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puts to develop  MPLS-TP p2mp framework draft(draft-fbb-mpls-tp-p2mp-framework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a fast step, focusing on the case of no return path, assuming that OAM is applied on p2mp transport path in conjunction with EMS/N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272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HGP創英角ｺﾞｼｯｸUB"/>
              </a:rPr>
              <a:t>OAM functional requirements in MPLS-TP (RFC586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AutoShape 22"/>
          <p:cNvSpPr/>
          <p:nvPr/>
        </p:nvSpPr>
        <p:spPr>
          <a:xfrm>
            <a:off x="203040" y="563400"/>
            <a:ext cx="8723520" cy="763920"/>
          </a:xfrm>
          <a:prstGeom prst="roundRect">
            <a:avLst>
              <a:gd name="adj" fmla="val 53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10800" bIns="10800" anchor="ctr">
            <a:noAutofit/>
          </a:bodyPr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AM functions are one of the most important key requirements in transport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47680" y="1430280"/>
          <a:ext cx="8658360" cy="4969080"/>
        </p:xfrm>
        <a:graphic>
          <a:graphicData uri="http://schemas.openxmlformats.org/drawingml/2006/table">
            <a:tbl>
              <a:tblPr/>
              <a:tblGrid>
                <a:gridCol w="453960"/>
                <a:gridCol w="1800360"/>
                <a:gridCol w="763560"/>
                <a:gridCol w="56404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OAM functional requir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Fun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Cont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Continuity Chec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Monitor liveliness of transport pa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Connec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Verif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C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Determine whether or not it is connected to specific e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point(s) of transport pa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Route Trac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Discover intermediate (if any) and end point(s) along transport pa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Diagnosti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Te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D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Conduct diagnostic tests on transport pa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(estimating bandwidth,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performing loop-back (LB) function of all data and OAM traffic (data-plan LB)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Lock Instru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Instruct its associated end point(s) to lock transport pa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Lock 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L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Report lock condition from intermediate point to end point of transport pa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Alarm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Report fault or defect condition to end point of transport pa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Remote Defec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Ind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RD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Report fault or defect condition to its associated e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p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Client Fail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Ind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CF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Propagate information pertaining to client defect or fault condi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Packet Los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Measur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L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Quantify packet loss ratio over transport pa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Packet Del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Measur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D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Quantify delay of transport path (1-way and 2-wa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直方体 2"/>
          <p:cNvSpPr/>
          <p:nvPr/>
        </p:nvSpPr>
        <p:spPr>
          <a:xfrm>
            <a:off x="471600" y="4429080"/>
            <a:ext cx="428400" cy="42876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角丸四角形 11"/>
          <p:cNvSpPr/>
          <p:nvPr/>
        </p:nvSpPr>
        <p:spPr>
          <a:xfrm>
            <a:off x="785880" y="2071800"/>
            <a:ext cx="1571400" cy="642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MS/N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方体 12"/>
          <p:cNvSpPr/>
          <p:nvPr/>
        </p:nvSpPr>
        <p:spPr>
          <a:xfrm>
            <a:off x="1257480" y="4000680"/>
            <a:ext cx="428400" cy="42840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方体 13"/>
          <p:cNvSpPr/>
          <p:nvPr/>
        </p:nvSpPr>
        <p:spPr>
          <a:xfrm>
            <a:off x="1257480" y="4857840"/>
            <a:ext cx="428400" cy="42840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方体 14"/>
          <p:cNvSpPr/>
          <p:nvPr/>
        </p:nvSpPr>
        <p:spPr>
          <a:xfrm>
            <a:off x="2185920" y="3500280"/>
            <a:ext cx="428760" cy="42876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方体 15"/>
          <p:cNvSpPr/>
          <p:nvPr/>
        </p:nvSpPr>
        <p:spPr>
          <a:xfrm>
            <a:off x="2185920" y="4500720"/>
            <a:ext cx="428760" cy="42840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方体 16"/>
          <p:cNvSpPr/>
          <p:nvPr/>
        </p:nvSpPr>
        <p:spPr>
          <a:xfrm>
            <a:off x="2114640" y="5500800"/>
            <a:ext cx="428400" cy="42840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方体 17"/>
          <p:cNvSpPr/>
          <p:nvPr/>
        </p:nvSpPr>
        <p:spPr>
          <a:xfrm>
            <a:off x="3043080" y="3000240"/>
            <a:ext cx="428760" cy="42876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方体 18"/>
          <p:cNvSpPr/>
          <p:nvPr/>
        </p:nvSpPr>
        <p:spPr>
          <a:xfrm>
            <a:off x="3043080" y="3857760"/>
            <a:ext cx="428760" cy="42840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方体 19"/>
          <p:cNvSpPr/>
          <p:nvPr/>
        </p:nvSpPr>
        <p:spPr>
          <a:xfrm>
            <a:off x="3043080" y="6143760"/>
            <a:ext cx="428760" cy="42840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線コネクタ 21"/>
          <p:cNvSpPr/>
          <p:nvPr/>
        </p:nvSpPr>
        <p:spPr>
          <a:xfrm flipV="1">
            <a:off x="793800" y="4268880"/>
            <a:ext cx="463680" cy="428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線コネクタ 24"/>
          <p:cNvSpPr/>
          <p:nvPr/>
        </p:nvSpPr>
        <p:spPr>
          <a:xfrm>
            <a:off x="900000" y="4589640"/>
            <a:ext cx="357480" cy="411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線コネクタ 27"/>
          <p:cNvSpPr/>
          <p:nvPr/>
        </p:nvSpPr>
        <p:spPr>
          <a:xfrm flipV="1">
            <a:off x="1685880" y="3768480"/>
            <a:ext cx="500040" cy="392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線コネクタ 30"/>
          <p:cNvSpPr/>
          <p:nvPr/>
        </p:nvSpPr>
        <p:spPr>
          <a:xfrm flipV="1">
            <a:off x="1685880" y="4768920"/>
            <a:ext cx="500040" cy="249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線コネクタ 33"/>
          <p:cNvSpPr/>
          <p:nvPr/>
        </p:nvSpPr>
        <p:spPr>
          <a:xfrm>
            <a:off x="1685880" y="4160880"/>
            <a:ext cx="500040" cy="608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線コネクタ 36"/>
          <p:cNvSpPr/>
          <p:nvPr/>
        </p:nvSpPr>
        <p:spPr>
          <a:xfrm>
            <a:off x="2614680" y="3857760"/>
            <a:ext cx="428400" cy="268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線コネクタ 39"/>
          <p:cNvSpPr/>
          <p:nvPr/>
        </p:nvSpPr>
        <p:spPr>
          <a:xfrm>
            <a:off x="2347200" y="3929040"/>
            <a:ext cx="106200" cy="57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線コネクタ 42"/>
          <p:cNvSpPr/>
          <p:nvPr/>
        </p:nvSpPr>
        <p:spPr>
          <a:xfrm flipV="1">
            <a:off x="2614680" y="3429000"/>
            <a:ext cx="590400" cy="231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線コネクタ 46"/>
          <p:cNvSpPr/>
          <p:nvPr/>
        </p:nvSpPr>
        <p:spPr>
          <a:xfrm>
            <a:off x="1685880" y="5018040"/>
            <a:ext cx="428760" cy="7509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線コネクタ 50"/>
          <p:cNvSpPr/>
          <p:nvPr/>
        </p:nvSpPr>
        <p:spPr>
          <a:xfrm>
            <a:off x="2347200" y="4929120"/>
            <a:ext cx="34920" cy="57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線コネクタ 53"/>
          <p:cNvSpPr/>
          <p:nvPr/>
        </p:nvSpPr>
        <p:spPr>
          <a:xfrm flipH="1" flipV="1">
            <a:off x="2471400" y="5857560"/>
            <a:ext cx="571320" cy="554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線コネクタ 57"/>
          <p:cNvSpPr/>
          <p:nvPr/>
        </p:nvSpPr>
        <p:spPr>
          <a:xfrm flipH="1">
            <a:off x="2614680" y="4125960"/>
            <a:ext cx="428400" cy="5349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フリーフォーム 61"/>
          <p:cNvSpPr/>
          <p:nvPr/>
        </p:nvSpPr>
        <p:spPr>
          <a:xfrm>
            <a:off x="857160" y="3232080"/>
            <a:ext cx="2125800" cy="1005120"/>
          </a:xfrm>
          <a:custGeom>
            <a:avLst/>
            <a:gdLst/>
            <a:ahLst/>
            <a:rect l="l" t="t" r="r" b="b"/>
            <a:pathLst>
              <a:path w="2125014" h="1004552">
                <a:moveTo>
                  <a:pt x="0" y="1004552"/>
                </a:moveTo>
                <a:lnTo>
                  <a:pt x="656823" y="450761"/>
                </a:lnTo>
                <a:lnTo>
                  <a:pt x="212501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フリーフォーム 62"/>
          <p:cNvSpPr/>
          <p:nvPr/>
        </p:nvSpPr>
        <p:spPr>
          <a:xfrm>
            <a:off x="922320" y="4224240"/>
            <a:ext cx="1247760" cy="630360"/>
          </a:xfrm>
          <a:custGeom>
            <a:avLst/>
            <a:gdLst/>
            <a:ahLst/>
            <a:rect l="l" t="t" r="r" b="b"/>
            <a:pathLst>
              <a:path w="1249251" h="631065">
                <a:moveTo>
                  <a:pt x="0" y="141668"/>
                </a:moveTo>
                <a:lnTo>
                  <a:pt x="321972" y="0"/>
                </a:lnTo>
                <a:lnTo>
                  <a:pt x="1159099" y="631065"/>
                </a:lnTo>
                <a:lnTo>
                  <a:pt x="1249251" y="6053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フリーフォーム 63"/>
          <p:cNvSpPr/>
          <p:nvPr/>
        </p:nvSpPr>
        <p:spPr>
          <a:xfrm>
            <a:off x="806400" y="4932360"/>
            <a:ext cx="2176560" cy="1506600"/>
          </a:xfrm>
          <a:custGeom>
            <a:avLst/>
            <a:gdLst/>
            <a:ahLst/>
            <a:rect l="l" t="t" r="r" b="b"/>
            <a:pathLst>
              <a:path w="2176529" h="1506829">
                <a:moveTo>
                  <a:pt x="0" y="0"/>
                </a:moveTo>
                <a:lnTo>
                  <a:pt x="2176529" y="15068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直線矢印コネクタ 65"/>
          <p:cNvCxnSpPr>
            <a:stCxn id="59" idx="0"/>
            <a:endCxn id="51" idx="2"/>
          </p:cNvCxnSpPr>
          <p:nvPr/>
        </p:nvCxnSpPr>
        <p:spPr>
          <a:xfrm flipH="1" flipV="1">
            <a:off x="1571040" y="2714040"/>
            <a:ext cx="1740600" cy="342972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76" name="直線矢印コネクタ 66"/>
          <p:cNvCxnSpPr>
            <a:stCxn id="55" idx="1"/>
            <a:endCxn id="51" idx="2"/>
          </p:cNvCxnSpPr>
          <p:nvPr/>
        </p:nvCxnSpPr>
        <p:spPr>
          <a:xfrm flipH="1" flipV="1">
            <a:off x="1571400" y="2714400"/>
            <a:ext cx="776880" cy="189432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77" name="直線矢印コネクタ 69"/>
          <p:cNvCxnSpPr>
            <a:stCxn id="57" idx="1"/>
            <a:endCxn id="51" idx="2"/>
          </p:cNvCxnSpPr>
          <p:nvPr/>
        </p:nvCxnSpPr>
        <p:spPr>
          <a:xfrm flipH="1" flipV="1">
            <a:off x="1571040" y="2714040"/>
            <a:ext cx="1634040" cy="39276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78" name="直方体 74"/>
          <p:cNvSpPr/>
          <p:nvPr/>
        </p:nvSpPr>
        <p:spPr>
          <a:xfrm>
            <a:off x="3043080" y="5286240"/>
            <a:ext cx="428760" cy="42876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線コネクタ 75"/>
          <p:cNvSpPr/>
          <p:nvPr/>
        </p:nvSpPr>
        <p:spPr>
          <a:xfrm flipH="1" flipV="1">
            <a:off x="2614680" y="4660560"/>
            <a:ext cx="428400" cy="893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線コネクタ 78"/>
          <p:cNvSpPr/>
          <p:nvPr/>
        </p:nvSpPr>
        <p:spPr>
          <a:xfrm flipH="1">
            <a:off x="2542680" y="5554800"/>
            <a:ext cx="500040" cy="303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角丸四角形吹き出し 84"/>
          <p:cNvSpPr/>
          <p:nvPr/>
        </p:nvSpPr>
        <p:spPr>
          <a:xfrm>
            <a:off x="2786040" y="2071800"/>
            <a:ext cx="1428840" cy="571320"/>
          </a:xfrm>
          <a:prstGeom prst="wedgeRoundRectCallout">
            <a:avLst>
              <a:gd name="adj1" fmla="val -63199"/>
              <a:gd name="adj2" fmla="val 107569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ort from target M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タイトル 1"/>
          <p:cNvSpPr/>
          <p:nvPr/>
        </p:nvSpPr>
        <p:spPr>
          <a:xfrm>
            <a:off x="42876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step: in case of no return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方体 92"/>
          <p:cNvSpPr/>
          <p:nvPr/>
        </p:nvSpPr>
        <p:spPr>
          <a:xfrm>
            <a:off x="5143680" y="4670280"/>
            <a:ext cx="428400" cy="42876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方体 93"/>
          <p:cNvSpPr/>
          <p:nvPr/>
        </p:nvSpPr>
        <p:spPr>
          <a:xfrm>
            <a:off x="5929200" y="4241880"/>
            <a:ext cx="428760" cy="42840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方体 94"/>
          <p:cNvSpPr/>
          <p:nvPr/>
        </p:nvSpPr>
        <p:spPr>
          <a:xfrm>
            <a:off x="5929200" y="5099040"/>
            <a:ext cx="428760" cy="42876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方体 95"/>
          <p:cNvSpPr/>
          <p:nvPr/>
        </p:nvSpPr>
        <p:spPr>
          <a:xfrm>
            <a:off x="6858000" y="3741840"/>
            <a:ext cx="428760" cy="42840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方体 96"/>
          <p:cNvSpPr/>
          <p:nvPr/>
        </p:nvSpPr>
        <p:spPr>
          <a:xfrm>
            <a:off x="6858000" y="4741920"/>
            <a:ext cx="428760" cy="42840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方体 97"/>
          <p:cNvSpPr/>
          <p:nvPr/>
        </p:nvSpPr>
        <p:spPr>
          <a:xfrm>
            <a:off x="6786720" y="5742000"/>
            <a:ext cx="428400" cy="42876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方体 98"/>
          <p:cNvSpPr/>
          <p:nvPr/>
        </p:nvSpPr>
        <p:spPr>
          <a:xfrm>
            <a:off x="7715160" y="3241800"/>
            <a:ext cx="428760" cy="42840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方体 99"/>
          <p:cNvSpPr/>
          <p:nvPr/>
        </p:nvSpPr>
        <p:spPr>
          <a:xfrm>
            <a:off x="7715160" y="4098960"/>
            <a:ext cx="428760" cy="42876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方体 100"/>
          <p:cNvSpPr/>
          <p:nvPr/>
        </p:nvSpPr>
        <p:spPr>
          <a:xfrm>
            <a:off x="7715160" y="6384960"/>
            <a:ext cx="428760" cy="42876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線コネクタ 101"/>
          <p:cNvSpPr/>
          <p:nvPr/>
        </p:nvSpPr>
        <p:spPr>
          <a:xfrm flipV="1">
            <a:off x="5465880" y="4509720"/>
            <a:ext cx="46332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線コネクタ 102"/>
          <p:cNvSpPr/>
          <p:nvPr/>
        </p:nvSpPr>
        <p:spPr>
          <a:xfrm>
            <a:off x="5572080" y="4830840"/>
            <a:ext cx="357120" cy="411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線コネクタ 103"/>
          <p:cNvSpPr/>
          <p:nvPr/>
        </p:nvSpPr>
        <p:spPr>
          <a:xfrm flipV="1">
            <a:off x="6357960" y="4009680"/>
            <a:ext cx="500040" cy="392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線コネクタ 104"/>
          <p:cNvSpPr/>
          <p:nvPr/>
        </p:nvSpPr>
        <p:spPr>
          <a:xfrm flipV="1">
            <a:off x="6357960" y="5010120"/>
            <a:ext cx="500040" cy="249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線コネクタ 105"/>
          <p:cNvSpPr/>
          <p:nvPr/>
        </p:nvSpPr>
        <p:spPr>
          <a:xfrm>
            <a:off x="6357960" y="4402080"/>
            <a:ext cx="500040" cy="608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線コネクタ 106"/>
          <p:cNvSpPr/>
          <p:nvPr/>
        </p:nvSpPr>
        <p:spPr>
          <a:xfrm>
            <a:off x="7286760" y="4098960"/>
            <a:ext cx="428400" cy="268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線コネクタ 107"/>
          <p:cNvSpPr/>
          <p:nvPr/>
        </p:nvSpPr>
        <p:spPr>
          <a:xfrm>
            <a:off x="7018200" y="4170240"/>
            <a:ext cx="108000" cy="57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線コネクタ 108"/>
          <p:cNvSpPr/>
          <p:nvPr/>
        </p:nvSpPr>
        <p:spPr>
          <a:xfrm flipV="1">
            <a:off x="7286760" y="3670200"/>
            <a:ext cx="588960" cy="231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線コネクタ 109"/>
          <p:cNvSpPr/>
          <p:nvPr/>
        </p:nvSpPr>
        <p:spPr>
          <a:xfrm>
            <a:off x="6357960" y="5259240"/>
            <a:ext cx="428760" cy="7509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線コネクタ 110"/>
          <p:cNvSpPr/>
          <p:nvPr/>
        </p:nvSpPr>
        <p:spPr>
          <a:xfrm>
            <a:off x="7018200" y="5170320"/>
            <a:ext cx="36720" cy="57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線コネクタ 111"/>
          <p:cNvSpPr/>
          <p:nvPr/>
        </p:nvSpPr>
        <p:spPr>
          <a:xfrm flipH="1" flipV="1">
            <a:off x="7143480" y="6098760"/>
            <a:ext cx="571320" cy="554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線コネクタ 112"/>
          <p:cNvSpPr/>
          <p:nvPr/>
        </p:nvSpPr>
        <p:spPr>
          <a:xfrm flipH="1">
            <a:off x="7286760" y="4367160"/>
            <a:ext cx="428400" cy="5349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フリーフォーム 113"/>
          <p:cNvSpPr/>
          <p:nvPr/>
        </p:nvSpPr>
        <p:spPr>
          <a:xfrm>
            <a:off x="5529240" y="3473280"/>
            <a:ext cx="2124000" cy="1005120"/>
          </a:xfrm>
          <a:custGeom>
            <a:avLst/>
            <a:gdLst/>
            <a:ahLst/>
            <a:rect l="l" t="t" r="r" b="b"/>
            <a:pathLst>
              <a:path w="2125014" h="1004552">
                <a:moveTo>
                  <a:pt x="0" y="1004552"/>
                </a:moveTo>
                <a:lnTo>
                  <a:pt x="656823" y="450761"/>
                </a:lnTo>
                <a:lnTo>
                  <a:pt x="212501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フリーフォーム 114"/>
          <p:cNvSpPr/>
          <p:nvPr/>
        </p:nvSpPr>
        <p:spPr>
          <a:xfrm>
            <a:off x="5592600" y="4465800"/>
            <a:ext cx="1249560" cy="630000"/>
          </a:xfrm>
          <a:custGeom>
            <a:avLst/>
            <a:gdLst/>
            <a:ahLst/>
            <a:rect l="l" t="t" r="r" b="b"/>
            <a:pathLst>
              <a:path w="1249251" h="631065">
                <a:moveTo>
                  <a:pt x="0" y="141668"/>
                </a:moveTo>
                <a:lnTo>
                  <a:pt x="321972" y="0"/>
                </a:lnTo>
                <a:lnTo>
                  <a:pt x="1159099" y="631065"/>
                </a:lnTo>
                <a:lnTo>
                  <a:pt x="1249251" y="6053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フリーフォーム 115"/>
          <p:cNvSpPr/>
          <p:nvPr/>
        </p:nvSpPr>
        <p:spPr>
          <a:xfrm>
            <a:off x="5477040" y="5173560"/>
            <a:ext cx="2176200" cy="1506600"/>
          </a:xfrm>
          <a:custGeom>
            <a:avLst/>
            <a:gdLst/>
            <a:ahLst/>
            <a:rect l="l" t="t" r="r" b="b"/>
            <a:pathLst>
              <a:path w="2176529" h="1506829">
                <a:moveTo>
                  <a:pt x="0" y="0"/>
                </a:moveTo>
                <a:lnTo>
                  <a:pt x="2176529" y="15068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方体 116"/>
          <p:cNvSpPr/>
          <p:nvPr/>
        </p:nvSpPr>
        <p:spPr>
          <a:xfrm>
            <a:off x="7715160" y="5527800"/>
            <a:ext cx="428760" cy="42840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線コネクタ 117"/>
          <p:cNvSpPr/>
          <p:nvPr/>
        </p:nvSpPr>
        <p:spPr>
          <a:xfrm flipH="1" flipV="1">
            <a:off x="7286760" y="4901760"/>
            <a:ext cx="428400" cy="893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線コネクタ 118"/>
          <p:cNvSpPr/>
          <p:nvPr/>
        </p:nvSpPr>
        <p:spPr>
          <a:xfrm flipH="1">
            <a:off x="7214760" y="5796000"/>
            <a:ext cx="500040" cy="303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フリーフォーム 119"/>
          <p:cNvSpPr/>
          <p:nvPr/>
        </p:nvSpPr>
        <p:spPr>
          <a:xfrm>
            <a:off x="5389560" y="2519280"/>
            <a:ext cx="2511360" cy="2165400"/>
          </a:xfrm>
          <a:custGeom>
            <a:avLst/>
            <a:gdLst/>
            <a:ahLst/>
            <a:rect l="l" t="t" r="r" b="b"/>
            <a:pathLst>
              <a:path w="2511381" h="2165797">
                <a:moveTo>
                  <a:pt x="2511381" y="684727"/>
                </a:moveTo>
                <a:cubicBezTo>
                  <a:pt x="2070279" y="342363"/>
                  <a:pt x="1629177" y="0"/>
                  <a:pt x="1210614" y="246845"/>
                </a:cubicBezTo>
                <a:cubicBezTo>
                  <a:pt x="792051" y="493690"/>
                  <a:pt x="396025" y="1329743"/>
                  <a:pt x="0" y="2165797"/>
                </a:cubicBezTo>
              </a:path>
            </a:pathLst>
          </a:custGeom>
          <a:noFill/>
          <a:ln w="9360">
            <a:solidFill>
              <a:srgbClr val="00b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フリーフォーム 121"/>
          <p:cNvSpPr/>
          <p:nvPr/>
        </p:nvSpPr>
        <p:spPr>
          <a:xfrm>
            <a:off x="5415120" y="2943360"/>
            <a:ext cx="1635120" cy="1792080"/>
          </a:xfrm>
          <a:custGeom>
            <a:avLst/>
            <a:gdLst/>
            <a:ahLst/>
            <a:rect l="l" t="t" r="r" b="b"/>
            <a:pathLst>
              <a:path w="1635617" h="1792310">
                <a:moveTo>
                  <a:pt x="1635617" y="1792310"/>
                </a:moveTo>
                <a:cubicBezTo>
                  <a:pt x="1559417" y="911180"/>
                  <a:pt x="1483217" y="30050"/>
                  <a:pt x="1210614" y="15025"/>
                </a:cubicBezTo>
                <a:cubicBezTo>
                  <a:pt x="938011" y="0"/>
                  <a:pt x="469005" y="851079"/>
                  <a:pt x="0" y="1702158"/>
                </a:cubicBezTo>
              </a:path>
            </a:pathLst>
          </a:custGeom>
          <a:noFill/>
          <a:ln w="9360">
            <a:solidFill>
              <a:srgbClr val="00b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フリーフォーム 122"/>
          <p:cNvSpPr/>
          <p:nvPr/>
        </p:nvSpPr>
        <p:spPr>
          <a:xfrm>
            <a:off x="5357880" y="2200320"/>
            <a:ext cx="2498760" cy="4327560"/>
          </a:xfrm>
          <a:custGeom>
            <a:avLst/>
            <a:gdLst/>
            <a:ahLst/>
            <a:rect l="l" t="t" r="r" b="b"/>
            <a:pathLst>
              <a:path w="2498502" h="4327301">
                <a:moveTo>
                  <a:pt x="2498502" y="4327301"/>
                </a:moveTo>
                <a:cubicBezTo>
                  <a:pt x="2123941" y="2839791"/>
                  <a:pt x="1749380" y="1352281"/>
                  <a:pt x="1519707" y="682580"/>
                </a:cubicBezTo>
                <a:cubicBezTo>
                  <a:pt x="1290034" y="12879"/>
                  <a:pt x="1373746" y="0"/>
                  <a:pt x="1120462" y="309093"/>
                </a:cubicBezTo>
                <a:cubicBezTo>
                  <a:pt x="867178" y="618186"/>
                  <a:pt x="433589" y="1577662"/>
                  <a:pt x="0" y="2537138"/>
                </a:cubicBezTo>
              </a:path>
            </a:pathLst>
          </a:custGeom>
          <a:noFill/>
          <a:ln w="9360">
            <a:solidFill>
              <a:srgbClr val="00b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雲形吹き出し 123"/>
          <p:cNvSpPr/>
          <p:nvPr/>
        </p:nvSpPr>
        <p:spPr>
          <a:xfrm>
            <a:off x="5500800" y="2241720"/>
            <a:ext cx="2643120" cy="896760"/>
          </a:xfrm>
          <a:prstGeom prst="cloudCallout">
            <a:avLst>
              <a:gd name="adj1" fmla="val -16152"/>
              <a:gd name="adj2" fmla="val 36787"/>
            </a:avLst>
          </a:prstGeom>
          <a:solidFill>
            <a:srgbClr val="ccffcc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HGP創英角ｺﾞｼｯｸUB"/>
              </a:rPr>
              <a:t>Out-of-band return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角丸四角形 124"/>
          <p:cNvSpPr/>
          <p:nvPr/>
        </p:nvSpPr>
        <p:spPr>
          <a:xfrm>
            <a:off x="285840" y="1628640"/>
            <a:ext cx="4357440" cy="5086440"/>
          </a:xfrm>
          <a:custGeom>
            <a:avLst/>
            <a:gdLst>
              <a:gd name="textAreaLeft" fmla="*/ 127800 w 4357440"/>
              <a:gd name="textAreaRight" fmla="*/ 4229640 w 4357440"/>
              <a:gd name="textAreaTop" fmla="*/ 127800 h 5086440"/>
              <a:gd name="textAreaBottom" fmla="*/ 4958640 h 5086440"/>
            </a:gdLst>
            <a:ahLst/>
            <a:rect l="textAreaLeft" t="textAreaTop" r="textAreaRight" b="textAreaBottom"/>
            <a:pathLst>
              <a:path w="21600" h="25213">
                <a:moveTo>
                  <a:pt x="2163" y="0"/>
                </a:moveTo>
                <a:arcTo wR="2163" hR="2163" stAng="16200000" swAng="-5400000"/>
                <a:lnTo>
                  <a:pt x="0" y="23050"/>
                </a:lnTo>
                <a:arcTo wR="2163" hR="2163" stAng="10800000" swAng="-5400000"/>
                <a:lnTo>
                  <a:pt x="19437" y="25213"/>
                </a:lnTo>
                <a:arcTo wR="2163" hR="2163" stAng="5400000" swAng="-5400000"/>
                <a:lnTo>
                  <a:pt x="21600" y="2163"/>
                </a:lnTo>
                <a:arcTo wR="2163" hR="2163" stAng="0" swAng="-5400000"/>
                <a:close/>
              </a:path>
            </a:pathLst>
          </a:cu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テキスト ボックス 125"/>
          <p:cNvSpPr/>
          <p:nvPr/>
        </p:nvSpPr>
        <p:spPr>
          <a:xfrm>
            <a:off x="500040" y="692280"/>
            <a:ext cx="817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st step:  Specify requirements, that is necessary information to manage p2mp transport path in case of no return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角丸四角形吹き出し 126"/>
          <p:cNvSpPr/>
          <p:nvPr/>
        </p:nvSpPr>
        <p:spPr>
          <a:xfrm>
            <a:off x="500040" y="5715000"/>
            <a:ext cx="1428840" cy="857160"/>
          </a:xfrm>
          <a:prstGeom prst="wedgeRoundRectCallout">
            <a:avLst>
              <a:gd name="adj1" fmla="val 24995"/>
              <a:gd name="adj2" fmla="val -69990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-band OAM pa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テキスト ボックス 127"/>
          <p:cNvSpPr/>
          <p:nvPr/>
        </p:nvSpPr>
        <p:spPr>
          <a:xfrm>
            <a:off x="590400" y="1619280"/>
            <a:ext cx="33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) OAM functions with EMS/N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テキスト ボックス 128"/>
          <p:cNvSpPr/>
          <p:nvPr/>
        </p:nvSpPr>
        <p:spPr>
          <a:xfrm>
            <a:off x="5214960" y="163044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) OAM functions with return paths to originating M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357120" y="1844640"/>
          <a:ext cx="8429760" cy="4694400"/>
        </p:xfrm>
        <a:graphic>
          <a:graphicData uri="http://schemas.openxmlformats.org/drawingml/2006/table">
            <a:tbl>
              <a:tblPr/>
              <a:tblGrid>
                <a:gridCol w="1119240"/>
                <a:gridCol w="2381400"/>
                <a:gridCol w="2428920"/>
                <a:gridCol w="2500200"/>
              </a:tblGrid>
              <a:tr h="63972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OAM fun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(RFC586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Proactive P2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On-demand P2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Calibri"/>
                          <a:ea typeface="ＭＳ 明朝"/>
                        </a:rPr>
                        <a:t>Proposed requirements for on-demand P2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C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Y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(in case a return path exist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Calibri"/>
                          <a:ea typeface="ＭＳ 明朝"/>
                        </a:rPr>
                        <a:t>Y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2660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Y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(in case a return path exist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Calibri"/>
                          <a:ea typeface="ＭＳ 明朝"/>
                        </a:rPr>
                        <a:t>Y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2660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D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Y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(in case a return path exist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Calibri"/>
                          <a:ea typeface="ＭＳ 明朝"/>
                        </a:rPr>
                        <a:t>Y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2660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Y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(in case a return path exist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L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RD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(in case a return path exist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ctr" pos="86688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ctr" pos="86688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CF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ctr" pos="86688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ctr" pos="86688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- (Already support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(only to enable the quantification of the one-way dela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(only to enable the quantification of the one-way dela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- (Already support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タイトル 1"/>
          <p:cNvSpPr/>
          <p:nvPr/>
        </p:nvSpPr>
        <p:spPr>
          <a:xfrm>
            <a:off x="42876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 on p2mp OAM requirements(RFC586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テキスト ボックス 3"/>
          <p:cNvSpPr/>
          <p:nvPr/>
        </p:nvSpPr>
        <p:spPr>
          <a:xfrm>
            <a:off x="428760" y="83664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n if no return path exists, OAM requirements should be achieved in conjunction  with EMS/NMS on CV, RT and D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タイトル 1"/>
          <p:cNvSpPr/>
          <p:nvPr/>
        </p:nvSpPr>
        <p:spPr>
          <a:xfrm>
            <a:off x="42876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コンテンツ プレースホルダ 2"/>
          <p:cNvSpPr/>
          <p:nvPr/>
        </p:nvSpPr>
        <p:spPr>
          <a:xfrm>
            <a:off x="457200" y="1000080"/>
            <a:ext cx="8229600" cy="49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what are covered in other RFCs and what are missing as p2mp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y necessary OAM information/monitored items to be managed at targeting nodes(MEPs)  based on the case in which no return path ex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y necessary OAM information at source node(MEP) or bud nodes(MIPs) based on the case in which  return path ex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orporate  contents into draft-fbb-mpls-tp-p2mp-framework a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コンテンツ プレースホルダ 2"/>
          <p:cNvSpPr/>
          <p:nvPr/>
        </p:nvSpPr>
        <p:spPr>
          <a:xfrm>
            <a:off x="457200" y="2500200"/>
            <a:ext cx="822960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3T08:26:02Z</dcterms:created>
  <dc:creator>Yoshinori Koike</dc:creator>
  <dc:description/>
  <dc:language>en-US</dc:language>
  <cp:lastModifiedBy>Yoshinori Koike</cp:lastModifiedBy>
  <dcterms:modified xsi:type="dcterms:W3CDTF">2012-08-03T02:32:24Z</dcterms:modified>
  <cp:revision>39</cp:revision>
  <dc:subject/>
  <dc:title>A framework for Point-to-Multipoint MPLS-TP OAM in case that return paths don’t exist</dc:title>
</cp:coreProperties>
</file>