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C677-6DD6-47B0-851F-986AE156D34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31FE-EDEE-4435-B40F-3420F36A620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EB0-C571-42B1-ABFF-A31EE01C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F05-2C1C-45EB-AB0A-C193417A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5506C-6E8E-4EA3-91B3-6BAA58C1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BC6C4-D910-4BDD-97BC-D16025EE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880AD-5FA5-4AFF-9B0F-3AEB4E18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08C21-915D-471D-AE05-B13ABB41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FDEF4-2842-4AD4-8320-38A4DA3F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06819-6488-410F-B8DB-222CDBB4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2FB61-8F3D-4F3A-9A12-4449DF53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46630-E78C-400B-BF82-E6BEEBC0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E7601-940B-4599-8355-51923959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462B0-D1BC-4334-B72C-6035DFF6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921-72B0-4F8F-8494-618837E1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CA7A6-3BE4-4834-8B4A-0A5D7978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C028F-3FF4-4D0E-9025-07546551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C5EB2-F9EB-4214-BC65-1C222117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CC3F4-11E1-4090-A630-FB043084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64AA8-581B-4E28-A50B-0661FDE3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1C3BE-8E68-4D43-9867-81453B54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D0D74-0F3C-4DAF-8AA6-7EE2E83F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E0CCB-53C6-4A8C-993D-7C462505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06D75-1FB0-45FF-A91B-8ACEECE7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A3FCD-016E-43E0-B2F7-04EA4A90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020-6F07-42BA-8CEB-9931A2C7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295C5-46EB-4766-A988-0EC7DEA9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3EBD2-669D-4FDC-A6F6-49CDE774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92FA2-687D-44AE-A4E7-407839E8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245C6-66AF-41CD-98B6-616D6601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E83C7-D2C5-4DAA-9646-D778F646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F8051-CC9A-4AC1-B33F-38BE4185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B71EB-E7AD-4A9B-94B6-FBC3C16E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12688-36E3-4A3F-A28F-99E9CF21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387E5-379A-4AE8-AAA1-3C014E31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BE5DE-06E8-4100-A544-D78647D0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5F0A-14FE-43D1-93E4-8952625C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1F638-BDBC-4D1C-8691-E027BDB5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8DB5E-3AA1-45E0-A646-CA97AB76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FD840-8682-49B0-8F69-AE9502C6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C7A0B-2A30-4FB3-B8E1-E6D038CC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7BEFA-3CFC-4C13-919E-592F5327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891E0-698B-471C-B319-34FACEB1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9A2E1-B03A-49F4-96DE-7C708006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C06A2-2B21-4572-9930-627E1DB9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59212-9386-4D53-8399-02CA25B9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BDF62-69D4-446F-878D-9FD1B840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DE82-4CD2-44C5-BF82-9850D5D6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FF01E-456C-470F-8DCF-F76444A9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2B82B-AEAD-463F-81FC-8AF73396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37DBE-FB7A-4D95-84B5-6E6D2D35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496AB-A612-43A4-AF7E-93881E93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02B3D-A0F0-470C-A317-8698BE05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C182-15E5-4F2A-80D0-4471DEA3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7DC5-3D65-490F-A470-483F5254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BF08-E44C-4765-BFF2-9D170A95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7447-024A-4F52-B7B0-6721591A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585C-1C9D-462F-AF98-469DCE76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C4F-63C7-4DDB-AF5E-E48491CB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710E-CCD3-40E8-94F7-CAF3B812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5DBD-0CBD-4E69-A3F8-CDC6797E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21BD-33E1-41E4-B91D-D7FC6C07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F901-1582-4B8E-A08F-01E8D366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C428-EAD9-46FB-ACA7-E677003D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A7610-0ED0-4AA3-B7CA-ABAD01EA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D46D9-5921-4C2C-B5DF-2011D96B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D1CC6-A697-40D5-B059-341F96A8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E947-FB84-4D9D-BFDE-140D41C8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D3B0F-6949-47DB-87B9-062F61E8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6F5-1C30-4D23-9582-D9C02F12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0338B-7041-4066-93B9-11F5D00D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175E8-D27C-4237-8871-EDDC6922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D62DA-9A8D-4CC6-B591-0ACE1CCE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5425D-3D8C-4261-97EE-6B6ED0DD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45970-749A-42D6-B62A-1BC93708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C668-C5B0-455E-B5C7-9906AB75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E788A-F7BB-4142-BD64-3F5FBB8A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B17A3-6B6D-4225-AFF4-A0E8251D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11482-4F31-4729-B900-514AD963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FDD00-4F11-47BC-AD71-67303F7D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A56-4AE7-498D-8D83-9E88B003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04F95-68C5-4F4F-8CEC-606A99D0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0DF10-C667-47DD-B4B3-65539947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CF6F4-3B85-4EE1-9F01-AA4748B3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50D78-1260-4E48-BB00-818BEA59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C9F79-BC49-448E-9F28-8D738186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E8B17-86C2-431B-AE2C-0A5AF926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3D2A-72A2-458A-A76A-9602B9E0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1746D-4216-4F09-A083-D18C9A05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5D179-B729-48C1-A75F-6893F1E8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B4742-C57E-43C2-92EC-EE37AECA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8D2-2515-4458-AFF1-171F3031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5F53C-BA3F-4FA6-A81D-8E5B9A6B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EA7A4-F11B-4851-81ED-E88691B8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F03B-786E-46EE-923A-738DF82C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0ED3B-A556-42C6-A8C7-B33E34AD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73523-0D20-4A67-803E-ED558B29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8395E-CAA0-4CA2-B449-5DEF983F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438B6-E562-4772-BE16-FFF894A7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165B6-E6F9-445C-BE03-BA027315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B6D2D-3542-4DB9-B56C-5D7855A2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371AE-61CF-4956-BC42-0D18B18F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9F5-4AA4-4AC9-984A-CB5DB450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D262F-8893-4DB8-86C7-610BDBAF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AEC6F-596C-400D-A719-CEFBBA43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81459-9190-4FCA-BFDC-2B924809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77E3B-8EF5-47E1-9592-0484A02F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38EDE-9166-4ADD-98A2-E931E348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F1883-D92E-46CF-ADA8-815B7ED3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F26E4-05A1-4D9E-883A-B02D7CAD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241A7-2C6B-457B-9D9A-61EBBB88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5D125-546B-46EC-B281-2B1E5FBD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957C7-5DB0-43CE-8D91-72C7AEC6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6E5-BB2D-4601-BDDF-9E0C35ED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6F081-9133-4833-BE57-FC053AFF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11A8B-DC74-44C7-9AF3-C54D2EDF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D832E-1B64-48C9-8D77-92694C76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F2411-F144-40A3-B6A5-8168A826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064FA-A2F1-46E6-9C8D-A1D7AE32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24663-1EF9-439C-8FC1-98EFD984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75BFD-56FA-450C-80A7-3E575EE8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47F0C-98B5-44A3-99AA-2B7C8B02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A9CCE-421F-4FC4-818E-39ECC0E0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7D8C3-F963-4C2F-AC16-EF743245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220-828F-4153-A18E-2CB1F879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58703-C9D6-4EC1-AE28-E0C8606C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B2D3E-0CE6-4D9A-B07B-BD0084E8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13A6D-ED15-466C-B364-8110FFEE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A80C3-5112-4DB8-8114-B38FDD46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04EBB-B648-4BF4-AD8D-7CBF6469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7CC04-3A1B-43D2-8DB6-747165C8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12B4F-9680-419B-BCF1-16074C6E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85046-D497-4ED1-86B8-9360BA4B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BB4CE-B195-4292-89AE-B2A17CF8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FF9E1-D248-44F2-8C21-F38393D2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DFF-C495-4F0E-8762-3A16EF00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BD552-2654-4761-BE13-3D750366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68754-447A-4E3D-B9D2-F8E55492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EB79B-D5D5-4337-8ED4-0748279B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2A240-0FE8-4946-9407-10021EC5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038C4-7A35-4C37-91A6-E0D9CD0F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D57C2-A19F-4798-804B-625F0055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B3F08-5FD6-4F11-9885-B1EC270A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20B6C-FEF3-474F-90F0-7EA9350E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C77F3-639F-43B5-8FA3-E8424242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8E557-F783-4986-813B-472D1024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4830-6FCB-4D20-8450-1E0388BA37D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70DD-EC93-4AAA-B9E7-8EAF2587BEE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9E5A-5085-4082-BE1A-D1F710773B7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0E07-2BFA-4D2E-B327-3C2BED1BA40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E054-12B6-4BD9-886A-F530D05472F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F7F2-055F-4B05-B279-435A7BE363E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1B65-B674-4A01-9453-9849CA9A55E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A5A1-81FC-46C2-A6A7-65D6CFC159A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5525-D8C4-417A-8267-A1B64F3C775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48B2-0D48-40F5-86C6-E97E0234F0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4369-89D3-4A71-A09E-B2A61F0D8E4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94F8-2E6D-4DDB-9344-E29031B55F3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280" y="1142640"/>
            <a:ext cx="88394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cho Relay Reply mechanism for LSP Ping </a:t>
            </a:r>
            <a:br>
              <a:rPr sz="36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raft-zjns-mpls-lsp-ping-relay-reply-00</a:t>
            </a:r>
            <a:br>
              <a:rPr sz="20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2590560" y="44956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yan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Zhe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izhong J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omas Nade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orge Swal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4 - Vancou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2320-78F6-4123-91AA-54C798D2517E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Object 14"/>
          <p:cNvGraphicFramePr/>
          <p:nvPr/>
        </p:nvGraphicFramePr>
        <p:xfrm>
          <a:off x="762120" y="1371600"/>
          <a:ext cx="70912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7091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Rectangle 2"/>
          <p:cNvSpPr/>
          <p:nvPr/>
        </p:nvSpPr>
        <p:spPr>
          <a:xfrm>
            <a:off x="76320" y="9907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ter-AS scenar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6019920"/>
            <a:ext cx="9040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P nodes would be unable to respond for the lack of IP reachable route to Initi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9"/>
          <p:cNvSpPr/>
          <p:nvPr/>
        </p:nvSpPr>
        <p:spPr>
          <a:xfrm>
            <a:off x="1143000" y="1828800"/>
            <a:ext cx="4724280" cy="46080"/>
          </a:xfrm>
          <a:custGeom>
            <a:avLst/>
            <a:gdLst/>
            <a:ahLst/>
            <a:rect l="l" t="t" r="r" b="b"/>
            <a:pathLst>
              <a:path w="3790122" h="768625">
                <a:moveTo>
                  <a:pt x="0" y="768625"/>
                </a:moveTo>
                <a:cubicBezTo>
                  <a:pt x="200991" y="528981"/>
                  <a:pt x="401982" y="289338"/>
                  <a:pt x="636104" y="172277"/>
                </a:cubicBezTo>
                <a:cubicBezTo>
                  <a:pt x="870226" y="55216"/>
                  <a:pt x="1404730" y="66260"/>
                  <a:pt x="1404730" y="66260"/>
                </a:cubicBezTo>
                <a:cubicBezTo>
                  <a:pt x="1811130" y="55217"/>
                  <a:pt x="2676939" y="0"/>
                  <a:pt x="3074504" y="106017"/>
                </a:cubicBezTo>
                <a:cubicBezTo>
                  <a:pt x="3472069" y="212034"/>
                  <a:pt x="3631095" y="457199"/>
                  <a:pt x="3790122" y="70236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10"/>
          <p:cNvSpPr/>
          <p:nvPr/>
        </p:nvSpPr>
        <p:spPr>
          <a:xfrm rot="18961200">
            <a:off x="5649480" y="1571400"/>
            <a:ext cx="358920" cy="396720"/>
          </a:xfrm>
          <a:custGeom>
            <a:avLst/>
            <a:gdLst/>
            <a:ahLst/>
            <a:rect l="l" t="t" r="r" b="b"/>
            <a:pathLst>
              <a:path w="516835" h="516835">
                <a:moveTo>
                  <a:pt x="516835" y="516835"/>
                </a:moveTo>
                <a:cubicBezTo>
                  <a:pt x="414130" y="374374"/>
                  <a:pt x="311426" y="231913"/>
                  <a:pt x="225287" y="145774"/>
                </a:cubicBezTo>
                <a:cubicBezTo>
                  <a:pt x="139148" y="59635"/>
                  <a:pt x="69574" y="29817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4"/>
          <p:cNvSpPr/>
          <p:nvPr/>
        </p:nvSpPr>
        <p:spPr>
          <a:xfrm>
            <a:off x="5715000" y="14763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5"/>
          <p:cNvSpPr/>
          <p:nvPr/>
        </p:nvSpPr>
        <p:spPr>
          <a:xfrm>
            <a:off x="7543800" y="2057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宋体"/>
              </a:rPr>
              <a:t>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6"/>
          <p:cNvSpPr/>
          <p:nvPr/>
        </p:nvSpPr>
        <p:spPr>
          <a:xfrm>
            <a:off x="3352680" y="1600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Echo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itle 1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Object 2"/>
          <p:cNvGraphicFramePr/>
          <p:nvPr/>
        </p:nvGraphicFramePr>
        <p:xfrm>
          <a:off x="457200" y="3733920"/>
          <a:ext cx="7964640" cy="21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733920"/>
                    <a:ext cx="79646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Rectangle 2"/>
          <p:cNvSpPr/>
          <p:nvPr/>
        </p:nvSpPr>
        <p:spPr>
          <a:xfrm>
            <a:off x="76320" y="32004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ter-area scenario in Seamless MPL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任意多边形 31"/>
          <p:cNvSpPr/>
          <p:nvPr/>
        </p:nvSpPr>
        <p:spPr>
          <a:xfrm>
            <a:off x="990720" y="3949560"/>
            <a:ext cx="6781680" cy="1231920"/>
          </a:xfrm>
          <a:custGeom>
            <a:avLst/>
            <a:gdLst/>
            <a:ahLst/>
            <a:rect l="l" t="t" r="r" b="b"/>
            <a:pathLst>
              <a:path w="7248939" h="1387061">
                <a:moveTo>
                  <a:pt x="0" y="625061"/>
                </a:moveTo>
                <a:cubicBezTo>
                  <a:pt x="181113" y="435113"/>
                  <a:pt x="362226" y="245166"/>
                  <a:pt x="596348" y="147983"/>
                </a:cubicBezTo>
                <a:cubicBezTo>
                  <a:pt x="830470" y="50800"/>
                  <a:pt x="1044713" y="59635"/>
                  <a:pt x="1404730" y="41965"/>
                </a:cubicBezTo>
                <a:cubicBezTo>
                  <a:pt x="1764747" y="24295"/>
                  <a:pt x="2433982" y="0"/>
                  <a:pt x="2756452" y="41965"/>
                </a:cubicBezTo>
                <a:cubicBezTo>
                  <a:pt x="3078922" y="83930"/>
                  <a:pt x="3072296" y="110435"/>
                  <a:pt x="3339548" y="293757"/>
                </a:cubicBezTo>
                <a:cubicBezTo>
                  <a:pt x="3606800" y="477079"/>
                  <a:pt x="4119217" y="965200"/>
                  <a:pt x="4359965" y="1141896"/>
                </a:cubicBezTo>
                <a:cubicBezTo>
                  <a:pt x="4600713" y="1318592"/>
                  <a:pt x="4448313" y="1320801"/>
                  <a:pt x="4784035" y="1353931"/>
                </a:cubicBezTo>
                <a:cubicBezTo>
                  <a:pt x="5119757" y="1387061"/>
                  <a:pt x="6025321" y="1364974"/>
                  <a:pt x="6374295" y="1340678"/>
                </a:cubicBezTo>
                <a:cubicBezTo>
                  <a:pt x="6723269" y="1316382"/>
                  <a:pt x="6732104" y="1276626"/>
                  <a:pt x="6877878" y="1208157"/>
                </a:cubicBezTo>
                <a:cubicBezTo>
                  <a:pt x="7023652" y="1139688"/>
                  <a:pt x="7136295" y="1034774"/>
                  <a:pt x="7248939" y="929861"/>
                </a:cubicBezTo>
              </a:path>
            </a:pathLst>
          </a:custGeom>
          <a:noFill/>
          <a:ln w="7632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任意多边形 32"/>
          <p:cNvSpPr/>
          <p:nvPr/>
        </p:nvSpPr>
        <p:spPr>
          <a:xfrm>
            <a:off x="914400" y="3733920"/>
            <a:ext cx="3581280" cy="709560"/>
          </a:xfrm>
          <a:custGeom>
            <a:avLst/>
            <a:gdLst/>
            <a:ahLst/>
            <a:rect l="l" t="t" r="r" b="b"/>
            <a:pathLst>
              <a:path w="3790122" h="768625">
                <a:moveTo>
                  <a:pt x="0" y="768625"/>
                </a:moveTo>
                <a:cubicBezTo>
                  <a:pt x="200991" y="528981"/>
                  <a:pt x="401982" y="289338"/>
                  <a:pt x="636104" y="172277"/>
                </a:cubicBezTo>
                <a:cubicBezTo>
                  <a:pt x="870226" y="55216"/>
                  <a:pt x="1404730" y="66260"/>
                  <a:pt x="1404730" y="66260"/>
                </a:cubicBezTo>
                <a:cubicBezTo>
                  <a:pt x="1811130" y="55217"/>
                  <a:pt x="2676939" y="0"/>
                  <a:pt x="3074504" y="106017"/>
                </a:cubicBezTo>
                <a:cubicBezTo>
                  <a:pt x="3472069" y="212034"/>
                  <a:pt x="3631095" y="457199"/>
                  <a:pt x="3790122" y="70236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任意多边形 33"/>
          <p:cNvSpPr/>
          <p:nvPr/>
        </p:nvSpPr>
        <p:spPr>
          <a:xfrm>
            <a:off x="4038480" y="3754440"/>
            <a:ext cx="517680" cy="515880"/>
          </a:xfrm>
          <a:custGeom>
            <a:avLst/>
            <a:gdLst/>
            <a:ahLst/>
            <a:rect l="l" t="t" r="r" b="b"/>
            <a:pathLst>
              <a:path w="516835" h="516835">
                <a:moveTo>
                  <a:pt x="516835" y="516835"/>
                </a:moveTo>
                <a:cubicBezTo>
                  <a:pt x="414130" y="374374"/>
                  <a:pt x="311426" y="231913"/>
                  <a:pt x="225287" y="145774"/>
                </a:cubicBezTo>
                <a:cubicBezTo>
                  <a:pt x="139148" y="59635"/>
                  <a:pt x="69574" y="29817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4"/>
          <p:cNvSpPr/>
          <p:nvPr/>
        </p:nvSpPr>
        <p:spPr>
          <a:xfrm>
            <a:off x="4267080" y="3809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5"/>
          <p:cNvSpPr/>
          <p:nvPr/>
        </p:nvSpPr>
        <p:spPr>
          <a:xfrm>
            <a:off x="7467480" y="5029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宋体"/>
              </a:rPr>
              <a:t>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6"/>
          <p:cNvSpPr/>
          <p:nvPr/>
        </p:nvSpPr>
        <p:spPr>
          <a:xfrm>
            <a:off x="2362320" y="353376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Echo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直接连接符 19"/>
          <p:cNvSpPr/>
          <p:nvPr/>
        </p:nvSpPr>
        <p:spPr>
          <a:xfrm>
            <a:off x="1371600" y="2057400"/>
            <a:ext cx="579132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灯片编号占位符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BC61-F4D0-4F16-B3D6-2E4CB8722439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圆角矩形 10"/>
          <p:cNvSpPr/>
          <p:nvPr/>
        </p:nvSpPr>
        <p:spPr>
          <a:xfrm>
            <a:off x="609480" y="1371600"/>
            <a:ext cx="7848720" cy="236232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23520" y="4800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raft-zjns-mpls-lsp-ping-relay-reply-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generic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虚尾箭头 11"/>
          <p:cNvSpPr/>
          <p:nvPr/>
        </p:nvSpPr>
        <p:spPr>
          <a:xfrm rot="5400000">
            <a:off x="3924000" y="3924360"/>
            <a:ext cx="990360" cy="609480"/>
          </a:xfrm>
          <a:custGeom>
            <a:avLst/>
            <a:gdLst/>
            <a:ahLst/>
            <a:rect l="l" t="t" r="r" b="b"/>
            <a:pathLst>
              <a:path w="990600" h="609600">
                <a:moveTo>
                  <a:pt x="0" y="166744"/>
                </a:moveTo>
                <a:lnTo>
                  <a:pt x="19050" y="166744"/>
                </a:lnTo>
                <a:lnTo>
                  <a:pt x="19050" y="442856"/>
                </a:lnTo>
                <a:lnTo>
                  <a:pt x="0" y="442856"/>
                </a:lnTo>
                <a:lnTo>
                  <a:pt x="0" y="166744"/>
                </a:lnTo>
                <a:close/>
                <a:moveTo>
                  <a:pt x="38100" y="166744"/>
                </a:moveTo>
                <a:lnTo>
                  <a:pt x="76200" y="166744"/>
                </a:lnTo>
                <a:lnTo>
                  <a:pt x="76200" y="442856"/>
                </a:lnTo>
                <a:lnTo>
                  <a:pt x="38100" y="442856"/>
                </a:lnTo>
                <a:lnTo>
                  <a:pt x="38100" y="166744"/>
                </a:lnTo>
                <a:close/>
                <a:moveTo>
                  <a:pt x="95250" y="166744"/>
                </a:moveTo>
                <a:lnTo>
                  <a:pt x="678625" y="166744"/>
                </a:lnTo>
                <a:lnTo>
                  <a:pt x="678625" y="0"/>
                </a:lnTo>
                <a:lnTo>
                  <a:pt x="990600" y="304800"/>
                </a:lnTo>
                <a:lnTo>
                  <a:pt x="678625" y="609600"/>
                </a:lnTo>
                <a:lnTo>
                  <a:pt x="678625" y="442856"/>
                </a:lnTo>
                <a:lnTo>
                  <a:pt x="95250" y="442856"/>
                </a:lnTo>
                <a:lnTo>
                  <a:pt x="95250" y="166744"/>
                </a:lnTo>
                <a:close/>
              </a:path>
            </a:pathLst>
          </a:custGeom>
          <a:solidFill>
            <a:srgbClr val="dbeef4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7"/>
          <p:cNvSpPr/>
          <p:nvPr/>
        </p:nvSpPr>
        <p:spPr>
          <a:xfrm>
            <a:off x="4724280" y="3962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ial"/>
                <a:ea typeface="宋体"/>
              </a:rPr>
              <a:t>Mer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1828800" y="1523880"/>
            <a:ext cx="5867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ietf-mpls-interas-lspping-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ly for Inter-AS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zj-mpls-lsp-ping-reply-relay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Mainly focused on Inter-Area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加号 9"/>
          <p:cNvSpPr/>
          <p:nvPr/>
        </p:nvSpPr>
        <p:spPr>
          <a:xfrm>
            <a:off x="4191120" y="23623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60602" y="145694"/>
                </a:moveTo>
                <a:lnTo>
                  <a:pt x="183794" y="145694"/>
                </a:lnTo>
                <a:lnTo>
                  <a:pt x="183794" y="50502"/>
                </a:lnTo>
                <a:lnTo>
                  <a:pt x="273406" y="50502"/>
                </a:lnTo>
                <a:lnTo>
                  <a:pt x="273406" y="145694"/>
                </a:lnTo>
                <a:lnTo>
                  <a:pt x="396598" y="145694"/>
                </a:lnTo>
                <a:lnTo>
                  <a:pt x="396598" y="235306"/>
                </a:lnTo>
                <a:lnTo>
                  <a:pt x="273406" y="235306"/>
                </a:lnTo>
                <a:lnTo>
                  <a:pt x="273406" y="330498"/>
                </a:lnTo>
                <a:lnTo>
                  <a:pt x="183794" y="330498"/>
                </a:lnTo>
                <a:lnTo>
                  <a:pt x="183794" y="235306"/>
                </a:lnTo>
                <a:lnTo>
                  <a:pt x="60602" y="235306"/>
                </a:lnTo>
                <a:lnTo>
                  <a:pt x="60602" y="14569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灯片编号占位符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D5D2-92A1-487E-AFB5-84A2F3EFDE69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LSP Ping Relay Reply Mechan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rotocol Extensions for MPLS LSP 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New Message typ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MPLS Echo Relay Reply me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New TLV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Relay Node Address Stack TL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asic 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Echo Relay Reply: both Src &amp; Des UDP Ports are 350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4" name="Object 4"/>
          <p:cNvGraphicFramePr/>
          <p:nvPr/>
        </p:nvGraphicFramePr>
        <p:xfrm>
          <a:off x="1981080" y="4535640"/>
          <a:ext cx="5319720" cy="14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535640"/>
                    <a:ext cx="531972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直接连接符 8"/>
          <p:cNvSpPr/>
          <p:nvPr/>
        </p:nvSpPr>
        <p:spPr>
          <a:xfrm>
            <a:off x="2590920" y="4800600"/>
            <a:ext cx="388620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4732-EFD0-4E1E-A20B-64155DA21D14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lay Node Address Stack TL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250920" y="1523880"/>
            <a:ext cx="8507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856560" cy="23810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9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6904080" cy="15242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"/>
          <p:cNvSpPr/>
          <p:nvPr/>
        </p:nvSpPr>
        <p:spPr>
          <a:xfrm>
            <a:off x="228600" y="4267080"/>
            <a:ext cx="8507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Relayed Address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灯片编号占位符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6B7B-8E8D-499E-9DD3-776C02A253FE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Object 6"/>
          <p:cNvGraphicFramePr/>
          <p:nvPr/>
        </p:nvGraphicFramePr>
        <p:xfrm>
          <a:off x="1066680" y="533520"/>
          <a:ext cx="7391520" cy="62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33520"/>
                    <a:ext cx="7391520" cy="62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An Example: Inter-AS Scenar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直接连接符 4"/>
          <p:cNvSpPr/>
          <p:nvPr/>
        </p:nvSpPr>
        <p:spPr>
          <a:xfrm>
            <a:off x="1752480" y="1066680"/>
            <a:ext cx="617220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710A-641F-46A8-9518-FE51218DA9D7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4 - Vancou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250920" y="1523880"/>
            <a:ext cx="85071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eek feedback from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Ask for WG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11DC-D923-4CCB-9786-4518FF2F231E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ETF 84</dc:creator>
  <dc:description/>
  <dc:language>en-US</dc:language>
  <cp:lastModifiedBy>Thomas Nadeau</cp:lastModifiedBy>
  <dcterms:modified xsi:type="dcterms:W3CDTF">2012-07-26T18:24:58Z</dcterms:modified>
  <cp:revision>522</cp:revision>
  <dc:subject/>
  <dc:title>draft-zjns-mpls-lsp-ping-relay-reply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9119092</vt:lpwstr>
  </property>
</Properties>
</file>