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6FD9-D0CC-4DB4-BF15-F36298BE0EB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CCA8-6ABD-4FDF-AE1B-B15E5F00D5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FCC-D8D4-4909-89C6-EA1448ED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B0F-2FF3-4B6B-B7D2-6F1C5792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6826B-57C6-48BC-BD5E-B9214F83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42DFC-9AC6-4C34-80E0-C0ABB92A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897E2-2FE9-437E-A9C3-ED8AE8E4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87F77-CDC7-4E56-98F9-444BF8C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0ECE0-0F84-445F-A762-4A6B254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BAE4C-BBCE-4DAE-A82D-A1C3BA75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15EB4-813D-4EC9-A542-35C8786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6673F-FCEF-4E2C-9A61-17C60121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750F0-3E55-4146-8723-AD3EACF6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12FD9-D2D7-4CF4-A6E4-FD404F18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2C2-6FFF-4FC9-B7B4-DF11BC85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74ECB-03B1-4B38-86FD-834AD483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16702-31E3-42DA-A850-3109D1D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5EDF1-D6E8-4C38-BFEF-50DE957B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F358F-06DC-41E3-BBDC-6F23AC61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85A3C-20B9-4B1A-A12E-BB36E15B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A356F-5E3F-4D76-B971-03C8AEB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A3720-F563-4469-862B-8A473833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AECB8-AE2D-482E-A90F-6BA3631B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615F4-C1A8-45F3-BF47-C5C6CE4F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AC585-796F-4C4F-80FC-81CA5705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BA7-F761-47CC-BDBD-1CE93382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3AC06-651A-4B15-874F-F90F6DA7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1B64F-16C3-4206-A1C0-21B03399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41EDE-01CA-43E5-B734-77C40130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01F2B-9F7A-45CC-BC11-2A6DC61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09AD9-43CE-4A9A-9454-03C20821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F0F71-E219-46A4-86F1-C117A87B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86EB0-7C79-40E7-9D85-EDFC98A9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7A55C-1599-4EC4-9040-C55CE74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C81C5-C2B1-4774-B756-C2275AF5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50F33-F835-40F5-9369-5A290643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FE10-FDA7-4B1A-81DB-F830508F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27A31-C44D-4A1B-A169-825201B1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AF3EB-1242-4C8A-AB23-92D0086B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8326D-9363-4103-B871-19ECCB97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FB8A6-B2E1-428F-8561-0D5184B1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A7519-4AA5-4880-8941-428E0928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0F2DF-8E76-48CE-B003-E9E3BFD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10D32-6A02-43BB-A4EB-AC1590A3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4307A-12CA-44FE-B268-000A3D27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3EB89-75AB-46A6-A6A8-24D9FDA3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E6AAD-5DAB-49FE-BBFD-C522F64E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0309-FD3E-4B2E-AAB2-FC3A860A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F3CFB-BCF8-4490-8832-5A553B71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E9BBC-C000-4C06-9707-BD078190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34B65-863D-491F-B194-D8BFCD67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7076F-8F36-4A15-90E3-6FC8FF8F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84E40-8664-440F-8BC3-0C89E8A2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87C2-A75E-46E7-AC95-ECC0797D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B8C9-AE94-41BE-B86E-8D2D524A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69A6-7281-4336-B0B8-AE5E06D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2F1A-C538-472A-B1F6-3F839D46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CDFE-DEFB-4543-8349-6979401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EBF-3FB2-46D9-9D1F-AD5A1A71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48F4-7372-456D-A326-76C69C9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166E-4102-49F8-A3CC-FEE88B2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59DC-FB41-475E-9820-178031E6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E66F-C9BF-4CB4-9B93-C7F35C50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E0E0-50B2-4DC6-92D8-4C93AD7D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EA4E-CDDB-4B84-B8AD-4A977542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AEB9-6EBE-416A-824E-0CBF01AA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8E7A-9801-42E8-B3C6-AB341435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DD58-9FAC-4DF3-8D3E-CBBF068C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356F-20D3-4C64-9DA8-D91832BF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5D6-63E1-44FC-A3D3-21B7B085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F408-3B7F-4283-AC57-592F4C66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C4472-B3B9-4DA3-AF68-A72038A7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48C7-5231-4CA5-8D7B-3D995CCE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4D17-1DD5-497C-B0B7-8D7A54B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7492-9058-4852-939D-D55229F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E1F9-2CE1-4A6E-ACD2-2B0AA2AF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5D8E-B2B0-4CCD-97A3-DA1D9B53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9B6D-D79C-416A-BCBA-49D87A14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3F28-27E2-4FB9-B089-59282709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5B04D-51DB-4D64-A7C0-AE0D97C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0F6-F98A-4AF9-96C4-8BA5D49D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659C-FDC2-4C3E-A1A7-4223541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7385-699D-4F16-89DD-FAE59E21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80EA-70EB-4D9A-A934-B8043C7E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A9E2-7A83-4B7D-B083-22FFDA5A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22F7-75CA-447B-8B1A-F56BB55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E1E3-C02E-4730-83E7-9D7948A9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9A13A-4F94-4612-BDBD-C6DA7011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2C1C-23F5-4E6F-94EE-817D6FF4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F93C-9E11-4711-99A8-529A1DD9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3F77-1CF4-4662-9722-A0650805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249-E2D3-4AFE-9E9C-3125798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A95D-F0CB-4600-93F9-0E2F40ED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021A4-E197-4ABC-B8DB-CC28AE80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0B0F4-3451-4254-BACC-A671CAA9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82868-914C-43E5-9711-E9DA115D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9412-3670-4B3A-839F-EB7AB140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8584-85A4-4A73-A28B-EF2F3F60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95A6-C53B-4511-87A9-CC39EA2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BB74-2141-4BCE-916C-C4422BD7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FB2C-B585-4AEA-87F7-ED86728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2B80-86F4-40F7-977C-BB547F1F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188-A687-4AE3-88EF-3A334020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3E3A-AF27-4983-B4BE-F007B174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0A886-C38E-48D3-9CDC-22DB1003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823E9-08D3-4B05-BF2F-414751AF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D1A2C-CE80-41EE-803A-ED091F08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D953-CBF8-48EC-8938-0C65B460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0945A-45D8-407F-8F36-17396ABC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FECE4-2E71-42D5-8F9E-09A79AB6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B1894-2792-447E-8918-9D84E8D3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5F50-5073-41DC-A6F2-5D51164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76D9F-E58F-42F9-9CAB-DCCD5694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D02-8E4C-439E-87F5-F16A2E8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C2D67-09B6-4574-8917-6F035235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D69B-D836-44E1-BB59-01A70563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E5A2-0875-467E-A900-551A4B78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C52A5-EA58-48B4-BA51-39669778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E5A2-7120-481D-95DC-D1070AB2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42FBF-B7D0-49B6-A055-5D9EA658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3C305-BE94-4D60-9F0B-FB60DBB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CEEE1-9719-4065-B613-D835BBEC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5AA0-189B-4EC6-8777-A75ED3F2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D779E-DF78-4445-A5AD-AED3B89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940-EF3B-496D-A6E1-989A43B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8A32-ADEE-469A-905C-C4DA58A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B9185-E799-46C8-8136-D2374BB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770CD-AD6F-417B-A868-C8A442B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582DA-53F9-48A8-9506-D7F97E22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22E8F-3CF8-4765-8DFF-D0AA4BD4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E95E8-C029-4A4D-870E-FFA573D1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6803E-2522-4F98-9521-4EB27960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D8393-DA08-480B-892E-A5085323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6560E-57FC-46FB-862E-5B258F31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5D443-F10B-4CBA-9485-D55CDEC2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63C-5727-49B1-B141-235E242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E0DBB-87E3-4BFC-B57E-C846AF8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E8F7C-B097-40CF-B2A6-2D52535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135F4-5DFE-4F23-9A4C-ADBD5FB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00419-B57C-4760-909B-9C608C8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7E6BD-C532-46B8-BBF7-30577B36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A517E-D28C-4970-B303-F48CD344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CDB9C-A109-4713-85E5-F2853868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D4B0E-C552-49B8-BC98-FDCE7E64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03075-D45E-46CA-8363-35180C03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D3EC0-6AA6-44F4-9B9E-D9AF8A1C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A89-6000-4518-826F-2E2106A154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005A-9D8A-4342-8CEA-010A5E7422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05B-016B-4F6C-B432-9062A6E7B7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061-A283-4F7F-87C9-9189FD7523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BB32-A12D-4F49-9871-283B9DAF64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DD1-08BB-41AB-B319-3FE346235C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E944-1094-4B79-8753-44015AE7E0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3D9-369C-4912-BD89-FE6087DA50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0506-4111-4D5A-94C2-5881249A5A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264D-9E99-47D6-B908-22CD67B56D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3D50-CF5E-4C5D-B5EA-5F36DDDBD9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March 25,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77 - Anah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9250-D867-4F04-8589-2B288F316B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839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cho Relay Reply mechanism for LSP Ping </a:t>
            </a:r>
            <a:br>
              <a:rPr sz="36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raft-zjns-mpls-lsp-ping-relay-reply-00</a:t>
            </a:r>
            <a:br>
              <a:rPr sz="20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590560" y="44956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yan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Zhe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zhong J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omas Nad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orge Swa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4 - Vancou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C50B-9194-43FB-8954-87201C915C1A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Object 14"/>
          <p:cNvGraphicFramePr/>
          <p:nvPr/>
        </p:nvGraphicFramePr>
        <p:xfrm>
          <a:off x="762120" y="1371600"/>
          <a:ext cx="70912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091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2"/>
          <p:cNvSpPr/>
          <p:nvPr/>
        </p:nvSpPr>
        <p:spPr>
          <a:xfrm>
            <a:off x="76320" y="9907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ter-AS scenar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019920"/>
            <a:ext cx="90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 nodes would be unable to respond for the lack of IP reachable route to Initi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9"/>
          <p:cNvSpPr/>
          <p:nvPr/>
        </p:nvSpPr>
        <p:spPr>
          <a:xfrm>
            <a:off x="1143000" y="1828800"/>
            <a:ext cx="4724280" cy="46080"/>
          </a:xfrm>
          <a:custGeom>
            <a:avLst/>
            <a:gdLst/>
            <a:ahLst/>
            <a:rect l="l" t="t" r="r" b="b"/>
            <a:pathLst>
              <a:path w="3790122" h="768625">
                <a:moveTo>
                  <a:pt x="0" y="768625"/>
                </a:moveTo>
                <a:cubicBezTo>
                  <a:pt x="200991" y="528981"/>
                  <a:pt x="401982" y="289338"/>
                  <a:pt x="636104" y="172277"/>
                </a:cubicBezTo>
                <a:cubicBezTo>
                  <a:pt x="870226" y="55216"/>
                  <a:pt x="1404730" y="66260"/>
                  <a:pt x="1404730" y="66260"/>
                </a:cubicBezTo>
                <a:cubicBezTo>
                  <a:pt x="1811130" y="55217"/>
                  <a:pt x="2676939" y="0"/>
                  <a:pt x="3074504" y="106017"/>
                </a:cubicBezTo>
                <a:cubicBezTo>
                  <a:pt x="3472069" y="212034"/>
                  <a:pt x="3631095" y="457199"/>
                  <a:pt x="3790122" y="7023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10"/>
          <p:cNvSpPr/>
          <p:nvPr/>
        </p:nvSpPr>
        <p:spPr>
          <a:xfrm rot="18961200">
            <a:off x="5649480" y="1571400"/>
            <a:ext cx="358920" cy="396720"/>
          </a:xfrm>
          <a:custGeom>
            <a:avLst/>
            <a:gdLst/>
            <a:ahLst/>
            <a:rect l="l" t="t" r="r" b="b"/>
            <a:pathLst>
              <a:path w="516835" h="516835">
                <a:moveTo>
                  <a:pt x="516835" y="516835"/>
                </a:moveTo>
                <a:cubicBezTo>
                  <a:pt x="414130" y="374374"/>
                  <a:pt x="311426" y="231913"/>
                  <a:pt x="225287" y="145774"/>
                </a:cubicBezTo>
                <a:cubicBezTo>
                  <a:pt x="139148" y="59635"/>
                  <a:pt x="69574" y="2981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4"/>
          <p:cNvSpPr/>
          <p:nvPr/>
        </p:nvSpPr>
        <p:spPr>
          <a:xfrm>
            <a:off x="5715000" y="14763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5"/>
          <p:cNvSpPr/>
          <p:nvPr/>
        </p:nvSpPr>
        <p:spPr>
          <a:xfrm>
            <a:off x="7543800" y="2057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宋体"/>
              </a:rPr>
              <a:t>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6"/>
          <p:cNvSpPr/>
          <p:nvPr/>
        </p:nvSpPr>
        <p:spPr>
          <a:xfrm>
            <a:off x="3352680" y="1600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Echo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tle 1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2"/>
          <p:cNvGraphicFramePr/>
          <p:nvPr/>
        </p:nvGraphicFramePr>
        <p:xfrm>
          <a:off x="457200" y="3733920"/>
          <a:ext cx="796464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79646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2"/>
          <p:cNvSpPr/>
          <p:nvPr/>
        </p:nvSpPr>
        <p:spPr>
          <a:xfrm>
            <a:off x="76320" y="32004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ter-area scenario in Seamless MPL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任意多边形 31"/>
          <p:cNvSpPr/>
          <p:nvPr/>
        </p:nvSpPr>
        <p:spPr>
          <a:xfrm>
            <a:off x="990720" y="3949560"/>
            <a:ext cx="6781680" cy="1231920"/>
          </a:xfrm>
          <a:custGeom>
            <a:avLst/>
            <a:gdLst/>
            <a:ahLst/>
            <a:rect l="l" t="t" r="r" b="b"/>
            <a:pathLst>
              <a:path w="7248939" h="1387061">
                <a:moveTo>
                  <a:pt x="0" y="625061"/>
                </a:moveTo>
                <a:cubicBezTo>
                  <a:pt x="181113" y="435113"/>
                  <a:pt x="362226" y="245166"/>
                  <a:pt x="596348" y="147983"/>
                </a:cubicBezTo>
                <a:cubicBezTo>
                  <a:pt x="830470" y="50800"/>
                  <a:pt x="1044713" y="59635"/>
                  <a:pt x="1404730" y="41965"/>
                </a:cubicBezTo>
                <a:cubicBezTo>
                  <a:pt x="1764747" y="24295"/>
                  <a:pt x="2433982" y="0"/>
                  <a:pt x="2756452" y="41965"/>
                </a:cubicBezTo>
                <a:cubicBezTo>
                  <a:pt x="3078922" y="83930"/>
                  <a:pt x="3072296" y="110435"/>
                  <a:pt x="3339548" y="293757"/>
                </a:cubicBezTo>
                <a:cubicBezTo>
                  <a:pt x="3606800" y="477079"/>
                  <a:pt x="4119217" y="965200"/>
                  <a:pt x="4359965" y="1141896"/>
                </a:cubicBezTo>
                <a:cubicBezTo>
                  <a:pt x="4600713" y="1318592"/>
                  <a:pt x="4448313" y="1320801"/>
                  <a:pt x="4784035" y="1353931"/>
                </a:cubicBezTo>
                <a:cubicBezTo>
                  <a:pt x="5119757" y="1387061"/>
                  <a:pt x="6025321" y="1364974"/>
                  <a:pt x="6374295" y="1340678"/>
                </a:cubicBezTo>
                <a:cubicBezTo>
                  <a:pt x="6723269" y="1316382"/>
                  <a:pt x="6732104" y="1276626"/>
                  <a:pt x="6877878" y="1208157"/>
                </a:cubicBezTo>
                <a:cubicBezTo>
                  <a:pt x="7023652" y="1139688"/>
                  <a:pt x="7136295" y="1034774"/>
                  <a:pt x="7248939" y="929861"/>
                </a:cubicBezTo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任意多边形 32"/>
          <p:cNvSpPr/>
          <p:nvPr/>
        </p:nvSpPr>
        <p:spPr>
          <a:xfrm>
            <a:off x="914400" y="3733920"/>
            <a:ext cx="3581280" cy="709560"/>
          </a:xfrm>
          <a:custGeom>
            <a:avLst/>
            <a:gdLst/>
            <a:ahLst/>
            <a:rect l="l" t="t" r="r" b="b"/>
            <a:pathLst>
              <a:path w="3790122" h="768625">
                <a:moveTo>
                  <a:pt x="0" y="768625"/>
                </a:moveTo>
                <a:cubicBezTo>
                  <a:pt x="200991" y="528981"/>
                  <a:pt x="401982" y="289338"/>
                  <a:pt x="636104" y="172277"/>
                </a:cubicBezTo>
                <a:cubicBezTo>
                  <a:pt x="870226" y="55216"/>
                  <a:pt x="1404730" y="66260"/>
                  <a:pt x="1404730" y="66260"/>
                </a:cubicBezTo>
                <a:cubicBezTo>
                  <a:pt x="1811130" y="55217"/>
                  <a:pt x="2676939" y="0"/>
                  <a:pt x="3074504" y="106017"/>
                </a:cubicBezTo>
                <a:cubicBezTo>
                  <a:pt x="3472069" y="212034"/>
                  <a:pt x="3631095" y="457199"/>
                  <a:pt x="3790122" y="7023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任意多边形 33"/>
          <p:cNvSpPr/>
          <p:nvPr/>
        </p:nvSpPr>
        <p:spPr>
          <a:xfrm>
            <a:off x="4038480" y="3754440"/>
            <a:ext cx="517680" cy="515880"/>
          </a:xfrm>
          <a:custGeom>
            <a:avLst/>
            <a:gdLst/>
            <a:ahLst/>
            <a:rect l="l" t="t" r="r" b="b"/>
            <a:pathLst>
              <a:path w="516835" h="516835">
                <a:moveTo>
                  <a:pt x="516835" y="516835"/>
                </a:moveTo>
                <a:cubicBezTo>
                  <a:pt x="414130" y="374374"/>
                  <a:pt x="311426" y="231913"/>
                  <a:pt x="225287" y="145774"/>
                </a:cubicBezTo>
                <a:cubicBezTo>
                  <a:pt x="139148" y="59635"/>
                  <a:pt x="69574" y="2981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4"/>
          <p:cNvSpPr/>
          <p:nvPr/>
        </p:nvSpPr>
        <p:spPr>
          <a:xfrm>
            <a:off x="4267080" y="3809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5"/>
          <p:cNvSpPr/>
          <p:nvPr/>
        </p:nvSpPr>
        <p:spPr>
          <a:xfrm>
            <a:off x="7467480" y="5029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宋体"/>
              </a:rPr>
              <a:t>L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6"/>
          <p:cNvSpPr/>
          <p:nvPr/>
        </p:nvSpPr>
        <p:spPr>
          <a:xfrm>
            <a:off x="2362320" y="35337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Echo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直接连接符 19"/>
          <p:cNvSpPr/>
          <p:nvPr/>
        </p:nvSpPr>
        <p:spPr>
          <a:xfrm>
            <a:off x="1371600" y="2057400"/>
            <a:ext cx="57913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灯片编号占位符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F587-EEBB-4665-B533-1A239EC35DE6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圆角矩形 10"/>
          <p:cNvSpPr/>
          <p:nvPr/>
        </p:nvSpPr>
        <p:spPr>
          <a:xfrm>
            <a:off x="609480" y="1371600"/>
            <a:ext cx="7848720" cy="23623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3520" y="4800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raft-zjns-mpls-lsp-ping-relay-reply-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generic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虚尾箭头 11"/>
          <p:cNvSpPr/>
          <p:nvPr/>
        </p:nvSpPr>
        <p:spPr>
          <a:xfrm rot="5400000">
            <a:off x="3924000" y="3924360"/>
            <a:ext cx="990360" cy="609480"/>
          </a:xfrm>
          <a:custGeom>
            <a:avLst/>
            <a:gdLst/>
            <a:ahLst/>
            <a:rect l="l" t="t" r="r" b="b"/>
            <a:pathLst>
              <a:path w="990600" h="609600">
                <a:moveTo>
                  <a:pt x="0" y="166744"/>
                </a:moveTo>
                <a:lnTo>
                  <a:pt x="19050" y="166744"/>
                </a:lnTo>
                <a:lnTo>
                  <a:pt x="19050" y="442856"/>
                </a:lnTo>
                <a:lnTo>
                  <a:pt x="0" y="442856"/>
                </a:lnTo>
                <a:lnTo>
                  <a:pt x="0" y="166744"/>
                </a:lnTo>
                <a:close/>
                <a:moveTo>
                  <a:pt x="38100" y="166744"/>
                </a:moveTo>
                <a:lnTo>
                  <a:pt x="76200" y="166744"/>
                </a:lnTo>
                <a:lnTo>
                  <a:pt x="76200" y="442856"/>
                </a:lnTo>
                <a:lnTo>
                  <a:pt x="38100" y="442856"/>
                </a:lnTo>
                <a:lnTo>
                  <a:pt x="38100" y="166744"/>
                </a:lnTo>
                <a:close/>
                <a:moveTo>
                  <a:pt x="95250" y="166744"/>
                </a:moveTo>
                <a:lnTo>
                  <a:pt x="678625" y="166744"/>
                </a:lnTo>
                <a:lnTo>
                  <a:pt x="678625" y="0"/>
                </a:lnTo>
                <a:lnTo>
                  <a:pt x="990600" y="304800"/>
                </a:lnTo>
                <a:lnTo>
                  <a:pt x="678625" y="609600"/>
                </a:lnTo>
                <a:lnTo>
                  <a:pt x="678625" y="442856"/>
                </a:lnTo>
                <a:lnTo>
                  <a:pt x="95250" y="442856"/>
                </a:lnTo>
                <a:lnTo>
                  <a:pt x="95250" y="166744"/>
                </a:lnTo>
                <a:close/>
              </a:path>
            </a:pathLst>
          </a:custGeom>
          <a:solidFill>
            <a:srgbClr val="dbeef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4724280" y="3962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ial"/>
                <a:ea typeface="宋体"/>
              </a:rPr>
              <a:t>Me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828800" y="152388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ietf-mpls-interas-lspping-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ly for Inter-AS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-zj-mpls-lsp-ping-reply-relay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ainly focused on Inter-Area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加号 9"/>
          <p:cNvSpPr/>
          <p:nvPr/>
        </p:nvSpPr>
        <p:spPr>
          <a:xfrm>
            <a:off x="4191120" y="23623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60602" y="145694"/>
                </a:moveTo>
                <a:lnTo>
                  <a:pt x="183794" y="145694"/>
                </a:lnTo>
                <a:lnTo>
                  <a:pt x="183794" y="50502"/>
                </a:lnTo>
                <a:lnTo>
                  <a:pt x="273406" y="50502"/>
                </a:lnTo>
                <a:lnTo>
                  <a:pt x="273406" y="145694"/>
                </a:lnTo>
                <a:lnTo>
                  <a:pt x="396598" y="145694"/>
                </a:lnTo>
                <a:lnTo>
                  <a:pt x="396598" y="235306"/>
                </a:lnTo>
                <a:lnTo>
                  <a:pt x="273406" y="235306"/>
                </a:lnTo>
                <a:lnTo>
                  <a:pt x="273406" y="330498"/>
                </a:lnTo>
                <a:lnTo>
                  <a:pt x="183794" y="330498"/>
                </a:lnTo>
                <a:lnTo>
                  <a:pt x="183794" y="235306"/>
                </a:lnTo>
                <a:lnTo>
                  <a:pt x="60602" y="235306"/>
                </a:lnTo>
                <a:lnTo>
                  <a:pt x="60602" y="14569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灯片编号占位符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A150-2FB9-4CFF-87C4-ACF14F7902B2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LSP Ping Relay Reply Mechan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rotocol Extensions for MPLS LSP 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ew Message typ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PLS Echo Relay Reply me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New TLV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elay Node Address Stack TL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asic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cho Relay Reply: both Src &amp; Des UDP Ports are 350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4" name="Object 4"/>
          <p:cNvGraphicFramePr/>
          <p:nvPr/>
        </p:nvGraphicFramePr>
        <p:xfrm>
          <a:off x="1981080" y="4535640"/>
          <a:ext cx="5319720" cy="14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535640"/>
                    <a:ext cx="5319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直接连接符 8"/>
          <p:cNvSpPr/>
          <p:nvPr/>
        </p:nvSpPr>
        <p:spPr>
          <a:xfrm>
            <a:off x="2590920" y="4800600"/>
            <a:ext cx="3886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97F-5D79-4678-B4FA-2204655C0297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lay Node Address Stack TL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50920" y="1523880"/>
            <a:ext cx="8507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856560" cy="2381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904080" cy="1524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228600" y="4267080"/>
            <a:ext cx="8507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elayed Address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灯片编号占位符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8AC-21B1-4E51-A8F5-0CAB983A7AB1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Object 6"/>
          <p:cNvGraphicFramePr/>
          <p:nvPr/>
        </p:nvGraphicFramePr>
        <p:xfrm>
          <a:off x="1066680" y="533520"/>
          <a:ext cx="7391520" cy="62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7391520" cy="62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An Example: Inter-AS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接连接符 4"/>
          <p:cNvSpPr/>
          <p:nvPr/>
        </p:nvSpPr>
        <p:spPr>
          <a:xfrm>
            <a:off x="1752480" y="1066680"/>
            <a:ext cx="6172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F408-0817-4A76-9DED-8D4C65D48D48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ETF 84 - Vancou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250920" y="1523880"/>
            <a:ext cx="8507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eek feedback from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sk for WG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FDAE-ACD9-4999-9AF5-5787C4D21E5F}" type="slidenum"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ETF 84</dc:creator>
  <dc:description/>
  <dc:language>en-US</dc:language>
  <cp:lastModifiedBy>Thomas Nadeau</cp:lastModifiedBy>
  <dcterms:modified xsi:type="dcterms:W3CDTF">2012-07-26T18:24:58Z</dcterms:modified>
  <cp:revision>522</cp:revision>
  <dc:subject/>
  <dc:title>draft-zjns-mpls-lsp-ping-relay-reply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119092</vt:lpwstr>
  </property>
</Properties>
</file>