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F7A-DC59-4B7A-9207-86DA02FB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802-A1C6-408D-B3FF-420F0AC0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56B-8186-4A87-854F-E951B919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BE6-AF58-448A-B5DD-420D008B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2A8-F49B-41FF-BFA5-EAD1E22F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0A3-16C2-4961-9B78-315AB10C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F27-EFF9-48A8-AFB2-90892E6E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8D2-5945-4414-8B6E-D63313CB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C80-E510-4B7C-A4E4-DAA05E56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C4A-1D28-4D41-98E2-355CD532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DA0-8F29-4D69-8E93-A35E8902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D9F-E4C3-4BA4-94C6-F109A1E4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5199F-A314-4B3E-82C5-04336775F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CONF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vices unable to implement the full NETCONF 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“-00” draft noted hardware-based resource constraints (i.e. very small devi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“-01” draft added software-based constraints such as phased development and NETCONF facades on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party devices (i.e. adapt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671400" y="5210280"/>
            <a:ext cx="77914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there isn’t consensus on the WG list for recognizing “phased development” as a motivator on IETF standards, thus it’s recommended to remove this aspect from the dra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5080" y="1600200"/>
            <a:ext cx="86659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YANG module that can be advertised instead of base:1.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lares support for the following reduced set of oper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et-config (without subtree filtering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copy-conf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ose-sess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the following set of features to achieve equivalency to bas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ubtree-filte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edit-conf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delete-conf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o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e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Calibri"/>
              </a:rPr>
              <a:t>kill-sess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959280" y="4903920"/>
            <a:ext cx="47275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standard NETCONF rules apply, for instan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a client uses an RPC that isn’t supported, return "operation-not-support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tional capabilities can be advertised in &lt;hello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79480" y="2506680"/>
            <a:ext cx="7385040" cy="184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Not a “base” revi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LS/DT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urrent draft notes th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might be necessary to choose a different mandatory to implement secure transport protocol for NETCONF Light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ame “light” seems diminutive for a definition that may eclipse “base”  in tim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be something like “init” or “lcd” (lowest common denominator)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or Experi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does the working group decid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50960" y="1611360"/>
            <a:ext cx="763272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pdate draft 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lect new reduced 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“Motivation” section, replace phased-development text with text regarding device adap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olve open iss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LS/DT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/Experi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ublish -02 for ratif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-916920" y="18828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2784240"/>
            <a:ext cx="640080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587520" y="2919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03:50:51Z</dcterms:created>
  <dc:creator>Kent Watsen</dc:creator>
  <dc:description/>
  <dc:language>en-US</dc:language>
  <cp:lastModifiedBy>Kent Watsen</cp:lastModifiedBy>
  <dcterms:modified xsi:type="dcterms:W3CDTF">2012-07-30T05:36:07Z</dcterms:modified>
  <cp:revision>11</cp:revision>
  <dc:subject/>
  <dc:title>NETCONF Light</dc:title>
</cp:coreProperties>
</file>