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C0F-7011-424A-BA71-17C67975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63C-9567-48CA-9884-74B229D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5BD-1908-4F28-A07D-B0A30322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F47-D02D-4E82-A59F-52051083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F1B-FB1D-4A40-B2B9-DE8B17F2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3D4-EDA1-4591-BFFA-DDC08EB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9AD-2B16-4B92-8D33-8D9F964B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A8B-DE32-4A77-A34E-82E34F2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A83-9B7E-4F09-8FE3-82EB420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BB2-F0A6-435A-B858-6EC2F97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193-2807-4C7A-8F44-B2C0482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336-D1DB-44DF-B18D-CD17A25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D14A1-0BFF-4F79-A198-5FB9B8580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CONF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vices unable to implement the full NETCONF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“-00” draft noted hardware-based resource constraints (i.e. very small dev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“-01” draft added software-based constraints such as phased development and NETCONF facades o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party devices (i.e. adapt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671400" y="5210280"/>
            <a:ext cx="77914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there isn’t consensus on the WG list for recognizing “phased development” as a motivator on IETF standards, thus it’s recommended to remove this aspect from the d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080" y="1600200"/>
            <a:ext cx="86659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YANG module that can be advertised instead of base:1.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lares support for the following reduced set of oper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t-config (without subtree filter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copy-conf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ose-sess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the following set of features to achieve equivalency to bas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tree-filte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edit-conf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delete-conf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o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Calibri"/>
              </a:rPr>
              <a:t>kill-sess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959280" y="4903920"/>
            <a:ext cx="47275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tandard NETCONF rules apply, for instan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 client uses an RPC that isn’t supported, return "operation-not-support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al capabilities can be advertised in &lt;hello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79480" y="2506680"/>
            <a:ext cx="7385040" cy="184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Not a “base” revi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LS/DT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urrent draft notes th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might be necessary to choose a different mandatory to implement secure transport protocol for NETCONF Light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“light” seems diminutive for a definition that may eclipse “base”  in tim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be something like “init” or “lcd” (lowest common denominator)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or Experi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oes the working group decid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960" y="1611360"/>
            <a:ext cx="763272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pdate draft 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 new reduced 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“Motivation” section, replace phased-development text with text regarding device adap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lve open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LS/DT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/Experi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ublish -02 for rat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916920" y="18828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278424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587520" y="2919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3:50:51Z</dcterms:created>
  <dc:creator>Kent Watsen</dc:creator>
  <dc:description/>
  <dc:language>en-US</dc:language>
  <cp:lastModifiedBy>Kent Watsen</cp:lastModifiedBy>
  <dcterms:modified xsi:type="dcterms:W3CDTF">2012-07-30T05:36:07Z</dcterms:modified>
  <cp:revision>11</cp:revision>
  <dc:subject/>
  <dc:title>NETCONF Light</dc:title>
</cp:coreProperties>
</file>