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D800A0-3E8B-4A4E-9612-0DA6CC8297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2261A1-E9A8-424F-83DC-05655B91F8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4A3-78EB-4B58-9CD5-2B96A156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A62-6E0F-45BA-BC93-18E7765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B83-0218-4A89-8778-7C5EF661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501-E4DC-40EA-AD4F-9E6D5481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530-C76D-4B84-A78A-2EEBCE2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F40-0112-4042-8F32-44DF3F9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C93-9584-4D80-9C55-B61A95AE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DB7-7628-486A-9554-8F5FE317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9A6-4184-4DB2-903F-FE177E30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F22-ECAC-49D6-AE44-7BCC979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46F-C046-4533-9FC8-21C8C12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DD0-9BF4-4BE8-8C30-7F3058B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654A-584C-48C0-9B2C-8B6B55B636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fix Delegation for Proxy Mobile IPv6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aft-ietf-netext-pd-pmip-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Xingyue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Jouni Korh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ri Gunda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os J. Bern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ext to describe how to secure the DHCPv6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oward Working Group Last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59:26Z</dcterms:created>
  <dc:creator>Rajeev-K</dc:creator>
  <dc:description/>
  <dc:language>en-US</dc:language>
  <cp:lastModifiedBy>Joy</cp:lastModifiedBy>
  <dcterms:modified xsi:type="dcterms:W3CDTF">2012-07-24T09:29:46Z</dcterms:modified>
  <cp:revision>314</cp:revision>
  <dc:subject/>
  <dc:title>NetExt BOF</dc:title>
</cp:coreProperties>
</file>