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A42F74-B8AA-4D59-ADEC-C4EA4ED18B4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D7878D-B064-4BE0-9C91-EFDD670203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10A-6919-4941-87CB-C01364E2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A04-66C7-47FC-B1EB-05933887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7F7-EC41-4C21-BD25-51D0CAE0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136-CC34-4414-A0F5-6EABE59E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A3D-887D-4978-AB0E-F65963E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353-7879-40F1-94E2-816AAEE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2AF-890A-40AE-BF61-12C87FD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C6C-5945-4FA2-83E0-DCF9B52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EA4-F95C-4772-A37B-B7598D6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1D3-7029-4F3E-B409-9B11C24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52B-6098-4FBB-BCB8-007FC96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203-2C83-4BDC-A2BD-37B4866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2C9D-2AEE-482B-BB86-56D573AC27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fix Delegation for Proxy Mobile IPv6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aft-ietf-netext-pd-pmip-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Xingyue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Jouni Korh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ri Gunda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arlos J. Bern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from -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ext to describe how to secure the DHCPv6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oward Working Group Last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0:59:26Z</dcterms:created>
  <dc:creator>Rajeev-K</dc:creator>
  <dc:description/>
  <dc:language>en-US</dc:language>
  <cp:lastModifiedBy>Joy</cp:lastModifiedBy>
  <dcterms:modified xsi:type="dcterms:W3CDTF">2012-07-24T09:29:46Z</dcterms:modified>
  <cp:revision>314</cp:revision>
  <dc:subject/>
  <dc:title>NetExt BOF</dc:title>
</cp:coreProperties>
</file>