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CB9-55A3-47EF-A932-BD00655B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4C4-A6A6-42D3-A2AD-CEC2E5DE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67A-DEF6-49D6-BCB1-33FE1959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932-39EB-49B3-8948-D0DB0C98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C6C-B02F-491F-BE33-3684D013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815-8D60-4A7D-95D2-2B6BFC47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EF0-4C22-4497-9A43-5A42A23B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81F-8034-4A1E-BC8C-1C50A18B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57F-4FF8-45A9-83AC-CD8EB361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99B-E452-42A2-9F26-7AFC2321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2F5-A895-448C-9B88-054912C4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358-12CF-4016-9775-FD54E397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0CBD-4BBD-4CF1-81EF-C1148BA3BF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Quality of Service Option for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Proxy Mobile IPv6</a:t>
            </a:r>
            <a:br>
              <a:rPr sz="3600"/>
            </a:br>
            <a:br>
              <a:rPr sz="36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raft-ietf-netext-pmip6-qos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4365720"/>
            <a:ext cx="6834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. Gundavelli, J. Korhonen, M. Liebsch, P. Seite, H. Yoko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ETF84, Vancou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tExt 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August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Operation: Establishment of QoS r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684360" y="1152360"/>
            <a:ext cx="76626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Motivation and 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90400" y="135072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bile operator systems enable QoS differentiation to server mobile access through cellular ra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QoS policy control for 3G radio access from Policy and Charging Control (PCC)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nnectivity through non-cellular acccess supported for handover (WiFi, WiMa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P network QoS accomplished by DiffServ mech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ngle operator deploying both a cellular and a non-cellular access network may want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armonized QoS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ndardization started interfacing PCC to MAG for non-cellular radio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mand for a PCC-independent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r networks, which do not deploy a PCC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r all networks until PCC support available for non-cellular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Scope of this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904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upport enabling QoS differentiation of traffic between MAG and LMA for any non-cellular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-band QoS signalling, piggybacking PMIP signal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ainly enforcement and validation of uplink QoS at the M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upport mapping of QoS policies between radio-specific QoS classes and IP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ansport of Flow Information and DSC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plicit mapping detween DSCP and  QoS Class Inde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terpretation of QoS information is deployment specific, hence out of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ocus on the signaling between MAG and L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andover of available and enforced QoS policy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stablished while MN accesses through 3G radio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stablish QoS for sessions which start at non-3G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90400" y="135072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itial version of this draft presented at IETF82 in Taip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dopted as WG document after IETF83 in Pa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ceived valuable comments during last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ditorial fixes in -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plicit mapping between DSCP and  QoS Class Inde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188000" indent="-339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.g. according to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GSMA/3GPP mapping for EPC/L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Update required to clarify applicability of the QoS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an apply at the MN scop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 per-mobility sessio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 on a per flow ba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oS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ew option for PBU/P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8600" indent="-156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N scoped option or applies either at the mobility session or at the IP flow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1708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ptional QoS Information (sub-option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8420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o far described in the specifi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 MN Aggregate Maximum Downlink 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 MN Aggregate Maximum Uplink 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 Mobility Session Aggregate Maximum Downlink Bitrat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 Mobility Session Aggregate Maximum Uplink 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location and Retention Priority (AR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uaranteed Downlink 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uaranteed Uplink 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o be discus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 we need a vendor specific op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.g. to be flexible in the definition of QoS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8000" y="3429000"/>
            <a:ext cx="885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Type     |     Length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Vendor ID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Sub-Type          |             Data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Main Use C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0400" y="135072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andover of established QoS rules to non-cellular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pply same QoS differentiation on the path between LMA and MAG, which ser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nable mapping of admitted QoS classes to QoS differentiation techniques of non-cellular access, e.g. .11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stabblishment of QoS rules while MN is attached to non-cellular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AG may propsose QoS rules to LMA for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iority class indicated in up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AG may assess QoS according to flow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N may utilize access-specific control plane (e.g. WMM) to indicate demand for QoS differenti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MA authorizes proposed QoS or assesses QoS according to flow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Operation: Handover of QoS r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777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56:34Z</dcterms:created>
  <dc:creator>liebsch</dc:creator>
  <dc:description/>
  <dc:language>en-US</dc:language>
  <cp:lastModifiedBy>Marco Liebsch</cp:lastModifiedBy>
  <dcterms:modified xsi:type="dcterms:W3CDTF">2012-08-01T23:13:34Z</dcterms:modified>
  <cp:revision>166</cp:revision>
  <dc:subject/>
  <dc:title>Diameter General Purpose Session draft-liebsch-dime-diameter-gps-00.txt</dc:title>
</cp:coreProperties>
</file>