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67D7-914A-44A4-8635-3940B39C2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75A2-A235-447E-9A02-F9A9745E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188C-184D-49E4-9153-DE459453F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1B97-D5CB-4135-9AFC-960AB15E3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8769-510C-4A53-A19D-1E214091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4A39-3879-49C0-B576-706D12CF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8C76-AE2A-41B3-81F6-B4A3A4BD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2BB6-3E11-437A-902F-B125B32C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9767-CC24-4D57-8A79-7EE91ADB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AD32-DE67-40B9-82E9-662163DE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EFB4-86E9-4442-BD00-46F76576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9688-888F-40A7-AD0A-3999E326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5FC8-E8E0-4D7A-98E2-F93066B6479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Quality of Service Option for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Proxy Mobile IPv6</a:t>
            </a:r>
            <a:br>
              <a:rPr sz="3600"/>
            </a:br>
            <a:br>
              <a:rPr sz="36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raft-ietf-netext-pmip6-qos-00.t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7280" y="4365720"/>
            <a:ext cx="6834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. Gundavelli, J. Korhonen, M. Liebsch, P. Seite, H. Yokot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ETF84, Vancou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etExt W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August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Operation: Establishment of QoS ru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684360" y="1152360"/>
            <a:ext cx="76626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Motivation and Scop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90400" y="135072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Mobile operator systems enable QoS differentiation to server mobile access through cellular rad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QoS policy control for 3G radio access from Policy and Charging Control (PCC)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Connectivity through non-cellular acccess supported for handover (WiFi, WiMa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P network QoS accomplished by DiffServ mechanis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ingle operator deploying both a cellular and a non-cellular access network may want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harmonized QoS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tandardization started interfacing PCC to MAG for non-cellular radio ac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emand for a PCC-independent s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For networks, which do not deploy a PCC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For all networks until PCC support available for non-cellular ac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Scope of this wor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9040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upport enabling QoS differentiation of traffic between MAG and LMA for any non-cellular a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n-band QoS signalling, piggybacking PMIP signal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Mainly enforcement and validation of uplink QoS at the MA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upport mapping of QoS policies between radio-specific QoS classes and IP networ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ransport of Flow Information and DSC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mplicit mapping detween DSCP and  QoS Class Inde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nterpretation of QoS information is deployment specific, hence out of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Focus on the signaling between MAG and L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Handover of available and enforced QoS policy ru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Established while MN accesses through 3G radio ac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Establish QoS for sessions which start at non-3G radio a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90400" y="135072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Initial version of this draft presented at IETF82 in Taip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Adopted as WG document after IETF83 in Par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Received valuable comments during last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5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Editorial fixes in -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35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mplicit mapping between DSCP and  QoS Class Inde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188000" indent="-339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.g. according to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GSMA/3GPP mapping for EPC/L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Update required to clarify applicability of the QoS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Can apply at the MN scop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Or per-mobility session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Or on a per flow ba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oS o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New option for PBU/P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08600" indent="-156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N scoped option or applies either at the mobility session or at the IP flow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900000" y="3141720"/>
            <a:ext cx="717084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Optional QoS Information (sub-options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384200"/>
            <a:ext cx="8229600" cy="52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o far described in the specific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er MN Aggregate Maximum Downlink Bit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er MN Aggregate Maximum Uplink Bit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er Mobility Session Aggregate Maximum Downlink Bitrate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er Mobility Session Aggregate Maximum Uplink Bit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llocation and Retention Priority (AR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Guaranteed Downlink Bit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Guaranteed Uplink Bit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o be discuss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o we need a vendor specific op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.g. to be flexible in the definition of QoS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08000" y="3429000"/>
            <a:ext cx="8856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        1                   2                  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1 2 3 4 5 6 7 8 9 0 1 2 3 4 5 6 7 8 9 0 1 2 3 4 5 6 7 8 9 0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Type     |     Length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Vendor ID          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Sub-Type          |             Data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Main Use Ca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90400" y="135072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Handover of established QoS rules to non-cellular radio a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pply same QoS differentiation on the path between LMA and MAG, which ser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Enable mapping of admitted QoS classes to QoS differentiation techniques of non-cellular access, e.g. .11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Estabblishment of QoS rules while MN is attached to non-cellular radio a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MAG may propsose QoS rules to LMA for approv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Priority class indicated in uplin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MAG may assess QoS according to flow inform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MN may utilize access-specific control plane (e.g. WMM) to indicate demand for QoS differenti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LMA authorizes proposed QoS or assesses QoS according to flow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Operation: Handover of QoS ru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77774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08:56:34Z</dcterms:created>
  <dc:creator>liebsch</dc:creator>
  <dc:description/>
  <dc:language>en-US</dc:language>
  <cp:lastModifiedBy>Marco Liebsch</cp:lastModifiedBy>
  <dcterms:modified xsi:type="dcterms:W3CDTF">2012-08-01T23:13:34Z</dcterms:modified>
  <cp:revision>166</cp:revision>
  <dc:subject/>
  <dc:title>Diameter General Purpose Session draft-liebsch-dime-diameter-gps-00.txt</dc:title>
</cp:coreProperties>
</file>