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EBA0A-E695-4788-ADFA-57E92248CD91}"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99A79-C0BD-4404-AFAC-1A8358AF9A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8B685-8AE9-433B-B755-FBE4BD011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5950F-2F94-4E57-AA4F-DEFB0EC81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EC584-A5BC-4D3A-B41D-F1E260946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022A-D9B1-480C-9C7D-B59A15B9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35560D-6004-4C42-814C-B4AF30D5C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C104D-0142-42E0-9BBB-B79414F44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E8F36-551E-42F6-B52E-A292AB17F4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BB633-83F6-40E9-B649-96E5EFE63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32E31-3C33-45DB-A982-9874F89B9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A04DF-F8E6-416B-B6E8-3B53125DF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D4021-3DAE-4DFC-AA2A-E6BABF7D32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D6C53-2243-46AC-B7EA-C89EEDE0AA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2A0364-8673-4CFB-A201-5F76978500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FEBAE7-19C7-492E-A833-C158D8D3AC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C76FA-99DD-4F6D-AFD4-C1AA5FDBE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061879-BDC1-47D2-A3AC-988F265880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92056E-5B1C-44A7-8683-31157E1C83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3B2254-8140-43C7-BF95-0CDAF917CE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1E789C-D3F4-4C6F-8E37-1386F830F8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A0F741-748A-414D-A3C6-36F0A48EA8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4A4F31-20D7-4F9C-9940-3AB396E263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ED4D09-62F7-42D7-85B3-9CF2943F8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80C1E0-9B12-4664-A9A6-683B493E4C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31EF4A-9D25-4F49-9FED-A18EC9B3B8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4361E2-114D-430F-9FF5-B1DE8E29A9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D8933-0510-4FEE-AA41-1DD45778D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6E75F4-2E46-43FA-978B-BE58B36F7E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F6FC2C-4BE1-4862-90F9-9118215719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EEABAA-8850-4666-B12B-97F05B3E99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C1BCFD-C0D7-4FA0-9F41-5A8DB1DE25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47A94D-B0BA-405D-BC26-4138061B77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C60745-8E63-4D78-BB3C-60D7466E2D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407F4E-4171-4E0D-B107-352E7F4367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787340-4F1F-4E6E-86AB-1490F361C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B4285-A763-44B5-951A-B097389BE5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0FAF72-143C-4431-A2E8-68B605901C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91AC8-4177-4266-8359-9A13B05E5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C9274F-24CA-4AF7-8034-DC24C6246D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B8DCD9-0F32-4456-9173-B2F64D060F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F4998D-8E4A-482F-ADAA-65DB602783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C0FDB9-9D52-43A0-B4E7-387B8471A1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616D12-03A5-4E4D-81E2-12F03B3A2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DC306-16A8-40CA-9F47-9C6E7498E9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F079F3-DA22-45D3-A2E0-85D223CFCC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66006B-2E22-46D0-B43E-B9FC5DF97E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6FF637-7C19-4CA9-96B8-DAC261B67E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7CF15F-AD98-48E3-AC3E-4CE86C4A0E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69351-E111-4A05-A264-500CF4017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C4D123-9333-4364-B78F-D5A44C0E84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6FED73-1A05-49C9-A8E9-692155EB1C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E01FD1-D017-4F38-A0BD-85C20ABD0C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B10D44-E202-443D-BA2E-76A82F8608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005F9C-8ACA-40D0-A4A5-53895CC0F0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E66E6-09C5-4171-9EE9-A55CBE4AE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7182D-BF07-40B0-95C6-6B1C487D6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C0631-CB63-4D92-A575-D806A7CCA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3999D-167D-4F8C-BD0D-91A77DA95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349E-03FF-45C8-B595-83DFB4BA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4905A-FA8A-47E7-9C1B-EF108A716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E1F6-5347-465E-950E-E5E8EFDFD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CAB03-6E79-4AD1-8051-DF5B3AC63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410BD-BC57-4F0B-9045-45427A114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9A617-3407-4D9F-BB42-95D230E5F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5B6F3-165B-4F79-8658-DDF429E72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141D8-1D3B-4A53-8F74-DFAFA5F35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18042-4A4A-4F68-87AE-7BFC55F7D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7267E-8970-4F99-9A4C-C1522E18B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2095D-187D-4C15-907D-415706F57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E7931-61D2-4946-B8AE-E5AF6FF04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8113-7D67-48AC-90FB-532041B9E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C3D35-7259-4058-A0FC-1AED075F1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0D633-5F45-4BE8-B9B3-F0C15C6AF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74022-85BD-46E2-8096-BB949A4E8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CE5CC-D019-4D3F-A470-46A57100D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F35D6-5A43-4ED5-B02D-61A6A63D3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B30E8-874F-4AEF-94FF-60BE3C5C1E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5C3B9C-F51F-4094-B5AA-70855D050D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1CB68-4871-4A32-9CEA-A55EE7E9B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3534E-FAA4-487E-827D-C52314AAA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F1841-0FE2-4AC1-85A4-6921FDDCD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644F-D3A9-432D-9149-9C770F15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6E98D-3017-4378-8EA8-89077D1B1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E613F-2BB2-4780-8BDF-CDC742E10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5BF44-96E5-4E87-BC21-698BA35EF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F1849-51EA-4680-8356-F877EF54A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DB8F8-5E80-481B-A01B-B4FD4C9F3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EC535-A9B4-4682-81BD-8A2A0F9AE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D7408-B742-456C-B0CD-67C45D998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529779-624C-444C-8435-EDF5BA4884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ED348-EA02-4BE7-8974-6DFD176B75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CE7B10-F233-4555-B344-915BDAA8C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4B0E-9BC2-4B92-9EE9-CBF32151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C7525C-544F-43B0-B1A1-3D50B9810E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A00A5-83E4-4965-AC15-CC01CD8A9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316B2-285D-4C3E-8106-213FAFFAF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B5579F-51B8-4F3D-9303-39934F1572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33066-D434-4516-9B14-5AD83AE49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4E7DC-70B5-4332-94F6-F1C186B5D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D74AA-1316-4FE8-B363-2DA0DA449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59DC2-BCED-45F2-A6C8-952E579DE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514DC-7FDD-4E42-88A6-E6307CA28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87F78F-4110-4CEC-958C-79E0EF7803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EA15-2F0B-4E51-AB4D-00F5F965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553C42-433A-492F-9E81-F9FA7952B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7C6582-14FC-4693-881A-2B1430E02B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1BC0A8-1963-4A2A-AF6F-8F3FE7DC8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EEE84-4698-41EA-8422-2786400E0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882BB-763F-4636-AB82-36FE07B62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51EC7-AA2F-44DB-8E8D-59BA6ADD9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51C14A-DCB5-43F5-8D57-96A769D7E2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7E9F5-6760-4C1B-B110-1F7692240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62ADC-B726-4777-A0DA-D1420EE32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22EB0-A931-4164-9DBE-B0AB8C6FA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1B59-276A-4A69-A2FA-57FA6F36A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ED7A2-FB92-4598-8860-B92C6ABA6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3A777C-938D-419D-8DB3-758439754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DFD033-D549-4BC7-A67B-EE45E5B301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FBF3CC-B4F0-427E-B3CB-8E1DB78E58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8E7209-43D5-44D4-BCE4-A3750282F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700B2-09D4-4C3B-9ABB-646C0B608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6CBDC-2D30-4470-8A54-C1B0053B3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F4BC1-5053-40BF-9561-D2E158341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9E040-4BDD-49D1-9A6B-F61DAAF28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2410E-88B4-4659-93CE-FFE234F5D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B79B-B77D-4B22-85BB-2ABBB0A52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CD068-1547-4181-81D3-1EB9E481B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E4028-1E3C-424F-A312-6E145DBD0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8A0C9-DFC4-4171-ABC7-34EA39FA8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E0018F-48C5-4CA1-9844-D3ADCE8536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95F255-7318-42A7-853C-AFBCD95E85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9EA62E-E03B-4F31-B3BF-5A10F64BD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8F921-4D92-43ED-83C6-C1730C824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4843E5-A801-4557-9233-DA59AB4DB9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7911F9-C17B-453D-9739-46D13F265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1FDC8-C993-42A9-A92A-44CB92C44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6365-65D6-47AC-BF59-703979B8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D15ED-0627-40C5-80C3-43581B54B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C3EDA-285E-42E4-ABAF-046DEFF49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5457F-E976-4C16-8656-B33D95C74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BDDE5-B15A-4CC4-9726-B434D455D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E8B3B-ECE7-42F4-95EA-79B49DC53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BC0E77-B798-4B2E-B681-859269DECC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53724E-9129-4F7D-929F-0409D590B8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DCDE16-85AA-48D8-9D10-F0A3D0F5BB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B4E5D-DE84-43A3-8BFA-956374B78C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CD0AB-1BD8-4059-927E-8F1EA49C0E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8A975-9596-4C63-8EA0-2F05E3B8A6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F6D98-3B0F-4111-A1CF-084BF8DDFA2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BA199-CDFF-4744-9314-34FF977B1C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7C75F-5B00-4F48-857A-8EA9310B0E8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37E51-6CE5-4D96-8C12-846FB40735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AE7EC-8ACD-4427-815A-CFBB17BBA8A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BC95B-C9A3-46C2-853A-78AADCCE7C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80299-31D7-4783-89B7-3A8B500ADE6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892BB-4181-4A49-A90E-D83277C76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C73C1-6F6B-49C6-A81C-08E268EEC4A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05EAD-C33C-4D28-9A9F-F85AA4FA6A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69178-00D9-41E6-930C-47B5A071CDD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256F1-FAF6-42E7-92FE-603654A443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83CE5-DFC3-4372-A327-61481BD56E4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1E06F-7BBF-4C5B-95B6-43ADBAE49B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2673C-D445-46D4-AE23-F3EEFEA34D2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84296-DD2A-4041-83C2-C7AA6E63D0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18258-4140-40FD-BF64-A5ADF45964F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B7857-D405-4CE9-BC4A-EE3B00DE6F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CE304-FE62-47F5-A48E-E3898247385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2B5FC-3D7E-447A-ACD8-2109246028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0F141-2F77-40F9-B5F8-9687A0CB413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82825-3456-4270-87D2-9525D621C9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5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7F967-681D-43B4-A19D-77ACFBB55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33F55-0A22-4E38-BBF0-147A1B677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10" name=""/>
          <p:cNvSpPr txBox="1"/>
          <p:nvPr/>
        </p:nvSpPr>
        <p:spPr>
          <a:xfrm>
            <a:off x="457200" y="14176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reviously chartered work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0 (draft-ietf-netmod-ya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1 (draft-ietf-netmod-yang-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110 (draft-ietf-netmod-dsdl-ma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87 (draft-ietf-netmod-yang-us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244 (draft-ietf-netmod-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643 (draft-ietf-netmod-smi-yang)</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urrently chartered work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terfaces configuration model</a:t>
            </a:r>
            <a:r>
              <a:rPr b="0" lang="en-US" sz="2200" spc="-1" strike="noStrike">
                <a:solidFill>
                  <a:srgbClr val="000000"/>
                </a:solidFill>
                <a:latin typeface="Calibri"/>
              </a:rPr>
              <a:t>	</a:t>
            </a:r>
            <a:r>
              <a:rPr b="0" lang="en-US" sz="2200" spc="-1" strike="noStrike">
                <a:solidFill>
                  <a:srgbClr val="000000"/>
                </a:solidFill>
                <a:latin typeface="Calibri"/>
              </a:rPr>
              <a:t>(WG last ca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outing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last ca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ystem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NMP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p:txBody>
      </p:sp>
      <p:sp>
        <p:nvSpPr>
          <p:cNvPr id="5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633A3-6999-4B97-9CEE-B8021885D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 2012 - Submit SMIv2 to YANG translation to the IESG (do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2</a:t>
            </a:r>
            <a:r>
              <a:rPr b="0" lang="en-US" sz="2000" spc="-1" strike="noStrike">
                <a:solidFill>
                  <a:srgbClr val="000000"/>
                </a:solidFill>
                <a:latin typeface="Calibri"/>
              </a:rPr>
              <a:t>	</a:t>
            </a:r>
            <a:r>
              <a:rPr b="0" lang="en-US" sz="2000" spc="-1" strike="noStrike">
                <a:solidFill>
                  <a:srgbClr val="000000"/>
                </a:solidFill>
                <a:latin typeface="Calibri"/>
              </a:rPr>
              <a:t>- Submit first WG draft of SNMP configuration data model (do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2</a:t>
            </a:r>
            <a:r>
              <a:rPr b="0" lang="en-US" sz="2000" spc="-1" strike="noStrike">
                <a:solidFill>
                  <a:srgbClr val="000000"/>
                </a:solidFill>
                <a:latin typeface="Calibri"/>
              </a:rPr>
              <a:t>	</a:t>
            </a:r>
            <a:r>
              <a:rPr b="0" lang="en-US" sz="2000" spc="-1" strike="noStrike">
                <a:solidFill>
                  <a:srgbClr val="000000"/>
                </a:solidFill>
                <a:latin typeface="Calibri"/>
              </a:rPr>
              <a:t>- Submit Interface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2</a:t>
            </a:r>
            <a:r>
              <a:rPr b="0" lang="en-US" sz="2000" spc="-1" strike="noStrike">
                <a:solidFill>
                  <a:srgbClr val="000000"/>
                </a:solidFill>
                <a:latin typeface="Calibri"/>
              </a:rPr>
              <a:t>	</a:t>
            </a:r>
            <a:r>
              <a:rPr b="0" lang="en-US" sz="2000" spc="-1" strike="noStrike">
                <a:solidFill>
                  <a:srgbClr val="000000"/>
                </a:solidFill>
                <a:latin typeface="Calibri"/>
              </a:rPr>
              <a:t>- Submit System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2 - Submit Routing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p 2012</a:t>
            </a:r>
            <a:r>
              <a:rPr b="0" lang="en-US" sz="2000" spc="-1" strike="noStrike">
                <a:solidFill>
                  <a:srgbClr val="000000"/>
                </a:solidFill>
                <a:latin typeface="Calibri"/>
              </a:rPr>
              <a:t>	</a:t>
            </a:r>
            <a:r>
              <a:rPr b="0" lang="en-US" sz="2000" spc="-1" strike="noStrike">
                <a:solidFill>
                  <a:srgbClr val="000000"/>
                </a:solidFill>
                <a:latin typeface="Calibri"/>
              </a:rPr>
              <a:t>- Submit SNMP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068E4-695C-47DF-96FE-C1AE74EC36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WG Documents using YANG</a:t>
            </a: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TCONF:</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1 (draft-ietf-netconf-4741b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2 (draft-ietf-netconf-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5717 (draft-ietf-netconf-partial-loc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3 (draft-ietf-netconf-with-defaul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95 (draft-linowski-netmod-yang-abstra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470 (draft-ietf-netconf-system-notif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536 (draft-ietf-netconf-access-contr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PFI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ipfix-configuration-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FC Editor)</a:t>
            </a:r>
            <a:endParaRPr b="0" lang="en-US" sz="2400" spc="-1" strike="noStrike">
              <a:solidFill>
                <a:srgbClr val="000000"/>
              </a:solidFill>
              <a:latin typeface="Calibri"/>
            </a:endParaRPr>
          </a:p>
        </p:txBody>
      </p:sp>
      <p:sp>
        <p:nvSpPr>
          <p:cNvPr id="5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B7D19-27F3-4560-B8B6-A28220242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5"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dministrivia and WG Statu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5 min]</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interface data model (Martin)</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5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ana-if-type-04</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nterfaces-cfg-05</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p-cfg-05</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routing data model (Ladisla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5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routing-cfg-04</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system data model (And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ana-timezones-00</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system-mgmt-00</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NMP configuration model (Martin)</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snmp-cfg-00</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odeling JSON text with YANG (Ladisla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lhotka-yang-json-01</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pen mik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05min]</a:t>
            </a:r>
            <a:endParaRPr b="0" lang="en-US" sz="2200" spc="-1" strike="noStrike">
              <a:solidFill>
                <a:srgbClr val="000000"/>
              </a:solidFill>
              <a:latin typeface="Calibri"/>
            </a:endParaRPr>
          </a:p>
        </p:txBody>
      </p:sp>
      <p:sp>
        <p:nvSpPr>
          <p:cNvPr id="5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0B797-D70C-4279-A749-9FE9C2C2E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0:02:05Z</dcterms:created>
  <dc:creator>Jürgen Schönwälder</dc:creator>
  <dc:description/>
  <dc:language>en-US</dc:language>
  <cp:lastModifiedBy>Jürgen Schönwälder</cp:lastModifiedBy>
  <dcterms:modified xsi:type="dcterms:W3CDTF">2012-07-18T10:24:01Z</dcterms:modified>
  <cp:revision>32</cp:revision>
  <dc:subject/>
  <dc:title>NETMOD Agenda</dc:title>
</cp:coreProperties>
</file>