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F0691-AFA6-4606-A61A-D1605941EDF0}"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464BC-0E5F-4EAC-BD41-B615740DE65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9B494-9768-45C4-892B-273929DF4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CC2F35-373A-404C-A1CB-14A250E38D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225E8-1126-4A11-97CF-7DFEE4714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9A3BB-D348-4C01-929D-5E1C8CB8D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5110C4-CDE3-4BD4-B50A-34CAAF08CF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E726B4-CDEC-4F00-A278-3E68DD8990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4C43B9-D541-4D1C-91A6-EE41576561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CA63CE-0007-4C92-88C4-56410D4647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8DF2FB-C5DF-4146-90C8-CF07D80F95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6ECE9D-AB88-4CE9-AC35-AFC11ADC44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21911E-B98E-41FE-8933-EED5923AD8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85AE3E-4955-4EAC-9E59-038E05116D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2052D5-843C-4898-9A6C-1EE08D2E4D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BE2F96-C8C5-47E7-B442-F9D598599F2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924E0-C4C1-4A35-8A0D-74DB640D7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366878-61EB-4FAA-B6DF-9642DEDA4D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3C9C62-D848-4893-A7CD-88371D4B93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FCF356-76DE-4F64-AF82-B8771D6FF8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C2511A-F4FC-45D6-B5BE-A4B28205F5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803D0B-6B3A-45A4-806C-9EA1A77993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3AD1A3-D01A-4D98-86E4-3657877759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F982A6-AA3B-434C-BA24-4272FA08FB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F64BD5-F8F1-4235-AF6C-B60DCE8AB4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72FBD0-5FEB-45FC-A9B8-B686B9A69C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F0B6542-7B3F-4569-BA3F-E66AE5351B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6DBD4-7207-4E1E-8BF8-C750E17F6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EF3EE71-481A-441B-A674-E90D8BA622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D0FD5C-4CFE-4CA2-AA17-A53B46A460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FBCFE8-B1BE-4BB4-9C85-FE1083724D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0493A0-9C3A-46F9-A02E-8E59CA4265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B900A4-7445-4092-99C2-EBA27889A6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E0D7E3-BD99-4405-A6CF-F89590B840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D13FCD-DC29-4425-A679-4CAB2C36CB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F39189-C0E2-4FD9-B82E-55DE07E777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43E841-D42E-494A-81C2-DF9976E475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AA4C53-657B-47CC-BE00-BE19D1BC1A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8F644-0467-4DEB-A313-9F06C213F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975AD3-7BEB-43C7-B8E7-847FE6CB81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1DD596-8348-4F5C-8B09-284B86DB97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FAB6F2-BE67-46C1-B106-24FEE5C4510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8027C70-23A2-45D6-931D-0DF023A984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831EA0-8230-4012-BF96-6E8A9248BC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F03B2F-5917-4B2C-B556-7E1CACF37F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ECCF5B-BE81-4707-9C36-8410454869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502ABB-8C4C-479A-AD1F-ADF516466E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2C2801-3E79-44C6-8DAE-D87C0C536D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29E024-AA30-40C3-B4BF-26F1EE1151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89655-1466-4C6E-B54A-F19930625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1DFBFE-5B5A-448E-9B40-D21D0E37B0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0390B2-0A34-4492-98BD-2E3B9BD6A6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DA66A8-BAE6-472B-9846-09FFD90456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E7D5F6-24E8-4614-AC55-378C86F77E6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82B49B0-9EC3-4732-BDFD-A05FCB81AD0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4EE07-75F0-42A9-B29A-0EF2D5A53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76985-6196-428E-A0AD-CDE87080D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B6A4B-08E8-432F-97F8-5B6E811BF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29578-A077-48B2-9F5A-FDB7F02EA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0392C-9550-45EF-B1CA-319DB36E9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5BD63-7509-4575-9E33-AA3A677AB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279D7-FB44-4B1D-B60A-794DB9650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43DE4-2F8C-4258-AE70-92265FDEA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21B6C-E568-43AF-8BE5-7FD921CF5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8A40E-272C-4824-A6C0-B81A0ACFD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C89F5-CA90-4666-A6B7-DCB4E7074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5868FA-3C47-49D5-9D9E-72F1D2D852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95DF20-6DD4-492A-845F-81266ACEF4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487B9F-9D3C-42EB-A48C-8FF3EEB1B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32643E-6EAD-44DF-A496-11A3833703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DE6C7F-B0BC-44A7-BD8D-777EF0A8A4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FDC11-1E4F-4D7B-A35C-4CD11989E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AF9CDC-C87A-4890-ADFF-95DF048389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10665-22EF-45BE-B198-D978DD0E9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7799A-FD38-4441-92EE-B76FAC70A8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95AFE-6599-4AA2-BD74-79D00442A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2074E-46E6-46A8-88E0-D7C3AE1E51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417D4A-B98E-40D7-893F-671CA79E14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675904-BC27-43B0-8112-4E09F9076F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D1437F-63F1-4CD7-A982-33DF640098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FED409-4CEE-40B8-8314-3E1758DCC3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779269-55B9-4CA0-9D7F-E05E2287C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76358-DD17-47CA-AB1C-9F044AAE4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3BE317-F5B5-46A6-BE40-D9EF5B35AB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578C6A-923D-43E0-BC35-E3F9FAC6E2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D2418F-D901-4789-ABB7-23B23BB522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2D579-6809-40A7-A10D-8B46C2EBC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D5717-097D-4961-A971-CA82A21EB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D5C987-DAFD-48CC-8E59-CBDFEAAC5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B57B1F-F411-47C6-AED7-B8B21CE961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EB4D3E-11CF-4458-A162-CE1402E5B9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FCB4AD-1A08-4D05-9601-3DA06420DA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0749DC-F2AB-42C4-9962-32285217A9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1EF59-7279-4201-B5AF-50F7B9579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CFE14B-1228-4EBE-8F25-34FA9A5571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56DD9-1489-4539-9079-3C0CF6074C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1FCF5D-AE4A-4B5B-93EF-4E3BCA3BA6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71F33E-E352-4F58-BC4D-0FAFCECAEE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875159-C57F-4CC8-882E-70A10F58AF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BBA51-2E61-4BE2-BA2B-CACEDD802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E32588-722F-475C-8FF0-9FF44339AD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6016B-335B-4DF3-879E-409DB16405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77B18D-115A-40D6-BF05-FCE3A7376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5063A4-AEC3-438C-8C30-5B882D1216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99A87-D2A2-4CFD-B651-65B057398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930639-6604-4FD1-9DB9-C1C4A2B956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DCD11D-0843-4EE6-8D15-0CD7E0D775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3385F0-EEF6-4888-ADD7-065FB11E19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B5683F-BB82-4DC7-B602-251621CC23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A78799-9B89-4322-80A4-F6AAE94905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F9E136-4224-41A2-A38C-592663F4F5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A6ADE8-559D-4C2D-94EA-BE35DA233C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AE77AD-773D-4F2C-8939-98DB628CE5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353C9-D6EE-4521-AF74-95C189947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22983-B50B-49D2-9AD5-6EEF077702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309DA-CBAE-48AA-90F3-BA7E5F97E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6C6D30-3DF0-4A2D-B06E-DB42EB8A42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0503F2-407C-4D09-81D2-D1049A5740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E834AC-20AF-4724-B123-00BCCA627A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2357AF-B9BD-4C22-B184-B956281FFD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419195-F0A9-498B-9E78-296858126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0FBA7A-9450-4B99-9D85-1F9FD92D2B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FC1370-8B8F-4CCF-AF0A-C7CB9BE188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54028B-E06A-4709-A0E9-25039B86C1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0330C0-47F2-4583-AB1D-E8E4160DD5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06D0EF-DAA0-40A1-AACE-F7241A2CFE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653BF-58DA-4037-BDF7-8742FE1B1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62D26-3A1A-458C-B75D-D9D0CA247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9795C-E9FA-43B3-8018-B8626A5D6C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CADCDD-8CB5-4A20-B2EE-8322BA4F94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D71FAF-5623-40F6-A456-58A07DEE09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3EB5D2-DF88-4A4F-87B1-BDFE4B97B4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980A55-4EC4-496B-BE11-1C0963C5F6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8A283A-DE2D-4F7D-9505-A08FC0F3B8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50A0D1-68CF-4321-92C7-096EC226D6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04CF65-9F0B-429E-A479-296E4779EF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4E2261-E311-47EC-B7D9-4D06088FE0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267F0-2109-4DCE-8568-B9DC2155D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367C67-126D-4D08-A8FA-7572FEECE3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EABB6-391B-439B-8754-BB71E3E5AB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707B57-F628-4B86-956F-6BAC85AB33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75C35A-BDE4-44DE-AA0B-D926BF020A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B6239B-C94F-465C-AAB1-CF43B333AF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6E9D6E-1AF5-4CD3-B64A-8E78102E15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C372FF-6943-45CE-BFC0-A248B33FCC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00D601-792A-4F88-BCB8-586C4D2DA9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388C80-63E5-463F-954A-C76001975E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0C6108-521D-4CA7-906F-A169F03296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32A6D-D1C3-404D-A143-ABF5BBF094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B9AF4-A07C-4D58-B015-69A29A68D557}"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DE3E5-4D45-455B-B168-75D4C6FC38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314FB-82CF-4B7E-B4C5-4A84192390D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90B8A-968F-4081-BBC8-FA2A4DD4A2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EFAB1-C1FB-4E98-AACD-9C1553F12D6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21A39-3B6F-47B8-B4D0-5202BD77E6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73075-4578-44DA-910C-8CB6A9135A7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96577-6417-428A-A9BB-93FDDA8DF9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D51A2-B400-4F9A-B9E2-A71CF17F7D0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BA181-41FB-4ADE-8848-8821B00442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7E93D2-B60A-4AA8-89F8-5D62022A4B3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E76C0A-68A7-43B2-B4A0-4EE7E7EB15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20CA4-65FF-495B-BB12-5BA5345485A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D2110-0D8C-4F5D-9004-FAC29D3E68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15B41-A0EA-4995-A5B9-745EE63BF85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75F7C-B01E-438F-BCC6-241723ADFF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7250F-7E5A-4D46-8524-A46A5EA335A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5AF5F-6376-4113-8BC2-10394B3ACF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F224B-4737-4145-B49B-D71E1680D0F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05CBE-CBFC-4872-8D48-1203DE7AB1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271DE-DE01-481D-831C-BF0659A446F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E055F-F24D-47F0-AB14-04786AD239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16676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TMOD</a:t>
            </a:r>
            <a:br>
              <a:rPr sz="4400"/>
            </a:br>
            <a:r>
              <a:rPr b="0" lang="en-US" sz="4400" spc="-1" strike="noStrike">
                <a:solidFill>
                  <a:srgbClr val="000000"/>
                </a:solidFill>
                <a:latin typeface="Calibri"/>
              </a:rPr>
              <a:t>Agenda and WG Status</a:t>
            </a:r>
            <a:endParaRPr b="0" lang="en-US" sz="4400" spc="-1" strike="noStrike">
              <a:solidFill>
                <a:srgbClr val="000000"/>
              </a:solidFill>
              <a:latin typeface="Calibri"/>
            </a:endParaRPr>
          </a:p>
        </p:txBody>
      </p:sp>
      <p:sp>
        <p:nvSpPr>
          <p:cNvPr id="500" name="PlaceHolder 2"/>
          <p:cNvSpPr>
            <a:spLocks noGrp="1"/>
          </p:cNvSpPr>
          <p:nvPr>
            <p:ph type="subTitle"/>
          </p:nvPr>
        </p:nvSpPr>
        <p:spPr>
          <a:xfrm>
            <a:off x="1023480" y="3240000"/>
            <a:ext cx="7256520" cy="221616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98989"/>
                </a:solidFill>
                <a:latin typeface="Calibri"/>
              </a:rPr>
              <a:t>David Kessens</a:t>
            </a: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98989"/>
                </a:solidFill>
                <a:latin typeface="Calibri"/>
              </a:rPr>
              <a:t>david.kessens@nsn.com</a:t>
            </a:r>
            <a:br>
              <a:rPr sz="3000"/>
            </a:br>
            <a:br>
              <a:rPr sz="3000"/>
            </a:br>
            <a:r>
              <a:rPr b="0" lang="en-US" sz="3000" spc="-1" strike="noStrike">
                <a:solidFill>
                  <a:srgbClr val="898989"/>
                </a:solidFill>
                <a:latin typeface="Calibri"/>
              </a:rPr>
              <a:t>Jürgen Schönwälder</a:t>
            </a:r>
            <a:br>
              <a:rPr sz="3000"/>
            </a:br>
            <a:r>
              <a:rPr b="0" lang="en-US" sz="3000" spc="-1" strike="noStrike">
                <a:solidFill>
                  <a:srgbClr val="898989"/>
                </a:solidFill>
                <a:latin typeface="Calibri"/>
              </a:rPr>
              <a:t>j.schoenwaelder@jacobs-university.de</a:t>
            </a:r>
            <a:endParaRPr b="0" lang="en-US" sz="3000" spc="-1" strike="noStrike">
              <a:solidFill>
                <a:srgbClr val="000000"/>
              </a:solidFill>
              <a:latin typeface="Calibri"/>
            </a:endParaRPr>
          </a:p>
        </p:txBody>
      </p:sp>
      <p:sp>
        <p:nvSpPr>
          <p:cNvPr id="5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Arial"/>
            </a:endParaRPr>
          </a:p>
        </p:txBody>
      </p:sp>
      <p:sp>
        <p:nvSpPr>
          <p:cNvPr id="5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07F0B-FC3E-40E2-B17F-6B67075908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te Well</a:t>
            </a:r>
            <a:endParaRPr b="0" lang="en-US" sz="4400" spc="-1" strike="noStrike">
              <a:solidFill>
                <a:srgbClr val="000000"/>
              </a:solidFill>
              <a:latin typeface="Calibri"/>
            </a:endParaRPr>
          </a:p>
        </p:txBody>
      </p:sp>
      <p:sp>
        <p:nvSpPr>
          <p:cNvPr id="50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Arial"/>
            </a:endParaRPr>
          </a:p>
        </p:txBody>
      </p:sp>
      <p:sp>
        <p:nvSpPr>
          <p:cNvPr id="5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Arial"/>
            </a:endParaRPr>
          </a:p>
        </p:txBody>
      </p:sp>
      <p:sp>
        <p:nvSpPr>
          <p:cNvPr id="5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8F495-3371-45BB-B1DB-9259DEAB5E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8" name="Text Box 3"/>
          <p:cNvSpPr/>
          <p:nvPr/>
        </p:nvSpPr>
        <p:spPr>
          <a:xfrm>
            <a:off x="228600" y="1371600"/>
            <a:ext cx="8766000" cy="4956120"/>
          </a:xfrm>
          <a:prstGeom prst="rect">
            <a:avLst/>
          </a:prstGeom>
          <a:noFill/>
          <a:ln w="0">
            <a:noFill/>
          </a:ln>
        </p:spPr>
        <p:style>
          <a:lnRef idx="0"/>
          <a:fillRef idx="0"/>
          <a:effectRef idx="0"/>
          <a:fontRef idx="minor"/>
        </p:style>
        <p:txBody>
          <a:bodyPr lIns="95040" rIns="95040" tIns="46800" bIns="46800" anchor="t">
            <a:noAutofit/>
          </a:bodyPr>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ETF plenary session,</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IETF working group or portion thereof,</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ESG or any member thereof on behalf of the IESG,</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AB or any member thereof on behalf of the IAB,</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IETF mailing list, including the IETF list itself,</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working group or design team list, or any other list</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functioning under IETF auspice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RFC Editor or the Internet-Drafts function</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000"/>
            </a:br>
            <a:r>
              <a:rPr b="0" lang="en-GB" sz="1300" spc="-1" strike="noStrike">
                <a:solidFill>
                  <a:srgbClr val="000000"/>
                </a:solidFill>
                <a:latin typeface="Lucida Grande"/>
              </a:rPr>
              <a:t>All IETF Contributions are subject to the rules of RFC 3978 (updated by RFC 4748) and RFC 3979(updated by RFC 4879).</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Statements made outside of an IETF session, mailing list or other function, that are clearly not intended to be input to an IETF activity, group or function, are not IETF Contributions in the context of this notice.</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Please consult RFC 3978 (and RFC 4748) for detail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 participant in any IETF activity is deemed to accept all IETF rules of process, as documented in Best Current Practices RFCs and IESG Statement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 participant in any IETF activity acknowledges that written, audio and video records of meetings may be made and may be available to the public.</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 Document Status</a:t>
            </a:r>
            <a:endParaRPr b="0" lang="en-US" sz="4400" spc="-1" strike="noStrike">
              <a:solidFill>
                <a:srgbClr val="000000"/>
              </a:solidFill>
              <a:latin typeface="Calibri"/>
            </a:endParaRPr>
          </a:p>
        </p:txBody>
      </p:sp>
      <p:sp>
        <p:nvSpPr>
          <p:cNvPr id="510" name=""/>
          <p:cNvSpPr txBox="1"/>
          <p:nvPr/>
        </p:nvSpPr>
        <p:spPr>
          <a:xfrm>
            <a:off x="457200" y="141768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Previously chartered work item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020 (draft-ietf-netmod-ya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021 (draft-ietf-netmod-yang-type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110 (draft-ietf-netmod-dsdl-map)</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087 (draft-ietf-netmod-yang-usag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244 (draft-ietf-netmod-ar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643 (draft-ietf-netmod-smi-yang)</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urrently chartered work item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nterfaces configuration model</a:t>
            </a:r>
            <a:r>
              <a:rPr b="0" lang="en-US" sz="2200" spc="-1" strike="noStrike">
                <a:solidFill>
                  <a:srgbClr val="000000"/>
                </a:solidFill>
                <a:latin typeface="Calibri"/>
              </a:rPr>
              <a:t>	</a:t>
            </a:r>
            <a:r>
              <a:rPr b="0" lang="en-US" sz="2200" spc="-1" strike="noStrike">
                <a:solidFill>
                  <a:srgbClr val="000000"/>
                </a:solidFill>
                <a:latin typeface="Calibri"/>
              </a:rPr>
              <a:t>(WG last cal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outing configuration mod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WG last cal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ystem configuration mod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WG document avail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NMP configuration mod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WG document available)</a:t>
            </a:r>
            <a:endParaRPr b="0" lang="en-US" sz="2200" spc="-1" strike="noStrike">
              <a:solidFill>
                <a:srgbClr val="000000"/>
              </a:solidFill>
              <a:latin typeface="Calibri"/>
            </a:endParaRPr>
          </a:p>
        </p:txBody>
      </p:sp>
      <p:sp>
        <p:nvSpPr>
          <p:cNvPr id="5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Arial"/>
            </a:endParaRPr>
          </a:p>
        </p:txBody>
      </p:sp>
      <p:sp>
        <p:nvSpPr>
          <p:cNvPr id="5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Arial"/>
            </a:endParaRPr>
          </a:p>
        </p:txBody>
      </p:sp>
      <p:sp>
        <p:nvSpPr>
          <p:cNvPr id="5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36DD4-E5B7-48C9-9E61-B34C733E79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rent WG Milestones</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r 2012 - Submit SMIv2 to YANG translation to the IESG (don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r 2012</a:t>
            </a:r>
            <a:r>
              <a:rPr b="0" lang="en-US" sz="2000" spc="-1" strike="noStrike">
                <a:solidFill>
                  <a:srgbClr val="000000"/>
                </a:solidFill>
                <a:latin typeface="Calibri"/>
              </a:rPr>
              <a:t>	</a:t>
            </a:r>
            <a:r>
              <a:rPr b="0" lang="en-US" sz="2000" spc="-1" strike="noStrike">
                <a:solidFill>
                  <a:srgbClr val="000000"/>
                </a:solidFill>
                <a:latin typeface="Calibri"/>
              </a:rPr>
              <a:t>- Submit first WG draft of SNMP configuration data model (don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r 2012</a:t>
            </a:r>
            <a:r>
              <a:rPr b="0" lang="en-US" sz="2000" spc="-1" strike="noStrike">
                <a:solidFill>
                  <a:srgbClr val="000000"/>
                </a:solidFill>
                <a:latin typeface="Calibri"/>
              </a:rPr>
              <a:t>	</a:t>
            </a:r>
            <a:r>
              <a:rPr b="0" lang="en-US" sz="2000" spc="-1" strike="noStrike">
                <a:solidFill>
                  <a:srgbClr val="000000"/>
                </a:solidFill>
                <a:latin typeface="Calibri"/>
              </a:rPr>
              <a:t>- Submit Interface configuration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ug 2012</a:t>
            </a:r>
            <a:r>
              <a:rPr b="0" lang="en-US" sz="2000" spc="-1" strike="noStrike">
                <a:solidFill>
                  <a:srgbClr val="000000"/>
                </a:solidFill>
                <a:latin typeface="Calibri"/>
              </a:rPr>
              <a:t>	</a:t>
            </a:r>
            <a:r>
              <a:rPr b="0" lang="en-US" sz="2000" spc="-1" strike="noStrike">
                <a:solidFill>
                  <a:srgbClr val="000000"/>
                </a:solidFill>
                <a:latin typeface="Calibri"/>
              </a:rPr>
              <a:t>- Submit System configuration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ug 2012 - Submit Routing configuration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p 2012</a:t>
            </a:r>
            <a:r>
              <a:rPr b="0" lang="en-US" sz="2000" spc="-1" strike="noStrike">
                <a:solidFill>
                  <a:srgbClr val="000000"/>
                </a:solidFill>
                <a:latin typeface="Calibri"/>
              </a:rPr>
              <a:t>	</a:t>
            </a:r>
            <a:r>
              <a:rPr b="0" lang="en-US" sz="2000" spc="-1" strike="noStrike">
                <a:solidFill>
                  <a:srgbClr val="000000"/>
                </a:solidFill>
                <a:latin typeface="Calibri"/>
              </a:rPr>
              <a:t>- Submit SNMP configuration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1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Arial"/>
            </a:endParaRPr>
          </a:p>
        </p:txBody>
      </p:sp>
      <p:sp>
        <p:nvSpPr>
          <p:cNvPr id="5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Arial"/>
            </a:endParaRPr>
          </a:p>
        </p:txBody>
      </p:sp>
      <p:sp>
        <p:nvSpPr>
          <p:cNvPr id="5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28721-A570-47D1-A4BB-71754DE462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ther WG Documents using YANG</a:t>
            </a:r>
            <a:endParaRPr b="0" lang="en-US" sz="4400" spc="-1" strike="noStrike">
              <a:solidFill>
                <a:srgbClr val="000000"/>
              </a:solidFill>
              <a:latin typeface="Calibri"/>
            </a:endParaRPr>
          </a:p>
        </p:txBody>
      </p:sp>
      <p:sp>
        <p:nvSpPr>
          <p:cNvPr id="52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TCONF:</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241 (draft-ietf-netconf-4741b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22 (draft-ietf-netconf-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5717 (draft-ietf-netconf-partial-loc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243 (draft-ietf-netconf-with-defaul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95 (draft-linowski-netmod-yang-abstra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470 (draft-ietf-netconf-system-notific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536 (draft-ietf-netconf-access-contro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PFIX:</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raft-ietf-ipfix-configuration-mode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FC Editor)</a:t>
            </a:r>
            <a:endParaRPr b="0" lang="en-US" sz="2400" spc="-1" strike="noStrike">
              <a:solidFill>
                <a:srgbClr val="000000"/>
              </a:solidFill>
              <a:latin typeface="Calibri"/>
            </a:endParaRPr>
          </a:p>
        </p:txBody>
      </p:sp>
      <p:sp>
        <p:nvSpPr>
          <p:cNvPr id="52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Arial"/>
            </a:endParaRPr>
          </a:p>
        </p:txBody>
      </p:sp>
      <p:sp>
        <p:nvSpPr>
          <p:cNvPr id="5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Arial"/>
            </a:endParaRPr>
          </a:p>
        </p:txBody>
      </p:sp>
      <p:sp>
        <p:nvSpPr>
          <p:cNvPr id="5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5E978-BA7B-4E0E-9890-16B2E929A9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5" name=""/>
          <p:cNvSpPr txBox="1"/>
          <p:nvPr/>
        </p:nvSpPr>
        <p:spPr>
          <a:xfrm>
            <a:off x="457200" y="1257120"/>
            <a:ext cx="8229600" cy="527364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dministrivia and WG Statu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5 min]</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re interface data model (Martin)</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15 min]</a:t>
            </a:r>
            <a:endParaRPr b="0" lang="en-US" sz="22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iana-if-type-04</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interfaces-cfg-05</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ip-cfg-05</a:t>
            </a:r>
            <a:endParaRPr b="0" lang="en-US" sz="20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re routing data model (Ladislav)</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15min]</a:t>
            </a:r>
            <a:endParaRPr b="0" lang="en-US" sz="22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routing-cfg-04</a:t>
            </a:r>
            <a:endParaRPr b="0" lang="en-US" sz="20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re system data model (Andy)</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20 min]</a:t>
            </a:r>
            <a:endParaRPr b="0" lang="en-US" sz="22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iana-timezones-00</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system-mgmt-00</a:t>
            </a:r>
            <a:endParaRPr b="0" lang="en-US" sz="20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NMP configuration model (Martin)</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20 min]</a:t>
            </a:r>
            <a:endParaRPr b="0" lang="en-US" sz="22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ietf-netmod-snmp-cfg-00</a:t>
            </a:r>
            <a:endParaRPr b="0" lang="en-US" sz="20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Modeling JSON text with YANG (Ladislav)</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10 min]</a:t>
            </a:r>
            <a:endParaRPr b="0" lang="en-US" sz="22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raft-lhotka-yang-json-01</a:t>
            </a:r>
            <a:endParaRPr b="0" lang="en-US" sz="20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pen mik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05min]</a:t>
            </a:r>
            <a:endParaRPr b="0" lang="en-US" sz="2200" spc="-1" strike="noStrike">
              <a:solidFill>
                <a:srgbClr val="000000"/>
              </a:solidFill>
              <a:latin typeface="Calibri"/>
            </a:endParaRPr>
          </a:p>
        </p:txBody>
      </p:sp>
      <p:sp>
        <p:nvSpPr>
          <p:cNvPr id="5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2-07-31</a:t>
            </a:r>
            <a:endParaRPr b="0" lang="en-US" sz="1200" spc="-1" strike="noStrike">
              <a:solidFill>
                <a:srgbClr val="000000"/>
              </a:solidFill>
              <a:latin typeface="Arial"/>
            </a:endParaRPr>
          </a:p>
        </p:txBody>
      </p:sp>
      <p:sp>
        <p:nvSpPr>
          <p:cNvPr id="52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4 - NETMOD WG</a:t>
            </a:r>
            <a:endParaRPr b="0" lang="en-US" sz="1200" spc="-1" strike="noStrike">
              <a:solidFill>
                <a:srgbClr val="000000"/>
              </a:solidFill>
              <a:latin typeface="Arial"/>
            </a:endParaRPr>
          </a:p>
        </p:txBody>
      </p:sp>
      <p:sp>
        <p:nvSpPr>
          <p:cNvPr id="5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22823-5FE9-4AA1-B1F4-F413B2C71B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8T10:02:05Z</dcterms:created>
  <dc:creator>Jürgen Schönwälder</dc:creator>
  <dc:description/>
  <dc:language>en-US</dc:language>
  <cp:lastModifiedBy>Jürgen Schönwälder</cp:lastModifiedBy>
  <dcterms:modified xsi:type="dcterms:W3CDTF">2012-07-18T10:24:01Z</dcterms:modified>
  <cp:revision>32</cp:revision>
  <dc:subject/>
  <dc:title>NETMOD Agenda</dc:title>
</cp:coreProperties>
</file>