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9D7E-CED4-464D-8D54-91CAC534481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986F-516B-4A73-B9A0-58A3988A945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6CB2-28F5-4BD2-BD08-B3794B51457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2331-744E-41AF-91FB-9245C0D2652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8B7F-D61F-4BA1-985B-DCBD1C0178F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EE55-A48F-4753-BA89-77B378AEC34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DABD5-6A68-4723-BF0B-CBC395B9B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1326B-A3C0-4097-AF23-E06C8E9FC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1109C-6812-4B7C-8C6F-9E5BE2791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6EB12-A265-4EDF-A88A-906D4ED49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BAEB6-5311-4D96-9B1A-212504AFF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F4D3D-D3A4-4867-8C23-6CD07FC8F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910B-C391-4C55-8C56-08E0C02BE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1B0B-68A3-4D4C-8E34-1BF45C359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EA83A-814C-433D-A91E-5B4D9AF1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7D4A-08C4-4A1E-9F30-F77D83773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C7113-0863-48E8-B896-E0B183EC5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FF60E-F212-4926-8489-BDACBA54A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DC5D-B3F3-4C39-B77F-CB26887B2042}"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ietf.org/iesg/ieee/20120725/RAC_Virtualization_July2012.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wdec@cisco.co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Well</a:t>
            </a:r>
            <a:endParaRPr b="0" lang="en-US" sz="4400" spc="-1" strike="noStrike">
              <a:solidFill>
                <a:srgbClr val="000000"/>
              </a:solidFill>
              <a:latin typeface="Times New Roman"/>
            </a:endParaRPr>
          </a:p>
        </p:txBody>
      </p:sp>
      <p:sp>
        <p:nvSpPr>
          <p:cNvPr id="49" name="Rectangle 2"/>
          <p:cNvSpPr/>
          <p:nvPr/>
        </p:nvSpPr>
        <p:spPr>
          <a:xfrm>
            <a:off x="684360" y="1773360"/>
            <a:ext cx="7775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plenary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SG, or any member thereof on behalf of the IESG</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mailing list, including the IETF list itself, any working group or design team list, or any other list functioning under IETF auspices</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working group or portion thereof</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Birds of a Feather (BOF)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AB or any member thereof on behalf of the IAB</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FC Editor or the Internet-Drafts funct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ETF Contributions are subject to the rules of RFC 5378 and RFC 3979 (updated by RFC 487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nsult RFC 5378 and RFC 3979 for detai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acknowledges that written, audio and video records of meetings may be made and may be available to the publi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ote on WG Adoption</a:t>
            </a:r>
            <a:endParaRPr b="0" lang="en-US" sz="4400" spc="-1" strike="noStrike">
              <a:solidFill>
                <a:srgbClr val="000000"/>
              </a:solidFill>
              <a:latin typeface="Times New Roman"/>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document a reasonable base to start work on achieving a milest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what specific text changes are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 WG last call and the authors/editors must reflect WG consensus once the document is adop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ization and Ethernet Addressing</a:t>
            </a: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RAC chair gave the following presentation to the IESG on impact of virtualization on Ethernet OUI/EUI space</a:t>
            </a:r>
            <a:endParaRPr b="0" lang="en-US" sz="32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ietf.org/iesg/ieee/20120725/RAC_Virtualization_July2012.pdf</a:t>
            </a:r>
            <a:endParaRPr b="0" lang="en-US" sz="28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so be presented in RTG area open meeting on Thursday at 9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tatement Draft(s)</a:t>
            </a:r>
            <a:endParaRPr b="0" lang="en-US" sz="4400" spc="-1" strike="noStrike">
              <a:solidFill>
                <a:srgbClr val="000000"/>
              </a:solidFill>
              <a:latin typeface="Times New Roman"/>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both d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draft is a better st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pecific open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mework Draft</a:t>
            </a: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the dra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revised draft ready for ado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t, what are the specific iss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Virtualization Overlays (NVO3)</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240" y="3886200"/>
            <a:ext cx="6800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ETF 84, Vancouver, Canada</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nson Schliesser (bensons</a:t>
            </a:r>
            <a:r>
              <a:rPr b="0" lang="en-GB" sz="2400" spc="-1" strike="noStrike" u="sng">
                <a:solidFill>
                  <a:srgbClr val="ccccff"/>
                </a:solidFill>
                <a:uFillTx/>
                <a:latin typeface="Times New Roman"/>
                <a:hlinkClick r:id="rId1"/>
              </a:rPr>
              <a:t>@</a:t>
            </a:r>
            <a:r>
              <a:rPr b="0" lang="en-GB" sz="2400" spc="-1" strike="noStrike">
                <a:solidFill>
                  <a:srgbClr val="000000"/>
                </a:solidFill>
                <a:latin typeface="Times New Roman"/>
              </a:rPr>
              <a:t>queuefull.ne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tthew Bocci (matthew.bocci@alcatel-lucen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ministriv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lue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e takers + Jabber Scri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iling List:</a:t>
            </a:r>
            <a:endParaRPr b="0" lang="en-US" sz="32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l Discussion: nvo3@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Subscribe: nvo3-request@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Body: subscribe your_email_address</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chive: http://www.ietf.org/mail-archive/web/nvo3/index.html</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Objectives</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the problem statement and framework drafts so that they can be adopted by the working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1</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ning Intro ----------- 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Blue sheets, Agenda bash, Status update – Chair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lem Statement and Framework Discussion ----------- 8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VPN for Data Centers Problem Statement - draft-fang-vpn4dc-problem-statement-01 - Maria Napierala</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Problem Statement - draft-narten-nvo3-overlay-problems-statement-03 - Thomas Narte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problem statement discussion - Chai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Framework - draft-lasserre-nvo3-framework-03 - Marc Lasserr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framework - Chai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28640"/>
            <a:ext cx="7772400" cy="41148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Milestone-related Drafts ----------- 4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Data Plane Requirements - draft-bl-nvo3-dataplane-requirements - Marc Lasserre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Issues of Mobility in DC Overlay network - draft-dunbar-nvo3-overlay-mobility-issues-00 - Linda Dunbar</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Using Signaling to Simplify Network Virtualization Provisioning - draft-kompella-nvo3-server2nve – Thomas Mor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Requirements on TES-NVE interface and Additional requirements on control plane - Yingjie Gu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tes-nve-mechanism-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overlay-cp-arch-00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nvo3 operational requirements - draft-ashwood-nvo3-operational-requirement - Peter Ashwood Smith or Ali Sajas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3 (If time allow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Drafts ----------- 2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Use Cases for DC Network Virtualization Overlays - draft-mity-nvo3-use-case-01 - Mehmet To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nalysis of Security Threats, Security Requirements for nvo3</a:t>
            </a:r>
            <a:br>
              <a:rPr sz="2000"/>
            </a:br>
            <a:r>
              <a:rPr b="0" lang="en-GB" sz="2000" spc="-1" strike="noStrike">
                <a:solidFill>
                  <a:srgbClr val="000000"/>
                </a:solidFill>
                <a:latin typeface="Times New Roman"/>
              </a:rPr>
              <a:t>    draft-wei-nvo3-security-framework-00 - Yinxing Wei</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Layer 3 address considerations for Network Virtualization Overlay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carpenter-nvo3-addressing-00 - Sheng Jiang</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ccessing Cloud Services - draft-stein-cloud-access-01 - Yaakov Stein</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estones</a:t>
            </a:r>
            <a:endParaRPr b="0" lang="en-US" sz="4400" spc="-1" strike="noStrike">
              <a:solidFill>
                <a:srgbClr val="000000"/>
              </a:solidFill>
              <a:latin typeface="Times New Roman"/>
            </a:endParaRPr>
          </a:p>
        </p:txBody>
      </p:sp>
      <p:sp>
        <p:nvSpPr>
          <p:cNvPr id="63" name=""/>
          <p:cNvSpPr txBox="1"/>
          <p:nvPr/>
        </p:nvSpPr>
        <p:spPr>
          <a:xfrm>
            <a:off x="395280" y="1916280"/>
            <a:ext cx="842472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Problem State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Framework docu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Data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Operational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Control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Gap Analysi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r 2013 - Recharter or close Working Grou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Status</a:t>
            </a:r>
            <a:endParaRPr b="0" lang="en-US" sz="4400" spc="-1" strike="noStrike">
              <a:solidFill>
                <a:srgbClr val="000000"/>
              </a:solidFill>
              <a:latin typeface="Times New Roman"/>
            </a:endParaRPr>
          </a:p>
        </p:txBody>
      </p:sp>
      <p:sp>
        <p:nvSpPr>
          <p:cNvPr id="65" name=""/>
          <p:cNvSpPr txBox="1"/>
          <p:nvPr/>
        </p:nvSpPr>
        <p:spPr>
          <a:xfrm>
            <a:off x="685800" y="170028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is our first meeting as a working group after a successful BoF in Paris</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anks to everyone involved!</a:t>
            </a:r>
            <a:endParaRPr b="0" lang="en-US" sz="28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 RFCs or WG drafts, yet</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ll for adoption prior to this IETF:</a:t>
            </a:r>
            <a:endParaRPr b="0" lang="en-US" sz="32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narten-nvo3-overlay-problems-statement-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lasserre-nvo3-framework-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many comments to adopt before this IETF</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try to make progress towards consensus on adoption in Vancouver</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15:36:29Z</dcterms:created>
  <dc:creator>Matthew Bocci</dc:creator>
  <dc:description/>
  <dc:language>en-US</dc:language>
  <cp:lastModifiedBy>Matthew Bocci</cp:lastModifiedBy>
  <dcterms:modified xsi:type="dcterms:W3CDTF">2012-07-31T15:28:18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02876</vt:r8>
  </property>
  <property fmtid="{D5CDD505-2E9C-101B-9397-08002B2CF9AE}" pid="3" name="_AuthorEmail">
    <vt:lpwstr>wdec@cisco.com</vt:lpwstr>
  </property>
  <property fmtid="{D5CDD505-2E9C-101B-9397-08002B2CF9AE}" pid="4" name="_AuthorEmailDisplayName">
    <vt:lpwstr>Wojciech Dec (wdec)</vt:lpwstr>
  </property>
  <property fmtid="{D5CDD505-2E9C-101B-9397-08002B2CF9AE}" pid="5" name="_EmailSubject">
    <vt:lpwstr>L2CP-BoF-00.ppt</vt:lpwstr>
  </property>
  <property fmtid="{D5CDD505-2E9C-101B-9397-08002B2CF9AE}" pid="6" name="_NewReviewCycle">
    <vt:lpwstr/>
  </property>
</Properties>
</file>