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F062-4DF2-4A9A-9707-B40EEAF3496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9EE1-64D4-4831-8874-A621F2F34D2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3F34-C4C6-4CFC-8C5E-B2D751A4F1D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2E13-645A-4D9F-AEDC-9B5EBBBD32B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71D6-0143-47CB-9381-5E3D9625366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BE09-9550-4B01-8BB3-6E8E240DFDD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67376-CBCE-4269-9B70-0D2B601D1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200CD-9853-49D3-A9C5-5F113AE82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F3F45-C99C-4220-B346-4E2408D27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B2934-7F16-4358-B63B-A3BCD9FF0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179CA-FE7A-49AD-A543-D3B9CEC1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00F7F-0DEA-4899-8B07-B0E475DAA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6155-C849-4593-A080-A7A3B2847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82387-5B5C-4306-93DE-4928AF729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DF017-9F0A-449D-878D-A93D35F49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5134F-0560-4A08-883B-8707C1ECF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27B1F-D772-473E-84BF-BAAACF2F2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D958-B406-4148-B35B-CF9697130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BBE3-8ADE-441D-ABEC-2C32BCCE7EF4}"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ietf.org/iesg/ieee/20120725/RAC_Virtualization_July2012.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wdec@cisco.com"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Well</a:t>
            </a:r>
            <a:endParaRPr b="0" lang="en-US" sz="4400" spc="-1" strike="noStrike">
              <a:solidFill>
                <a:srgbClr val="000000"/>
              </a:solidFill>
              <a:latin typeface="Times New Roman"/>
            </a:endParaRPr>
          </a:p>
        </p:txBody>
      </p:sp>
      <p:sp>
        <p:nvSpPr>
          <p:cNvPr id="49" name="Rectangle 2"/>
          <p:cNvSpPr/>
          <p:nvPr/>
        </p:nvSpPr>
        <p:spPr>
          <a:xfrm>
            <a:off x="684360" y="1773360"/>
            <a:ext cx="777528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TF plenary sess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SG, or any member thereof on behalf of the IESG</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ETF mailing list, including the IETF list itself, any working group or design team list, or any other list functioning under IETF auspices</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ETF working group or portion thereof</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Birds of a Feather (BOF) sess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AB or any member thereof on behalf of the IAB</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FC Editor or the Internet-Drafts function</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ETF Contributions are subject to the rules of RFC 5378 and RFC 3979 (updated by RFC 487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nsult RFC 5378 and RFC 3979 for detai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ticipant in any IETF activity acknowledges that written, audio and video records of meetings may be made and may be available to the publi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ote on WG Adoption</a:t>
            </a:r>
            <a:endParaRPr b="0" lang="en-US" sz="4400" spc="-1" strike="noStrike">
              <a:solidFill>
                <a:srgbClr val="000000"/>
              </a:solidFill>
              <a:latin typeface="Times New Roman"/>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document a reasonable base to start work on achieving a milest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what specific text changes are nee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is not a WG last call and the authors/editors must reflect WG consensus once the document is adop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ization and Ethernet Addressing</a:t>
            </a:r>
            <a:endParaRPr b="0" lang="en-US" sz="44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RAC chair gave the following presentation to the IESG on impact of virtualization on Ethernet OUI/EUI space</a:t>
            </a:r>
            <a:endParaRPr b="0" lang="en-US" sz="3200" spc="-1" strike="noStrike">
              <a:solidFill>
                <a:srgbClr val="000000"/>
              </a:solidFill>
              <a:latin typeface="Times New Roman"/>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ietf.org/iesg/ieee/20120725/RAC_Virtualization_July2012.pdf</a:t>
            </a:r>
            <a:endParaRPr b="0" lang="en-US" sz="2800" spc="-1" strike="noStrike">
              <a:solidFill>
                <a:srgbClr val="000000"/>
              </a:solidFill>
              <a:latin typeface="Times New Roman"/>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also be presented in RTG area open meeting on Thursday at 9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Statement Draft(s)</a:t>
            </a:r>
            <a:endParaRPr b="0" lang="en-US" sz="4400" spc="-1" strike="noStrike">
              <a:solidFill>
                <a:srgbClr val="000000"/>
              </a:solidFill>
              <a:latin typeface="Times New Roman"/>
            </a:endParaRPr>
          </a:p>
        </p:txBody>
      </p:sp>
      <p:sp>
        <p:nvSpPr>
          <p:cNvPr id="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read both draf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draft is a better st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specific open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mework Draft</a:t>
            </a:r>
            <a:endParaRPr b="0" lang="en-US" sz="4400" spc="-1" strike="noStrike">
              <a:solidFill>
                <a:srgbClr val="000000"/>
              </a:solidFill>
              <a:latin typeface="Times New Roman"/>
            </a:endParaRPr>
          </a:p>
        </p:txBody>
      </p:sp>
      <p:sp>
        <p:nvSpPr>
          <p:cNvPr id="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read the dra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revised draft ready for ado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t, what are the specific issu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Virtualization Overlays (NVO3)</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240" y="3886200"/>
            <a:ext cx="68007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ETF 84, Vancouver, Canada</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nson Schliesser (bensons</a:t>
            </a:r>
            <a:r>
              <a:rPr b="0" lang="en-GB" sz="2400" spc="-1" strike="noStrike" u="sng">
                <a:solidFill>
                  <a:srgbClr val="ccccff"/>
                </a:solidFill>
                <a:uFillTx/>
                <a:latin typeface="Times New Roman"/>
                <a:hlinkClick r:id="rId1"/>
              </a:rPr>
              <a:t>@</a:t>
            </a:r>
            <a:r>
              <a:rPr b="0" lang="en-GB" sz="2400" spc="-1" strike="noStrike">
                <a:solidFill>
                  <a:srgbClr val="000000"/>
                </a:solidFill>
                <a:latin typeface="Times New Roman"/>
              </a:rPr>
              <a:t>queuefull.ne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tthew Bocci (matthew.bocci@alcatel-lucen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ministriv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lue She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te takers + Jabber Scri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iling List:</a:t>
            </a:r>
            <a:endParaRPr b="0" lang="en-US" sz="32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l Discussion: nvo3@ietf.org</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Subscribe: nvo3-request@ietf.org</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Body: subscribe your_email_address</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chive: http://www.ietf.org/mail-archive/web/nvo3/index.html</a:t>
            </a: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eting Objectives</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ess the problem statement and framework drafts so that they can be adopted by the working gro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1</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2864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ning Intro ----------- 5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Blue sheets, Agenda bash, Status update – Chair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lem Statement and Framework Discussion ----------- 80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VPN for Data Centers Problem Statement - draft-fang-vpn4dc-problem-statement-01 - Maria Napierala</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Problem Statement - draft-narten-nvo3-overlay-problems-statement-03 - Thomas Narte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5 mins - Progressing the problem statement discussion - Chair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Framework - draft-lasserre-nvo3-framework-03 - Marc Lasserr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5 mins - Progressing the framework - Chai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2</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28640"/>
            <a:ext cx="7772400" cy="41148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Milestone-related Drafts ----------- 45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Data Plane Requirements - draft-bl-nvo3-dataplane-requirements - Marc Lasserre  </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Issues of Mobility in DC Overlay network - draft-dunbar-nvo3-overlay-mobility-issues-00 - Linda Dunbar</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Using Signaling to Simplify Network Virtualization Provisioning - draft-kompella-nvo3-server2nve – Thomas Mor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Requirements on TES-NVE interface and Additional requirements on control plane - Yingjie Gu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gu-nvo3-tes-nve-mechanism-0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gu-nvo3-overlay-cp-arch-00 </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 mins - nvo3 operational requirements - draft-ashwood-nvo3-operational-requirement - Peter Ashwood Smith or Ali Sajass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 3 (If time allow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2864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Drafts ----------- 20 mi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Use Cases for DC Network Virtualization Overlays - draft-mity-nvo3-use-case-01 - Mehmet Toy</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Analysis of Security Threats, Security Requirements for nvo3</a:t>
            </a:r>
            <a:br>
              <a:rPr sz="2000"/>
            </a:br>
            <a:r>
              <a:rPr b="0" lang="en-GB" sz="2000" spc="-1" strike="noStrike">
                <a:solidFill>
                  <a:srgbClr val="000000"/>
                </a:solidFill>
                <a:latin typeface="Times New Roman"/>
              </a:rPr>
              <a:t>    draft-wei-nvo3-security-framework-00 - Yinxing Wei</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Layer 3 address considerations for Network Virtualization Overlay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raft-carpenter-nvo3-addressing-00 - Sheng Jiang</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mins - Accessing Cloud Services - draft-stein-cloud-access-01 - Yaakov Stein</a:t>
            </a: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estones</a:t>
            </a:r>
            <a:endParaRPr b="0" lang="en-US" sz="4400" spc="-1" strike="noStrike">
              <a:solidFill>
                <a:srgbClr val="000000"/>
              </a:solidFill>
              <a:latin typeface="Times New Roman"/>
            </a:endParaRPr>
          </a:p>
        </p:txBody>
      </p:sp>
      <p:sp>
        <p:nvSpPr>
          <p:cNvPr id="63" name=""/>
          <p:cNvSpPr txBox="1"/>
          <p:nvPr/>
        </p:nvSpPr>
        <p:spPr>
          <a:xfrm>
            <a:off x="395280" y="1916280"/>
            <a:ext cx="842472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Problem Statement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Framework document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Data plane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 2012 - Operational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 2013 - Control plane requirement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 2013 - Gap Analysis submitted for IESG revie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r 2013 - Recharter or close Working Grou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Status</a:t>
            </a:r>
            <a:endParaRPr b="0" lang="en-US" sz="4400" spc="-1" strike="noStrike">
              <a:solidFill>
                <a:srgbClr val="000000"/>
              </a:solidFill>
              <a:latin typeface="Times New Roman"/>
            </a:endParaRPr>
          </a:p>
        </p:txBody>
      </p:sp>
      <p:sp>
        <p:nvSpPr>
          <p:cNvPr id="65" name=""/>
          <p:cNvSpPr txBox="1"/>
          <p:nvPr/>
        </p:nvSpPr>
        <p:spPr>
          <a:xfrm>
            <a:off x="685800" y="170028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is our first meeting as a working group after a successful BoF in Paris</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anks to everyone involved!</a:t>
            </a:r>
            <a:endParaRPr b="0" lang="en-US" sz="28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 RFCs or WG drafts, yet</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ll for adoption prior to this IETF:</a:t>
            </a:r>
            <a:endParaRPr b="0" lang="en-US" sz="32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narten-nvo3-overlay-problems-statement-03</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lasserre-nvo3-framework-03</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many comments to adopt before this IETF</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try to make progress towards consensus on adoption in Vancouver</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15:36:29Z</dcterms:created>
  <dc:creator>Matthew Bocci</dc:creator>
  <dc:description/>
  <dc:language>en-US</dc:language>
  <cp:lastModifiedBy>Matthew Bocci</cp:lastModifiedBy>
  <dcterms:modified xsi:type="dcterms:W3CDTF">2012-07-31T15:28:18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02876</vt:r8>
  </property>
  <property fmtid="{D5CDD505-2E9C-101B-9397-08002B2CF9AE}" pid="3" name="_AuthorEmail">
    <vt:lpwstr>wdec@cisco.com</vt:lpwstr>
  </property>
  <property fmtid="{D5CDD505-2E9C-101B-9397-08002B2CF9AE}" pid="4" name="_AuthorEmailDisplayName">
    <vt:lpwstr>Wojciech Dec (wdec)</vt:lpwstr>
  </property>
  <property fmtid="{D5CDD505-2E9C-101B-9397-08002B2CF9AE}" pid="5" name="_EmailSubject">
    <vt:lpwstr>L2CP-BoF-00.ppt</vt:lpwstr>
  </property>
  <property fmtid="{D5CDD505-2E9C-101B-9397-08002B2CF9AE}" pid="6" name="_NewReviewCycle">
    <vt:lpwstr/>
  </property>
</Properties>
</file>