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586-2678-470C-928A-C10D39F4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4DF-208F-4CDA-B575-0F270A55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505-1C2E-42EC-A9DD-78C303DD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D66-8714-48BF-8FA9-C2B9EC53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B4B-EC83-45BC-BB4A-018CECFD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126-E366-4632-A7ED-1A40972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CB4-CC75-4FD9-9DD5-AC7A404D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62D-3D0D-4C13-BE1E-F236A53D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C21-0547-4390-93BF-9FE4688B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0D1-DDD9-4A1B-A183-E2AF8F13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886-738F-4810-86C6-73F195A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D99-58D2-4C69-9186-C45E02D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F83-A7FB-4B89-928F-D28D3CC287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verlay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lasserre-nvo3-framework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Lass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n B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l B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kov Rek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ocument provides a framework for Data Center Network Virtualization over L3 tunn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 model &amp; function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s to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in 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ed comments made on the list and priv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d and harmonized terminolog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d V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fication (VNID or local referenc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ication of DP learning applicability vs CP/Management base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ed L2/L3 service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N to VNI mapping (1-to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WG feel comfortable with the base draft for W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re some specific text that needs to be changed/added/rem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dd’l details w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ol-plane versus management versus data-plan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erarchical N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29:07Z</dcterms:created>
  <dc:creator>mlasserr</dc:creator>
  <dc:description/>
  <dc:language>en-US</dc:language>
  <cp:lastModifiedBy>mlasserr</cp:lastModifiedBy>
  <dcterms:modified xsi:type="dcterms:W3CDTF">2012-07-30T20:27:16Z</dcterms:modified>
  <cp:revision>18</cp:revision>
  <dc:subject/>
  <dc:title>Network Overlay Framework</dc:title>
</cp:coreProperties>
</file>