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1F7-1C62-47A6-9F04-95D0236C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68D-763D-4F2B-B8F5-1A5BAE27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277-CFC7-4D42-861F-FCDE0A76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E4B-059F-437A-AF99-B1D62578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39B-DEF0-4487-85CE-D6F65B72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6CA-EB00-4473-9752-F0204483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F69-90E3-4DFE-AC89-B089D5B1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787-424E-495B-9B50-80BC8DB9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6EB-DB5B-4A8E-8F70-987959E0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6E9-0ED8-419E-A05E-B78878E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347-6B4D-4BF8-83A2-09B29AD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872-4E20-4CB4-8038-A7FF65E1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95F4-CF8A-42CE-8F64-3CF5E9EA6A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verlay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lasserre-nvo3-framework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Lass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n B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l B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kov Rekh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ocument provides a framework for Data Center Network Virtualization over L3 tunn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 model &amp; function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s to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nges in 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ed comments made on the list and priv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d and harmonized terminology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d V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fication (VNID or local referenc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ication of DP learning applicability vs CP/Management base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ed L2/L3 service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N to VNI mapping (1-to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WG feel comfortable with the base draft for W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re some specific text that needs to be changed/added/rem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dd’l details w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ol-plane versus management versus data-plan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erarchical N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29:07Z</dcterms:created>
  <dc:creator>mlasserr</dc:creator>
  <dc:description/>
  <dc:language>en-US</dc:language>
  <cp:lastModifiedBy>mlasserr</cp:lastModifiedBy>
  <dcterms:modified xsi:type="dcterms:W3CDTF">2012-07-30T20:27:16Z</dcterms:modified>
  <cp:revision>18</cp:revision>
  <dc:subject/>
  <dc:title>Network Overlay Framework</dc:title>
</cp:coreProperties>
</file>