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9D5-BEFD-4B01-9539-253A4350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B51-A179-4005-88AB-9296016C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50A-668B-40FD-A666-EA62222F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5D43-3D2E-4B44-BFE5-2066FB46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B97-557C-4DDF-B841-52F6B0C0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6ADA-5C8D-4BFA-BFE8-E6F97831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211D-ADB0-43F7-A2E3-3E324BF1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F708-16A7-442C-AE29-82FC950A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6E98-95A2-4C8E-8A76-C1FA14C9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040-2135-41B5-9BAC-5FA6DBB0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7549-7155-4967-BC0B-E3EF0F42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B06-CC63-4A94-824C-5816DBBD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3147-23C7-460C-86FD-8ECE613D2D0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verlay Dataplan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nb-nvo3-dataplane-requirements-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il B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 Lasser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rin Ba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Mo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pose of the d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plane requirements for Data Center Network Virtualization over L3 tunne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P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2 &amp; L3 VNI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VO3 header and tu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N context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plicit unique id (e.g. VNID) or locally significant ident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tional QoS/Cos m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VE tunnelling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P encaps (MUST) &amp; MPLS encaps (M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G &amp; ECMP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ffServ &amp; ECN ma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M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rnal connectivity via G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h optim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h MTU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NI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2 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ulated Ethernet multipoi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 address learning 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plan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/Management plane MAC address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3 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rtualized IP routing &amp;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nges in -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ressed comments made on the list and priv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pdated V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dentification (VNID or local reference 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al multicas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al integrated bridging &amp; routing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fication of DP learning applicability vs CP/Management based provis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entropy requirement more gene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capsulation MUST result in sufficient entropy to exercise all paths through several LAG/ECMP hop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3:29:07Z</dcterms:created>
  <dc:creator>mlasserr</dc:creator>
  <dc:description/>
  <dc:language>en-US</dc:language>
  <cp:lastModifiedBy>mlasserr</cp:lastModifiedBy>
  <dcterms:modified xsi:type="dcterms:W3CDTF">2012-07-30T20:27:12Z</dcterms:modified>
  <cp:revision>20</cp:revision>
  <dc:subject/>
  <dc:title>Network Overlay Framework</dc:title>
</cp:coreProperties>
</file>