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255A-4C9F-432E-92FB-9356EFD7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074D-B56F-47CC-9E43-6C87AB40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EAD-1B46-4288-A107-7B27E487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04DB-F9AE-4A3A-A6CB-F342D67D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EE19-6535-4C51-B933-CABAE597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783A-328D-4455-AC75-20F6CAFB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7DA4-4406-41F0-B2DB-5C3C7F3D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8246-658E-4EB1-B65A-E612F62D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F54C-BA75-403F-BE17-21D7A439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513-BB97-4C2D-AED5-22BC076B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5C7A-2B6E-41C1-9834-83936825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0817-EF36-4930-83E7-7170D8DA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CDFB-3080-4B8E-A66D-31654D9B8AA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verlay Dataplan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nb-nvo3-dataplane-requirements-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il B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 Lasser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rin Ba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Mo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pose of the d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plane requirements for Data Center Network Virtualization over L3 tunne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P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2 &amp; L3 VNI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VO3 header and tu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N context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plicit unique id (e.g. VNID) or locally significant ident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tional QoS/Cos m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VE tunnelling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P encaps (MUST) &amp; MPLS encaps (M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G &amp; ECMP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ffServ &amp; ECN ma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M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rnal connectivity via G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h optim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h MTU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NI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2 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ulated Ethernet multipoi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 address learning 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plan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/Management plane MAC address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3 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rtualized IP routing &amp;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nges in -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ressed comments made on the list and priv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pdated V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dentification (VNID or local reference 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al multicas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al integrated bridging &amp; routing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fication of DP learning applicability vs CP/Management based provis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entropy requirement more gene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capsulation MUST result in sufficient entropy to exercise all paths through several LAG/ECMP hop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3:29:07Z</dcterms:created>
  <dc:creator>mlasserr</dc:creator>
  <dc:description/>
  <dc:language>en-US</dc:language>
  <cp:lastModifiedBy>mlasserr</cp:lastModifiedBy>
  <dcterms:modified xsi:type="dcterms:W3CDTF">2012-07-30T20:27:12Z</dcterms:modified>
  <cp:revision>20</cp:revision>
  <dc:subject/>
  <dc:title>Network Overlay Framework</dc:title>
</cp:coreProperties>
</file>