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F8A-4F65-481D-83A2-91906D46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925-FD15-416E-8998-800DFBF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2E1-0A54-4FC8-B3CD-2B6FAEEE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15C-CBF5-4420-8044-1A58CEDA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7F2-BEAF-4452-B869-7DA79E77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C81-3235-4A58-9045-632B0D7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BDE-5C6E-42C7-96AE-2B49123D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9D9-F35D-420B-B5EC-C140EC6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9DA-DCAA-4082-A79E-22D61C8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ACD-A828-4972-93C8-D18F5F66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BC4-5C29-439A-A252-1EA065E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F22-E671-4AD0-AEDA-707EDC0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C52-5250-49B9-9456-886E5091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ashwoodsmith@huawei.com" TargetMode="External"/><Relationship Id="rId2" Type="http://schemas.openxmlformats.org/officeDocument/2006/relationships/hyperlink" Target="mailto:sajassi@cisco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-ashwood-nvo3-operational-requirement-00.tx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Ashwood-Sm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ashwoodsmith@huawei.com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i Sajas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jassi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9) NVO3 OAM M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daptation/inter-working with its IP underlay OAM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example, this would be useful to allow fault notifications from the IP layer to be sent to the  NVO3 layer and likewise exposure of LAG / ECMP will require such non-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0) NVO3 OAM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of the applic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pecific application OAM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/Remove requirement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 removed requirements and reason to avoid future debat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email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bottom up, i.e. ad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s we g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Light weight, Con: les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o top down, i.e. take existing requirements and cut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Heavier weight, Pro: more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 chose to go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wealth/dearth of OAM work already done so we went looking for existing requirements (I’m laz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IETF we used RFC 61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base .. which in turn builds on OSI O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yer 2 Virtual Private Network (L2VPN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rations Administration, and Maintenance (OAM) Requirements and Framework. March 2011 A. Sajassi and D. Moh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this is overkill and needs pruning b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at’s a group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ling RFC 6136 requirements and re-homing for NVO3 with little pruning yet yield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an NV Edge device to discover other NV  Edge de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hare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proactive connectivity 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s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monitoring/tracing of all possible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V Edge devices such that equal cost paths that traverse LAG and/or ECMP may be differenti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w connectivity fault loc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instance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fault notification to be triggered as a result of the IP under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 faults.  This fault notification SHOULD be used for the suppression of redundant service-level al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7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ss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8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two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9) NVO3 OAM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one-way frame/packe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0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port measurement of per VNI frame/packet delay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wo NV Edge devices that support the same VNI within a given NVO3 domai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1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forwarded along the same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links (including LAG members) and nodes) as the NVO3 data fr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2) NVO3 OAM frames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e a mechanisms to exercise/trace all data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 due to ECMP/LAG h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3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scalable such that an NV edge device can support proactive OAM for each V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supported by the device. (Note - Likely very hard to achieve with hash based ECMP/LAG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4) NVO3 OAM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 ext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new functionality and information elements related to this functionality can be introduced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) NVO3 OAM MUST be defined such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ices not supporting  the OAM are able to forward the OAM fr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imilar fashion as the regular NVO3 data frames/pa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’d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) NVO3 OAM frames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le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side their NVO3 dom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7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ed from en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VO3 domain when such OAM frames belong to the same level or to a lower-level OAM. (Trivially met because hierarchical domains are independent technolog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8) NVO3 OAM frames from outside an NVO3 domain MUST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ed transpa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NVO3 domain when such OAM frames belong to a higher-level NVO3 domain. (Trivially met because hierarchical domains are independent technolog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</cp:lastModifiedBy>
  <dcterms:modified xsi:type="dcterms:W3CDTF">2012-07-29T01:52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43526610</vt:lpwstr>
  </property>
</Properties>
</file>