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3B4-9B7D-4F3A-89D7-39214713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A6D-F121-4AF1-A455-D2C2141F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089-72CE-4225-93E6-5C548086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372-5877-4BE6-9A5F-B59E4451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B94-0256-4879-A98A-77BBA075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456-4604-4C97-B630-7641B1A6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FE1-EFA9-4805-94C6-16822BE6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FE3-9334-41BA-B603-195A98A4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055-CDB6-4600-991C-C45591FB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51E-537E-450C-BB4F-72CC57EF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FF9-CF3C-4AAC-9811-B25286CF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863-22A4-43DC-B0E1-88B15E2A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3166-3D86-463C-9B84-6DD73F78C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ashwoodsmith@huawei.com" TargetMode="External"/><Relationship Id="rId2" Type="http://schemas.openxmlformats.org/officeDocument/2006/relationships/hyperlink" Target="mailto:sajassi@cisco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ft-ashwood-nvo3-operational-requirement-00.tx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486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Ashwood-Sm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ashwoodsmith@huawei.com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i Sajass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jassi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9) NVO3 OAM M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adaptation/inter-working with its IP underlay OAM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For example, this would be useful to allow fault notifications from the IP layer to be sent to the  NVO3 layer and likewise exposure of LAG / ECMP will require such non-indepe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0) NVO3 OAM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ependent of the applic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pecific application OAM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/Remove requirement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k removed requirements and reason to avoid future debat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s email deb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o bottom up, i.e. ad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as we go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: Light weight, Con: less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o top down, i.e. take existing requirements and cut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: Heavier weight, Pro: more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 chose to go top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wealth/dearth of OAM work already done so we went looking for existing requirements (I’m laz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IETF we used RFC 613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base .. which in turn builds on OSI O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yer 2 Virtual Private Network (L2VPN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rations Administration, and Maintenance (OAM) Requirements and Framework. March 2011 A. Sajassi and D. Moh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this is overkill and needs pruning b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that’s a group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aling RFC 6136 requirements and re-homing for NVO3 with little pruning yet yield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an NV Edge device to discover other NV  Edge de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hare the same VNI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proactive connectivity 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s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monitoring/tracing of all possible pa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NV Edge devices such that equal cost paths that traverse LAG and/or ECMP may be differenti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4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connectivity fault 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5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connectivity fault loc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instance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6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fault notification to be triggered as a result of the IP under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 faults.  This fault notification SHOULD be used for the suppression of redundant service-level alar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7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frame/pack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ss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8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two-way frame/packe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9) NVO3 OAM SHOU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one-way frame/packe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0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frame/packet delay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1) NVO3 OAM frames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forwarded along the same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, links (including LAG members) and nodes) as the NVO3 data fr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2) NVO3 OAM frames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vide a mechanisms to exercise/trace all data pa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sult due to ECMP/LAG ho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3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scalable such that an NV edge device can support proactive OAM for each V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supported by the device. (Note - Likely very hard to achieve with hash based ECMP/LAG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4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exten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new functionality and information elements related to this functionality can be introduced in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5) NVO3 OAM MUST be defined such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vices not supporting  the OAM are able to forward the OAM fr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similar fashion as the regular NVO3 data frames/pack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6) NVO3 OAM frames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ed from le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side their NVO3 dom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7) NVO3 OAM frames from outside an NVO3 domain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ed from ent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VO3 domain when such OAM frames belong to the same level or to a lower-level OAM. (Trivially met because hierarchical domains are independent technolog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8) NVO3 OAM frames from outside an NVO3 domain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ported transpa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ide the NVO3 domain when such OAM frames belong to a higher-level NVO3 domain. (Trivially met because hierarchical domains are independent technolog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</cp:lastModifiedBy>
  <dcterms:modified xsi:type="dcterms:W3CDTF">2012-07-29T01:52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43526610</vt:lpwstr>
  </property>
</Properties>
</file>