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FEA95-6FAD-4B45-A357-8D76E7B93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9DEB3-2E3F-4822-A9D8-FFF2F8831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AB3-CE76-424B-87A0-A740D8F8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563-B27A-461A-ADF9-FF4CC7E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4C0-C2CD-422D-AB3A-FCDBDFA5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05F-0BA1-4AED-9C6E-C10CE368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690-F4DE-4250-A1BE-868FCBE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188-2D81-44C9-A20A-126C400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297-4E3C-47C5-9905-126789CF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6AF-20EC-418E-80D6-1BDE325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FC4-BC09-483D-B44B-F8EB617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07B-FEBD-42FC-B3F7-4995F6F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E85-1321-4C1C-906B-A192D3C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B55-E866-4FB7-875D-9801D00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814A9-AFCC-448B-B9CC-E3716F6D4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VO3 Security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wei-nvo3-security-framework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Yinxing Wei(ZTE) Luyuan Fang(Cisco)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hiwei Zhang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898989"/>
                </a:solidFill>
                <a:latin typeface="Calibri"/>
                <a:ea typeface="宋体"/>
              </a:rPr>
              <a:t>IETF#84 Vancouver, Can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31 July,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"/>
          <p:cNvPicPr/>
          <p:nvPr/>
        </p:nvPicPr>
        <p:blipFill>
          <a:blip r:embed="rId1"/>
          <a:stretch/>
        </p:blipFill>
        <p:spPr>
          <a:xfrm>
            <a:off x="7093080" y="404640"/>
            <a:ext cx="143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465840" y="6276960"/>
            <a:ext cx="57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NVO3 Security Framework into WG’s mile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607000" y="1511280"/>
            <a:ext cx="5223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654960" y="1511280"/>
            <a:ext cx="52056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6512040" y="5362560"/>
            <a:ext cx="80172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7432560" y="5364000"/>
            <a:ext cx="800280" cy="28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6521400" y="5764320"/>
            <a:ext cx="1709640" cy="2887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/DP/MP Req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8310600" y="5364000"/>
            <a:ext cx="552240" cy="689040"/>
          </a:xfrm>
          <a:prstGeom prst="rect">
            <a:avLst/>
          </a:prstGeom>
          <a:solidFill>
            <a:srgbClr val="ccff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. F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130800" y="475308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2  NVO3 Secur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123360" y="982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VO3 Security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6502320" y="61372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3 Drafts Depend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237960" y="592308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xt Step/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221400" y="9144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258480" y="1328760"/>
            <a:ext cx="62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ttack points in Virtual Network Overl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considerations on TES-NVE, NVE-U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NVE-Controller are discussed in drafts[FRA][CP][DP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overall security framework for NVO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219240" y="27608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452880" y="3233880"/>
            <a:ext cx="51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model - Establish trus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threats - Identify attack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reqs. - Control/Data/Mgmt. Plane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nse mechanisms - mitigation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10240" y="478620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with other draf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453240" y="5227560"/>
            <a:ext cx="57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pdating with inputs from PS/Fra draf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 other drafts that focus on related secur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52"/>
          <p:cNvCxnSpPr/>
          <p:nvPr/>
        </p:nvCxnSpPr>
        <p:spPr>
          <a:xfrm>
            <a:off x="5500800" y="1287000"/>
            <a:ext cx="49104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cxnSp>
        <p:nvCxnSpPr>
          <p:cNvPr id="69" name="Straight Arrow Connector 54"/>
          <p:cNvCxnSpPr/>
          <p:nvPr/>
        </p:nvCxnSpPr>
        <p:spPr>
          <a:xfrm>
            <a:off x="5790960" y="534492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  <p:sp>
        <p:nvSpPr>
          <p:cNvPr id="70" name="Rectangle 37"/>
          <p:cNvSpPr/>
          <p:nvPr/>
        </p:nvSpPr>
        <p:spPr>
          <a:xfrm>
            <a:off x="8515440" y="1511280"/>
            <a:ext cx="520560" cy="355680"/>
          </a:xfrm>
          <a:prstGeom prst="rect">
            <a:avLst/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7491240" y="1511280"/>
            <a:ext cx="520920" cy="355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42"/>
          <p:cNvSpPr/>
          <p:nvPr/>
        </p:nvSpPr>
        <p:spPr>
          <a:xfrm>
            <a:off x="6129360" y="1689120"/>
            <a:ext cx="525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45"/>
          <p:cNvSpPr/>
          <p:nvPr/>
        </p:nvSpPr>
        <p:spPr>
          <a:xfrm>
            <a:off x="8012160" y="1689120"/>
            <a:ext cx="50328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ultiply 49"/>
          <p:cNvSpPr/>
          <p:nvPr/>
        </p:nvSpPr>
        <p:spPr>
          <a:xfrm rot="10800000">
            <a:off x="6294240" y="15397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769080" y="21589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41"/>
          <p:cNvSpPr/>
          <p:nvPr/>
        </p:nvSpPr>
        <p:spPr>
          <a:xfrm>
            <a:off x="6915240" y="1866960"/>
            <a:ext cx="0" cy="291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46"/>
          <p:cNvSpPr/>
          <p:nvPr/>
        </p:nvSpPr>
        <p:spPr>
          <a:xfrm>
            <a:off x="7780320" y="1879560"/>
            <a:ext cx="0" cy="2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ultiply 47"/>
          <p:cNvSpPr/>
          <p:nvPr/>
        </p:nvSpPr>
        <p:spPr>
          <a:xfrm rot="10800000">
            <a:off x="6802200" y="187812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ultiply 48"/>
          <p:cNvSpPr/>
          <p:nvPr/>
        </p:nvSpPr>
        <p:spPr>
          <a:xfrm rot="10800000">
            <a:off x="7670880" y="1893960"/>
            <a:ext cx="2268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ultiply 53"/>
          <p:cNvSpPr/>
          <p:nvPr/>
        </p:nvSpPr>
        <p:spPr>
          <a:xfrm rot="10800000">
            <a:off x="8148240" y="154944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ultiply 58"/>
          <p:cNvSpPr/>
          <p:nvPr/>
        </p:nvSpPr>
        <p:spPr>
          <a:xfrm rot="10800000">
            <a:off x="579564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ultiply 59"/>
          <p:cNvSpPr/>
          <p:nvPr/>
        </p:nvSpPr>
        <p:spPr>
          <a:xfrm rot="10800000">
            <a:off x="8681760" y="1754280"/>
            <a:ext cx="228600" cy="26352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0"/>
          <p:cNvSpPr/>
          <p:nvPr/>
        </p:nvSpPr>
        <p:spPr>
          <a:xfrm>
            <a:off x="6707160" y="760320"/>
            <a:ext cx="1243080" cy="2746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61"/>
          <p:cNvSpPr/>
          <p:nvPr/>
        </p:nvSpPr>
        <p:spPr>
          <a:xfrm>
            <a:off x="6915240" y="1035000"/>
            <a:ext cx="28440" cy="469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Multiply 62"/>
          <p:cNvSpPr/>
          <p:nvPr/>
        </p:nvSpPr>
        <p:spPr>
          <a:xfrm rot="10800000">
            <a:off x="6816240" y="1100160"/>
            <a:ext cx="22716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63"/>
          <p:cNvSpPr/>
          <p:nvPr/>
        </p:nvSpPr>
        <p:spPr>
          <a:xfrm>
            <a:off x="7777080" y="1035000"/>
            <a:ext cx="0" cy="4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ultiply 64"/>
          <p:cNvSpPr/>
          <p:nvPr/>
        </p:nvSpPr>
        <p:spPr>
          <a:xfrm rot="10800000">
            <a:off x="7667280" y="1100160"/>
            <a:ext cx="228600" cy="264960"/>
          </a:xfrm>
          <a:custGeom>
            <a:avLst/>
            <a:gdLst/>
            <a:ahLst/>
            <a:rect l="l" t="t" r="r" b="b"/>
            <a:pathLst>
              <a:path w="228202" h="264513">
                <a:moveTo>
                  <a:pt x="34489" y="81060"/>
                </a:moveTo>
                <a:lnTo>
                  <a:pt x="75128" y="45999"/>
                </a:lnTo>
                <a:lnTo>
                  <a:pt x="114101" y="91173"/>
                </a:lnTo>
                <a:lnTo>
                  <a:pt x="153074" y="45999"/>
                </a:lnTo>
                <a:lnTo>
                  <a:pt x="193713" y="81060"/>
                </a:lnTo>
                <a:lnTo>
                  <a:pt x="149545" y="132257"/>
                </a:lnTo>
                <a:lnTo>
                  <a:pt x="193713" y="183453"/>
                </a:lnTo>
                <a:lnTo>
                  <a:pt x="153074" y="218514"/>
                </a:lnTo>
                <a:lnTo>
                  <a:pt x="114101" y="173340"/>
                </a:lnTo>
                <a:lnTo>
                  <a:pt x="75128" y="218514"/>
                </a:lnTo>
                <a:lnTo>
                  <a:pt x="34489" y="183453"/>
                </a:lnTo>
                <a:lnTo>
                  <a:pt x="78657" y="132257"/>
                </a:lnTo>
                <a:lnTo>
                  <a:pt x="34489" y="810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6149160" y="248904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ig. 1 Attack points against V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7095960" y="1341360"/>
            <a:ext cx="520920" cy="1461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6593040" y="1365120"/>
            <a:ext cx="1500120" cy="52884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7148520" y="3743280"/>
            <a:ext cx="47160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7686720" y="3743280"/>
            <a:ext cx="490320" cy="36828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8237520" y="3743280"/>
            <a:ext cx="476280" cy="351000"/>
          </a:xfrm>
          <a:prstGeom prst="rect">
            <a:avLst/>
          </a:prstGeom>
          <a:noFill/>
          <a:ln w="9360">
            <a:solidFill>
              <a:srgbClr val="4a7ebb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6035760" y="3402000"/>
            <a:ext cx="94464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7"/>
          <p:cNvSpPr/>
          <p:nvPr/>
        </p:nvSpPr>
        <p:spPr>
          <a:xfrm>
            <a:off x="6026040" y="4363920"/>
            <a:ext cx="2756160" cy="357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nse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8"/>
          <p:cNvSpPr/>
          <p:nvPr/>
        </p:nvSpPr>
        <p:spPr>
          <a:xfrm>
            <a:off x="6035760" y="3000240"/>
            <a:ext cx="2746440" cy="316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7062840" y="3402000"/>
            <a:ext cx="1719360" cy="876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 Req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83"/>
          <p:cNvCxnSpPr/>
          <p:nvPr/>
        </p:nvCxnSpPr>
        <p:spPr>
          <a:xfrm>
            <a:off x="5238360" y="3160440"/>
            <a:ext cx="524160" cy="1080"/>
          </a:xfrm>
          <a:prstGeom prst="straightConnector1">
            <a:avLst/>
          </a:prstGeom>
          <a:ln w="25560">
            <a:solidFill>
              <a:srgbClr val="bfbfbf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03:42:01Z</dcterms:created>
  <dc:creator>weiyinxing</dc:creator>
  <dc:description/>
  <dc:language>en-US</dc:language>
  <cp:lastModifiedBy>weiyinxing</cp:lastModifiedBy>
  <dcterms:modified xsi:type="dcterms:W3CDTF">2012-07-30T19:21:32Z</dcterms:modified>
  <cp:revision>41</cp:revision>
  <dc:subject/>
  <dc:title>NVO3 Security Framework</dc:title>
</cp:coreProperties>
</file>