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33A12B-1B55-440D-9CB4-111C7963DA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32221F-ABB1-4269-833D-66B49CBAA5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34FD-E1E6-41D0-94F3-54E2AEAF9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E1FE-388E-42F0-B1B0-AC105796E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CB25-B261-4EB2-8407-56E837F5D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100C-DC06-47BE-8BA3-59C365B98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1A53-16C9-4EF4-82DC-3B61F0E14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4D7C-838F-4D94-B901-88E9D1FE8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3D60-8D36-4B62-98EE-839006062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B0CC-35CF-41AB-A170-754E66551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EE74-5030-4231-A43F-51B205704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3A30-425F-40E4-A507-6A7097B7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535E-B821-48B7-A79A-CABCB927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8FB8-549B-4452-A04A-F6DBEDEA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C964A5-C2C7-4FDC-82D2-2F7DD8AC8F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NVO3 Security Fra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919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  <a:ea typeface="宋体"/>
              </a:rPr>
              <a:t>draft-wei-nvo3-security-framework-0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200" spc="-1" strike="noStrike">
                <a:solidFill>
                  <a:srgbClr val="898989"/>
                </a:solidFill>
                <a:latin typeface="Calibri"/>
                <a:ea typeface="宋体"/>
              </a:rPr>
              <a:t>Yinxing Wei(ZTE) Luyuan Fang(Cisco) </a:t>
            </a: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Shiwei Zhang(ZT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200" spc="-1" strike="noStrike">
                <a:solidFill>
                  <a:srgbClr val="898989"/>
                </a:solidFill>
                <a:latin typeface="Calibri"/>
                <a:ea typeface="宋体"/>
              </a:rPr>
              <a:t>IETF#84 Vancouver, Canad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  <a:ea typeface="宋体"/>
              </a:rPr>
              <a:t>31 July, 201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Logo"/>
          <p:cNvPicPr/>
          <p:nvPr/>
        </p:nvPicPr>
        <p:blipFill>
          <a:blip r:embed="rId1"/>
          <a:stretch/>
        </p:blipFill>
        <p:spPr>
          <a:xfrm>
            <a:off x="7093080" y="404640"/>
            <a:ext cx="143964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9"/>
          <p:cNvSpPr/>
          <p:nvPr/>
        </p:nvSpPr>
        <p:spPr>
          <a:xfrm>
            <a:off x="465840" y="6276960"/>
            <a:ext cx="57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sider NVO3 Security Framework into WG’s milesto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5607000" y="1511280"/>
            <a:ext cx="522360" cy="355680"/>
          </a:xfrm>
          <a:prstGeom prst="rect">
            <a:avLst/>
          </a:prstGeom>
          <a:solidFill>
            <a:srgbClr val="c6d9f1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5"/>
          <p:cNvSpPr/>
          <p:nvPr/>
        </p:nvSpPr>
        <p:spPr>
          <a:xfrm>
            <a:off x="6654960" y="1511280"/>
            <a:ext cx="520560" cy="355680"/>
          </a:xfrm>
          <a:prstGeom prst="rect">
            <a:avLst/>
          </a:prstGeom>
          <a:solidFill>
            <a:srgbClr val="d7e4bd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V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6512040" y="5362560"/>
            <a:ext cx="801720" cy="28908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7432560" y="5364000"/>
            <a:ext cx="800280" cy="28908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6521400" y="5764320"/>
            <a:ext cx="1709640" cy="28872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P/DP/MP Req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8310600" y="5364000"/>
            <a:ext cx="552240" cy="689040"/>
          </a:xfrm>
          <a:prstGeom prst="rect">
            <a:avLst/>
          </a:prstGeom>
          <a:solidFill>
            <a:srgbClr val="ccff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. Fr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31"/>
          <p:cNvSpPr/>
          <p:nvPr/>
        </p:nvSpPr>
        <p:spPr>
          <a:xfrm>
            <a:off x="6130800" y="475308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Fig. 2  NVO3 Security Framewor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33"/>
          <p:cNvSpPr/>
          <p:nvPr/>
        </p:nvSpPr>
        <p:spPr>
          <a:xfrm>
            <a:off x="3123360" y="98280"/>
            <a:ext cx="34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NVO3 Security Frame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34"/>
          <p:cNvSpPr/>
          <p:nvPr/>
        </p:nvSpPr>
        <p:spPr>
          <a:xfrm>
            <a:off x="6502320" y="6137280"/>
            <a:ext cx="22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Fig. 3 Drafts Dependenc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35"/>
          <p:cNvSpPr/>
          <p:nvPr/>
        </p:nvSpPr>
        <p:spPr>
          <a:xfrm>
            <a:off x="237960" y="5923080"/>
            <a:ext cx="241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Next Step/Sugges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36"/>
          <p:cNvSpPr/>
          <p:nvPr/>
        </p:nvSpPr>
        <p:spPr>
          <a:xfrm>
            <a:off x="221400" y="91440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Motiv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37"/>
          <p:cNvSpPr/>
          <p:nvPr/>
        </p:nvSpPr>
        <p:spPr>
          <a:xfrm>
            <a:off x="258480" y="1328760"/>
            <a:ext cx="626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tential attack points in Virtual Network Overlay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urity considerations on TES-NVE, NVE-UN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NVE-Controller are discussed in drafts[FRA][CP][DP]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ck of overall security framework for NVO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38"/>
          <p:cNvSpPr/>
          <p:nvPr/>
        </p:nvSpPr>
        <p:spPr>
          <a:xfrm>
            <a:off x="219240" y="2760840"/>
            <a:ext cx="172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Consider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40"/>
          <p:cNvSpPr/>
          <p:nvPr/>
        </p:nvSpPr>
        <p:spPr>
          <a:xfrm>
            <a:off x="452880" y="3233880"/>
            <a:ext cx="517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urity model - Establish trust 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urity threats - Identify attack scenari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urity reqs. - Control/Data/Mgmt. Plane secu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fense mechanisms - mitigation techniq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41"/>
          <p:cNvSpPr/>
          <p:nvPr/>
        </p:nvSpPr>
        <p:spPr>
          <a:xfrm>
            <a:off x="210240" y="4786200"/>
            <a:ext cx="32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Relationship with other draf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43"/>
          <p:cNvSpPr/>
          <p:nvPr/>
        </p:nvSpPr>
        <p:spPr>
          <a:xfrm>
            <a:off x="453240" y="5227560"/>
            <a:ext cx="576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tinue updating with inputs from PS/Fra draf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nitor other drafts that focus on related security iss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8" name="Straight Arrow Connector 52"/>
          <p:cNvCxnSpPr/>
          <p:nvPr/>
        </p:nvCxnSpPr>
        <p:spPr>
          <a:xfrm>
            <a:off x="5500800" y="1287000"/>
            <a:ext cx="491040" cy="1080"/>
          </a:xfrm>
          <a:prstGeom prst="straightConnector1">
            <a:avLst/>
          </a:prstGeom>
          <a:ln w="25560">
            <a:solidFill>
              <a:srgbClr val="bfbfbf"/>
            </a:solidFill>
            <a:prstDash val="dash"/>
            <a:miter/>
            <a:tailEnd len="med" type="arrow" w="med"/>
          </a:ln>
        </p:spPr>
      </p:cxnSp>
      <p:cxnSp>
        <p:nvCxnSpPr>
          <p:cNvPr id="69" name="Straight Arrow Connector 54"/>
          <p:cNvCxnSpPr/>
          <p:nvPr/>
        </p:nvCxnSpPr>
        <p:spPr>
          <a:xfrm>
            <a:off x="5790960" y="5344920"/>
            <a:ext cx="524160" cy="1080"/>
          </a:xfrm>
          <a:prstGeom prst="straightConnector1">
            <a:avLst/>
          </a:prstGeom>
          <a:ln w="25560">
            <a:solidFill>
              <a:srgbClr val="bfbfbf"/>
            </a:solidFill>
            <a:prstDash val="dash"/>
            <a:miter/>
            <a:tailEnd len="med" type="arrow" w="med"/>
          </a:ln>
        </p:spPr>
      </p:cxnSp>
      <p:sp>
        <p:nvSpPr>
          <p:cNvPr id="70" name="Rectangle 37"/>
          <p:cNvSpPr/>
          <p:nvPr/>
        </p:nvSpPr>
        <p:spPr>
          <a:xfrm>
            <a:off x="8515440" y="1511280"/>
            <a:ext cx="520560" cy="355680"/>
          </a:xfrm>
          <a:prstGeom prst="rect">
            <a:avLst/>
          </a:prstGeom>
          <a:solidFill>
            <a:srgbClr val="c6d9f1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38"/>
          <p:cNvSpPr/>
          <p:nvPr/>
        </p:nvSpPr>
        <p:spPr>
          <a:xfrm>
            <a:off x="7491240" y="1511280"/>
            <a:ext cx="520920" cy="355680"/>
          </a:xfrm>
          <a:prstGeom prst="rect">
            <a:avLst/>
          </a:prstGeom>
          <a:solidFill>
            <a:srgbClr val="d7e4bd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V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traight Connector 42"/>
          <p:cNvSpPr/>
          <p:nvPr/>
        </p:nvSpPr>
        <p:spPr>
          <a:xfrm>
            <a:off x="6129360" y="1689120"/>
            <a:ext cx="5256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traight Connector 45"/>
          <p:cNvSpPr/>
          <p:nvPr/>
        </p:nvSpPr>
        <p:spPr>
          <a:xfrm>
            <a:off x="8012160" y="1689120"/>
            <a:ext cx="50328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Multiply 49"/>
          <p:cNvSpPr/>
          <p:nvPr/>
        </p:nvSpPr>
        <p:spPr>
          <a:xfrm rot="10800000">
            <a:off x="6294240" y="1539720"/>
            <a:ext cx="228600" cy="263520"/>
          </a:xfrm>
          <a:custGeom>
            <a:avLst/>
            <a:gdLst/>
            <a:ahLst/>
            <a:rect l="l" t="t" r="r" b="b"/>
            <a:pathLst>
              <a:path w="228202" h="264513">
                <a:moveTo>
                  <a:pt x="34489" y="81060"/>
                </a:moveTo>
                <a:lnTo>
                  <a:pt x="75128" y="45999"/>
                </a:lnTo>
                <a:lnTo>
                  <a:pt x="114101" y="91173"/>
                </a:lnTo>
                <a:lnTo>
                  <a:pt x="153074" y="45999"/>
                </a:lnTo>
                <a:lnTo>
                  <a:pt x="193713" y="81060"/>
                </a:lnTo>
                <a:lnTo>
                  <a:pt x="149545" y="132257"/>
                </a:lnTo>
                <a:lnTo>
                  <a:pt x="193713" y="183453"/>
                </a:lnTo>
                <a:lnTo>
                  <a:pt x="153074" y="218514"/>
                </a:lnTo>
                <a:lnTo>
                  <a:pt x="114101" y="173340"/>
                </a:lnTo>
                <a:lnTo>
                  <a:pt x="75128" y="218514"/>
                </a:lnTo>
                <a:lnTo>
                  <a:pt x="34489" y="183453"/>
                </a:lnTo>
                <a:lnTo>
                  <a:pt x="78657" y="132257"/>
                </a:lnTo>
                <a:lnTo>
                  <a:pt x="34489" y="8106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40"/>
          <p:cNvSpPr/>
          <p:nvPr/>
        </p:nvSpPr>
        <p:spPr>
          <a:xfrm>
            <a:off x="6769080" y="2158920"/>
            <a:ext cx="1243080" cy="27468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traight Connector 41"/>
          <p:cNvSpPr/>
          <p:nvPr/>
        </p:nvSpPr>
        <p:spPr>
          <a:xfrm>
            <a:off x="6915240" y="1866960"/>
            <a:ext cx="0" cy="2919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traight Connector 46"/>
          <p:cNvSpPr/>
          <p:nvPr/>
        </p:nvSpPr>
        <p:spPr>
          <a:xfrm>
            <a:off x="7780320" y="1879560"/>
            <a:ext cx="0" cy="2923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Multiply 47"/>
          <p:cNvSpPr/>
          <p:nvPr/>
        </p:nvSpPr>
        <p:spPr>
          <a:xfrm rot="10800000">
            <a:off x="6802200" y="1878120"/>
            <a:ext cx="228600" cy="263520"/>
          </a:xfrm>
          <a:custGeom>
            <a:avLst/>
            <a:gdLst/>
            <a:ahLst/>
            <a:rect l="l" t="t" r="r" b="b"/>
            <a:pathLst>
              <a:path w="228202" h="264513">
                <a:moveTo>
                  <a:pt x="34489" y="81060"/>
                </a:moveTo>
                <a:lnTo>
                  <a:pt x="75128" y="45999"/>
                </a:lnTo>
                <a:lnTo>
                  <a:pt x="114101" y="91173"/>
                </a:lnTo>
                <a:lnTo>
                  <a:pt x="153074" y="45999"/>
                </a:lnTo>
                <a:lnTo>
                  <a:pt x="193713" y="81060"/>
                </a:lnTo>
                <a:lnTo>
                  <a:pt x="149545" y="132257"/>
                </a:lnTo>
                <a:lnTo>
                  <a:pt x="193713" y="183453"/>
                </a:lnTo>
                <a:lnTo>
                  <a:pt x="153074" y="218514"/>
                </a:lnTo>
                <a:lnTo>
                  <a:pt x="114101" y="173340"/>
                </a:lnTo>
                <a:lnTo>
                  <a:pt x="75128" y="218514"/>
                </a:lnTo>
                <a:lnTo>
                  <a:pt x="34489" y="183453"/>
                </a:lnTo>
                <a:lnTo>
                  <a:pt x="78657" y="132257"/>
                </a:lnTo>
                <a:lnTo>
                  <a:pt x="34489" y="8106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Multiply 48"/>
          <p:cNvSpPr/>
          <p:nvPr/>
        </p:nvSpPr>
        <p:spPr>
          <a:xfrm rot="10800000">
            <a:off x="7670880" y="1893960"/>
            <a:ext cx="226800" cy="263520"/>
          </a:xfrm>
          <a:custGeom>
            <a:avLst/>
            <a:gdLst/>
            <a:ahLst/>
            <a:rect l="l" t="t" r="r" b="b"/>
            <a:pathLst>
              <a:path w="228202" h="264513">
                <a:moveTo>
                  <a:pt x="34489" y="81060"/>
                </a:moveTo>
                <a:lnTo>
                  <a:pt x="75128" y="45999"/>
                </a:lnTo>
                <a:lnTo>
                  <a:pt x="114101" y="91173"/>
                </a:lnTo>
                <a:lnTo>
                  <a:pt x="153074" y="45999"/>
                </a:lnTo>
                <a:lnTo>
                  <a:pt x="193713" y="81060"/>
                </a:lnTo>
                <a:lnTo>
                  <a:pt x="149545" y="132257"/>
                </a:lnTo>
                <a:lnTo>
                  <a:pt x="193713" y="183453"/>
                </a:lnTo>
                <a:lnTo>
                  <a:pt x="153074" y="218514"/>
                </a:lnTo>
                <a:lnTo>
                  <a:pt x="114101" y="173340"/>
                </a:lnTo>
                <a:lnTo>
                  <a:pt x="75128" y="218514"/>
                </a:lnTo>
                <a:lnTo>
                  <a:pt x="34489" y="183453"/>
                </a:lnTo>
                <a:lnTo>
                  <a:pt x="78657" y="132257"/>
                </a:lnTo>
                <a:lnTo>
                  <a:pt x="34489" y="8106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Multiply 53"/>
          <p:cNvSpPr/>
          <p:nvPr/>
        </p:nvSpPr>
        <p:spPr>
          <a:xfrm rot="10800000">
            <a:off x="8148240" y="1549440"/>
            <a:ext cx="227160" cy="264960"/>
          </a:xfrm>
          <a:custGeom>
            <a:avLst/>
            <a:gdLst/>
            <a:ahLst/>
            <a:rect l="l" t="t" r="r" b="b"/>
            <a:pathLst>
              <a:path w="228202" h="264513">
                <a:moveTo>
                  <a:pt x="34489" y="81060"/>
                </a:moveTo>
                <a:lnTo>
                  <a:pt x="75128" y="45999"/>
                </a:lnTo>
                <a:lnTo>
                  <a:pt x="114101" y="91173"/>
                </a:lnTo>
                <a:lnTo>
                  <a:pt x="153074" y="45999"/>
                </a:lnTo>
                <a:lnTo>
                  <a:pt x="193713" y="81060"/>
                </a:lnTo>
                <a:lnTo>
                  <a:pt x="149545" y="132257"/>
                </a:lnTo>
                <a:lnTo>
                  <a:pt x="193713" y="183453"/>
                </a:lnTo>
                <a:lnTo>
                  <a:pt x="153074" y="218514"/>
                </a:lnTo>
                <a:lnTo>
                  <a:pt x="114101" y="173340"/>
                </a:lnTo>
                <a:lnTo>
                  <a:pt x="75128" y="218514"/>
                </a:lnTo>
                <a:lnTo>
                  <a:pt x="34489" y="183453"/>
                </a:lnTo>
                <a:lnTo>
                  <a:pt x="78657" y="132257"/>
                </a:lnTo>
                <a:lnTo>
                  <a:pt x="34489" y="8106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Multiply 58"/>
          <p:cNvSpPr/>
          <p:nvPr/>
        </p:nvSpPr>
        <p:spPr>
          <a:xfrm rot="10800000">
            <a:off x="5795640" y="1754280"/>
            <a:ext cx="228600" cy="263520"/>
          </a:xfrm>
          <a:custGeom>
            <a:avLst/>
            <a:gdLst/>
            <a:ahLst/>
            <a:rect l="l" t="t" r="r" b="b"/>
            <a:pathLst>
              <a:path w="228202" h="264513">
                <a:moveTo>
                  <a:pt x="34489" y="81060"/>
                </a:moveTo>
                <a:lnTo>
                  <a:pt x="75128" y="45999"/>
                </a:lnTo>
                <a:lnTo>
                  <a:pt x="114101" y="91173"/>
                </a:lnTo>
                <a:lnTo>
                  <a:pt x="153074" y="45999"/>
                </a:lnTo>
                <a:lnTo>
                  <a:pt x="193713" y="81060"/>
                </a:lnTo>
                <a:lnTo>
                  <a:pt x="149545" y="132257"/>
                </a:lnTo>
                <a:lnTo>
                  <a:pt x="193713" y="183453"/>
                </a:lnTo>
                <a:lnTo>
                  <a:pt x="153074" y="218514"/>
                </a:lnTo>
                <a:lnTo>
                  <a:pt x="114101" y="173340"/>
                </a:lnTo>
                <a:lnTo>
                  <a:pt x="75128" y="218514"/>
                </a:lnTo>
                <a:lnTo>
                  <a:pt x="34489" y="183453"/>
                </a:lnTo>
                <a:lnTo>
                  <a:pt x="78657" y="132257"/>
                </a:lnTo>
                <a:lnTo>
                  <a:pt x="34489" y="8106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Multiply 59"/>
          <p:cNvSpPr/>
          <p:nvPr/>
        </p:nvSpPr>
        <p:spPr>
          <a:xfrm rot="10800000">
            <a:off x="8681760" y="1754280"/>
            <a:ext cx="228600" cy="263520"/>
          </a:xfrm>
          <a:custGeom>
            <a:avLst/>
            <a:gdLst/>
            <a:ahLst/>
            <a:rect l="l" t="t" r="r" b="b"/>
            <a:pathLst>
              <a:path w="228202" h="264513">
                <a:moveTo>
                  <a:pt x="34489" y="81060"/>
                </a:moveTo>
                <a:lnTo>
                  <a:pt x="75128" y="45999"/>
                </a:lnTo>
                <a:lnTo>
                  <a:pt x="114101" y="91173"/>
                </a:lnTo>
                <a:lnTo>
                  <a:pt x="153074" y="45999"/>
                </a:lnTo>
                <a:lnTo>
                  <a:pt x="193713" y="81060"/>
                </a:lnTo>
                <a:lnTo>
                  <a:pt x="149545" y="132257"/>
                </a:lnTo>
                <a:lnTo>
                  <a:pt x="193713" y="183453"/>
                </a:lnTo>
                <a:lnTo>
                  <a:pt x="153074" y="218514"/>
                </a:lnTo>
                <a:lnTo>
                  <a:pt x="114101" y="173340"/>
                </a:lnTo>
                <a:lnTo>
                  <a:pt x="75128" y="218514"/>
                </a:lnTo>
                <a:lnTo>
                  <a:pt x="34489" y="183453"/>
                </a:lnTo>
                <a:lnTo>
                  <a:pt x="78657" y="132257"/>
                </a:lnTo>
                <a:lnTo>
                  <a:pt x="34489" y="8106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60"/>
          <p:cNvSpPr/>
          <p:nvPr/>
        </p:nvSpPr>
        <p:spPr>
          <a:xfrm>
            <a:off x="6707160" y="760320"/>
            <a:ext cx="1243080" cy="27468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traight Connector 61"/>
          <p:cNvSpPr/>
          <p:nvPr/>
        </p:nvSpPr>
        <p:spPr>
          <a:xfrm>
            <a:off x="6915240" y="1035000"/>
            <a:ext cx="28440" cy="4698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Multiply 62"/>
          <p:cNvSpPr/>
          <p:nvPr/>
        </p:nvSpPr>
        <p:spPr>
          <a:xfrm rot="10800000">
            <a:off x="6816240" y="1100160"/>
            <a:ext cx="227160" cy="264960"/>
          </a:xfrm>
          <a:custGeom>
            <a:avLst/>
            <a:gdLst/>
            <a:ahLst/>
            <a:rect l="l" t="t" r="r" b="b"/>
            <a:pathLst>
              <a:path w="228202" h="264513">
                <a:moveTo>
                  <a:pt x="34489" y="81060"/>
                </a:moveTo>
                <a:lnTo>
                  <a:pt x="75128" y="45999"/>
                </a:lnTo>
                <a:lnTo>
                  <a:pt x="114101" y="91173"/>
                </a:lnTo>
                <a:lnTo>
                  <a:pt x="153074" y="45999"/>
                </a:lnTo>
                <a:lnTo>
                  <a:pt x="193713" y="81060"/>
                </a:lnTo>
                <a:lnTo>
                  <a:pt x="149545" y="132257"/>
                </a:lnTo>
                <a:lnTo>
                  <a:pt x="193713" y="183453"/>
                </a:lnTo>
                <a:lnTo>
                  <a:pt x="153074" y="218514"/>
                </a:lnTo>
                <a:lnTo>
                  <a:pt x="114101" y="173340"/>
                </a:lnTo>
                <a:lnTo>
                  <a:pt x="75128" y="218514"/>
                </a:lnTo>
                <a:lnTo>
                  <a:pt x="34489" y="183453"/>
                </a:lnTo>
                <a:lnTo>
                  <a:pt x="78657" y="132257"/>
                </a:lnTo>
                <a:lnTo>
                  <a:pt x="34489" y="8106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traight Connector 63"/>
          <p:cNvSpPr/>
          <p:nvPr/>
        </p:nvSpPr>
        <p:spPr>
          <a:xfrm>
            <a:off x="7777080" y="1035000"/>
            <a:ext cx="0" cy="4683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Multiply 64"/>
          <p:cNvSpPr/>
          <p:nvPr/>
        </p:nvSpPr>
        <p:spPr>
          <a:xfrm rot="10800000">
            <a:off x="7667280" y="1100160"/>
            <a:ext cx="228600" cy="264960"/>
          </a:xfrm>
          <a:custGeom>
            <a:avLst/>
            <a:gdLst/>
            <a:ahLst/>
            <a:rect l="l" t="t" r="r" b="b"/>
            <a:pathLst>
              <a:path w="228202" h="264513">
                <a:moveTo>
                  <a:pt x="34489" y="81060"/>
                </a:moveTo>
                <a:lnTo>
                  <a:pt x="75128" y="45999"/>
                </a:lnTo>
                <a:lnTo>
                  <a:pt x="114101" y="91173"/>
                </a:lnTo>
                <a:lnTo>
                  <a:pt x="153074" y="45999"/>
                </a:lnTo>
                <a:lnTo>
                  <a:pt x="193713" y="81060"/>
                </a:lnTo>
                <a:lnTo>
                  <a:pt x="149545" y="132257"/>
                </a:lnTo>
                <a:lnTo>
                  <a:pt x="193713" y="183453"/>
                </a:lnTo>
                <a:lnTo>
                  <a:pt x="153074" y="218514"/>
                </a:lnTo>
                <a:lnTo>
                  <a:pt x="114101" y="173340"/>
                </a:lnTo>
                <a:lnTo>
                  <a:pt x="75128" y="218514"/>
                </a:lnTo>
                <a:lnTo>
                  <a:pt x="34489" y="183453"/>
                </a:lnTo>
                <a:lnTo>
                  <a:pt x="78657" y="132257"/>
                </a:lnTo>
                <a:lnTo>
                  <a:pt x="34489" y="8106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31"/>
          <p:cNvSpPr/>
          <p:nvPr/>
        </p:nvSpPr>
        <p:spPr>
          <a:xfrm>
            <a:off x="6149160" y="2489040"/>
            <a:ext cx="271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Fig. 1 Attack points against V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66"/>
          <p:cNvSpPr/>
          <p:nvPr/>
        </p:nvSpPr>
        <p:spPr>
          <a:xfrm>
            <a:off x="7095960" y="1341360"/>
            <a:ext cx="520920" cy="14616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V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67"/>
          <p:cNvSpPr/>
          <p:nvPr/>
        </p:nvSpPr>
        <p:spPr>
          <a:xfrm>
            <a:off x="6593040" y="1365120"/>
            <a:ext cx="1500120" cy="528840"/>
          </a:xfrm>
          <a:prstGeom prst="rect">
            <a:avLst/>
          </a:prstGeom>
          <a:noFill/>
          <a:ln w="9360">
            <a:solidFill>
              <a:srgbClr val="4a7ebb"/>
            </a:solidFill>
            <a:prstDash val="dash"/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73"/>
          <p:cNvSpPr/>
          <p:nvPr/>
        </p:nvSpPr>
        <p:spPr>
          <a:xfrm>
            <a:off x="7148520" y="3743280"/>
            <a:ext cx="471600" cy="368280"/>
          </a:xfrm>
          <a:prstGeom prst="rect">
            <a:avLst/>
          </a:prstGeom>
          <a:noFill/>
          <a:ln w="9360">
            <a:solidFill>
              <a:srgbClr val="4a7ebb"/>
            </a:solidFill>
            <a:prstDash val="dash"/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74"/>
          <p:cNvSpPr/>
          <p:nvPr/>
        </p:nvSpPr>
        <p:spPr>
          <a:xfrm>
            <a:off x="7686720" y="3743280"/>
            <a:ext cx="490320" cy="368280"/>
          </a:xfrm>
          <a:prstGeom prst="rect">
            <a:avLst/>
          </a:prstGeom>
          <a:noFill/>
          <a:ln w="9360">
            <a:solidFill>
              <a:srgbClr val="4a7ebb"/>
            </a:solidFill>
            <a:prstDash val="dash"/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75"/>
          <p:cNvSpPr/>
          <p:nvPr/>
        </p:nvSpPr>
        <p:spPr>
          <a:xfrm>
            <a:off x="8237520" y="3743280"/>
            <a:ext cx="476280" cy="351000"/>
          </a:xfrm>
          <a:prstGeom prst="rect">
            <a:avLst/>
          </a:prstGeom>
          <a:noFill/>
          <a:ln w="9360">
            <a:solidFill>
              <a:srgbClr val="4a7ebb"/>
            </a:solidFill>
            <a:prstDash val="dash"/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76"/>
          <p:cNvSpPr/>
          <p:nvPr/>
        </p:nvSpPr>
        <p:spPr>
          <a:xfrm>
            <a:off x="6035760" y="3402000"/>
            <a:ext cx="944640" cy="8762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rea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77"/>
          <p:cNvSpPr/>
          <p:nvPr/>
        </p:nvSpPr>
        <p:spPr>
          <a:xfrm>
            <a:off x="6026040" y="4363920"/>
            <a:ext cx="2756160" cy="35748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fense Mechanism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78"/>
          <p:cNvSpPr/>
          <p:nvPr/>
        </p:nvSpPr>
        <p:spPr>
          <a:xfrm>
            <a:off x="6035760" y="3000240"/>
            <a:ext cx="2746440" cy="31608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urity Mod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79"/>
          <p:cNvSpPr/>
          <p:nvPr/>
        </p:nvSpPr>
        <p:spPr>
          <a:xfrm>
            <a:off x="7062840" y="3402000"/>
            <a:ext cx="1719360" cy="8762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urity Req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8" name="Straight Arrow Connector 83"/>
          <p:cNvCxnSpPr/>
          <p:nvPr/>
        </p:nvCxnSpPr>
        <p:spPr>
          <a:xfrm>
            <a:off x="5238360" y="3160440"/>
            <a:ext cx="524160" cy="1080"/>
          </a:xfrm>
          <a:prstGeom prst="straightConnector1">
            <a:avLst/>
          </a:prstGeom>
          <a:ln w="25560">
            <a:solidFill>
              <a:srgbClr val="bfbfbf"/>
            </a:solidFill>
            <a:prstDash val="dash"/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8T03:42:01Z</dcterms:created>
  <dc:creator>weiyinxing</dc:creator>
  <dc:description/>
  <dc:language>en-US</dc:language>
  <cp:lastModifiedBy>weiyinxing</cp:lastModifiedBy>
  <dcterms:modified xsi:type="dcterms:W3CDTF">2012-07-30T19:21:32Z</dcterms:modified>
  <cp:revision>41</cp:revision>
  <dc:subject/>
  <dc:title>NVO3 Security Framework</dc:title>
</cp:coreProperties>
</file>