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BCA-9579-4F0E-A0AC-BC0995D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02C-04B9-4232-A094-7B0DCCD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0F9-B1F9-4779-A7FD-94761EEB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A71-446D-4FD0-82E7-0C23599B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665-F423-4D51-934C-B0BEF074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1F51-DE5F-4481-88DA-1F40232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1CFC-E2D0-48C4-A2D3-54E7F9EC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DFA-6AEE-452C-A269-A265382B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87CA-3660-4BA0-BFF5-40892017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5BD-16F4-45DA-9FD0-1700043F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ACA-678E-451B-9CA7-1D98443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FC6-DE66-40C3-B08D-614F760A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40D1-EC4E-421C-9E00-C22AC74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542E-83E4-42D5-ADAD-6FCC1AE7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9FD-CB73-4759-9B2E-B443335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378F-FC81-43C2-B8EA-0550C0F7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84CA-B3C4-4EE5-9AAD-F12A089C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A462-00CE-4028-843E-B93A8E51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E316-9085-41D3-91F7-2033BD8E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A8EE-8987-46A3-9E7E-29D0D8B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CC9E-CB5F-4E10-8D76-F5C2068E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C243-1638-4F36-8F7A-3A00D37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8AD-00BE-4AB6-AB61-BFC56346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BC1F-C3BA-4E81-B304-FDD1E0B3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B034-EE60-479B-B8A0-287C500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C54B-4363-46C8-A8E0-047F0DA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3824-F2CF-4D26-89EB-81E7A7B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F286-0AEE-4C06-9A19-C3575AD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958B-F329-4D90-9D95-04943853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8AA9-4C43-4EEF-9E2B-1E511381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86C6-5499-4996-ABA1-7788D422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C492-A64D-4556-A059-2FC6D35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7034-0353-44F0-8132-C7EBA53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CAF-5046-4B5B-905D-E69E95D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8438-23C0-4A69-90C8-DACEF41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4AB4-F502-408A-9EF4-3313B5C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B471-67B5-473C-9A9B-0369E29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4CEE-F1F1-4867-BD4F-B4DD760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7DE1-9A75-4401-9774-926CC81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B09B-4DD0-4881-AE87-9649A61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2A05-58F2-491C-A935-D696D0E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CA54-76AB-4B8A-BFD7-C951239A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A362-01B4-442B-88F7-8E29C0D6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B7BC-2882-456B-95F8-4CD7ABD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898-6F32-4777-8D4B-DC85635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B4BE-511E-4533-A2AC-CFF4A07F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B5AF-BBAC-4369-825C-8382B30D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22D6-69E3-4638-A837-B7EA4B7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C16B-E4FA-46C6-ADC2-76E30C1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E83C-54F3-4521-9A8F-A7DD68D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62FE-3F6F-4CB1-8639-0763B6F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1803-4C26-4FFC-B878-026754C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7005-27B9-489B-91D1-E2A836D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3A65-E3A7-4E3D-86C9-04B37E32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653D-1485-483D-9D03-A99A72F0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59-BBC0-4DEE-AF15-623A1C95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B646-687A-4924-892A-F52ADA2D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70B-5849-4E18-A71D-4B285A45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BD2-B94C-43CE-9BBE-F6B4FFA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606-1EA9-4685-B4E9-95885DA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A5AF7-B87A-40D8-9B74-E46B45DADDF0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B1B67-7C51-4223-BC4B-57455710A1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CCDEC-450C-4686-A9D4-6141EEAD423B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57F99-8293-47A4-A3F0-BEC7B81C19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BB5AC-E840-4E8A-B139-C16D1CA1047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0EB37-7735-423E-83FA-BE7061C255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6AEA7-6392-44EC-97FB-04FD578945E2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333FE-A0D1-402B-BBA9-0F47A3AF1F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2886D-4D64-4493-AA63-9012C8F0F1F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7A718-8E95-4FFB-B491-6F3719AD55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raft-ietf-opsawg-lsn-deployment-0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ETF84 Vancouv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Victor Kuarsingh, Rogers Commun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GN Deployment with BGP/MPLS IP VP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e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6600" y="1447920"/>
            <a:ext cx="77724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rst Presented in BEHAVE at IETF78 – Maastrich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ed to OPSAWG at IETF83 – Par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epted as OPSAWG WG Docu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tential Move to SUNSET4 in the future (up to 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did not exist at the 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ow real world implementation option for CGN (based on NAT444 Model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es models for IPv6 Dual Stack with CGN/NAT44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be used in Wireless or Wireline domai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, but not too much chatter (comments) on draft from W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to SUNSET4 unknown at this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del in document in production (Wireless/Wireline environm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comments welcome (to clean up documen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ic Model (Diagram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68360" y="1023840"/>
            <a:ext cx="3341520" cy="2495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257040" y="3844800"/>
            <a:ext cx="3976920" cy="2762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968640" y="1060560"/>
            <a:ext cx="43704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GN Traffic in IP VPN (BGP/MPL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t translated traffic on Global (Internet) routing t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s separation of legacy IPv4 and CGN IPv4 traffi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es common operation technolog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vides efficient way to accomplish CGN by-pa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GN hardware can be located anywhere on network (no policy routing required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Dual Stack Concept with LSN (Diagram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4560" y="1622520"/>
            <a:ext cx="4190760" cy="340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589360" y="1622160"/>
            <a:ext cx="30970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ports dual stack operation if IPv6 is needed with CGN/NAT444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urther comments welc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Document read to progres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to move to WGL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3:04:13Z</dcterms:created>
  <dc:creator>Victor Kuarsingh</dc:creator>
  <dc:description/>
  <dc:language>en-US</dc:language>
  <cp:lastModifiedBy>Victor Kuarsingh</cp:lastModifiedBy>
  <dcterms:modified xsi:type="dcterms:W3CDTF">2012-07-30T22:12:51Z</dcterms:modified>
  <cp:revision>17</cp:revision>
  <dc:subject/>
  <dc:title>Slide 1</dc:title>
</cp:coreProperties>
</file>