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C8A-3FEA-4350-9B5C-97B5FEA2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C5BD-6937-477F-B838-9AABC90D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EC06-8C15-40EB-804B-3DC2E448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4911-9711-484F-B126-BA41798B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16B7-B9D5-4E27-B0EC-313A5471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BC71-5D98-4171-BCE4-AFCE91C5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EB5A-83DD-4E68-A0E9-6DF691E8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B226-5114-4794-80C7-5A55DBAB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2260-6D03-4D2C-AC47-E7D86B94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898A-88E1-449A-915C-03C02F06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66C9-7E40-4D79-8532-9F5994CE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DD79-ECA8-44A2-9D40-191715D9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6ECE-AC78-4F51-ABD1-CBAF2AAC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D09E-2C3D-41AC-8EF4-77C47623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F306-4C71-483D-A555-D27D95FD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9DB5-84BF-454C-9714-347B7FC4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3B41-CCC5-4D49-B696-E6E824B5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8AF8B-7EFD-46D0-8758-B699533C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FAE26-3A20-46AF-86B9-9E8BFC3C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A8E8F-AC77-485D-B48C-7AF68ED9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927E9-FF65-4C84-9DF2-E6F89327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FFE44-7ED1-4AAA-B545-00DB700F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718-7515-4F26-BD05-4AAA1575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CEEA8-E837-49B6-970C-C2A675FA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1F9EA-BF0C-488F-B156-B1317FB3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27632-25D7-4138-AE1A-57ADF689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A354F-E0FE-4362-B7DB-1B87E680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EE5C4-1EE7-4AC8-AAEE-5571A8A1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8B1D3-4583-4A5F-B6E2-E3C50BA7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84C96-FE3C-43B2-8C2A-F7F4001C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68189-0A3D-47EC-A69C-2FDD7B54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A9A01-C475-43B0-95E4-87D61249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D3E4C-FC1B-42E2-9CD1-131D1BBA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14BE-E8C5-43DE-9495-B944426F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98F7F-6C5D-4BE0-A2CC-270F06CE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D5D55-91CA-448E-8668-47AFB910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86F5F-6A70-4365-B7B1-8E964DD0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1D003-C032-4E9C-80B4-B190750E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29BF8-69C7-4F21-AB69-D7097D4F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BA26A-8535-4AC2-9005-3B233ECD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E0106-7B9A-4B93-8077-7CC4E5F3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77B84-BCB6-4AA7-8E0C-84297EE6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DF23B-B874-4FB6-B3FA-BA16A9A8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991DE-A04A-469B-8D78-0079B712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45D-4547-46E4-96BF-4F03F43C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750FD-43C7-4065-AF9A-EC27D20B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12A54-2EE8-4165-B195-3AC413D5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66AFA-9294-4C15-9C38-EE6D3EB1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E1EAB-0513-40C1-BEC1-E8D57A25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5822F-EE22-4AA9-9FE2-0EEF7F68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59162-D52F-409F-89AA-473F6F31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99722-91DA-4507-837D-5E2004C5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A64AF-9F17-43E4-873E-320585B7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83627-9671-4539-9027-4B43C682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4BD3A-2F48-47A2-9445-BDC65B9B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EF73-57BA-49F6-99AA-E8D3E5A3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6BD61-9B20-4F60-BF80-B69067A9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900-413D-4710-B769-E809DCBC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1B0-55C5-4326-A13A-68C2F44C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ACB6-5CC0-43AD-9D56-47D89A45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25E73B-EDEE-4311-BD58-A6BDD2898E05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39F56-F94F-4911-BDF7-171FF714304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DB2DA-1467-4514-9E1D-1695C18B40B1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C9D0A-92E6-4FEE-A28A-E5772F43EA1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BF49F-9D3E-40BE-B094-92AD8F5DAE41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C46CE-2689-4B0E-91AF-B39EAB955CD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DF72F-176F-4D8C-A0F0-ECA2CA7659CA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0BF22-20C8-4F15-A8A9-3D885C650EE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A3C82-0A22-40EE-B816-DDE07ABF96C7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9A16D6-1417-450C-9200-8C71BE25AC0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draft-ietf-opsawg-lsn-deployment-00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IETF84 Vancouv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Victor Kuarsingh, Rogers Communic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GN Deployment with BGP/MPLS IP VP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asel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36600" y="1447920"/>
            <a:ext cx="777240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rst Presented in BEHAVE at IETF78 – Maastricht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ed to OPSAWG at IETF83 – Par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ccepted as OPSAWG WG Docu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tential Move to SUNSET4 in the future (up to AD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did not exist at the tim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how real world implementation option for CGN (based on NAT444 Model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cludes models for IPv6 Dual Stack with CGN/NAT44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be used in Wireless or Wireline domai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tu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me, but not too much chatter (comments) on draft from W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ve to SUNSET4 unknown at this ti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del in document in production (Wireless/Wireline environment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ve comments welcome (to clean up document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asic Model (Diagram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468360" y="1023840"/>
            <a:ext cx="3341520" cy="2495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2"/>
          <a:stretch/>
        </p:blipFill>
        <p:spPr>
          <a:xfrm>
            <a:off x="257040" y="3844800"/>
            <a:ext cx="3976920" cy="27622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3968640" y="1060560"/>
            <a:ext cx="437040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GN Traffic in IP VPN (BGP/MPL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ost translated traffic on Global (Internet) routing tabl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ows separation of legacy IPv4 and CGN IPv4 traffic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tilizes common operation technologi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vides efficient way to accomplish CGN by-pas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GN hardware can be located anywhere on network (no policy routing required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Dual Stack Concept with LSN (Diagram)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4560" y="1622520"/>
            <a:ext cx="4190760" cy="34081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5589360" y="1622160"/>
            <a:ext cx="309708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pports dual stack operation if IPv6 is needed with CGN/NAT444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xt Step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urther comments welc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Document read to progres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to move to WGLC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5T13:04:13Z</dcterms:created>
  <dc:creator>Victor Kuarsingh</dc:creator>
  <dc:description/>
  <dc:language>en-US</dc:language>
  <cp:lastModifiedBy>Victor Kuarsingh</cp:lastModifiedBy>
  <dcterms:modified xsi:type="dcterms:W3CDTF">2012-07-30T22:12:51Z</dcterms:modified>
  <cp:revision>17</cp:revision>
  <dc:subject/>
  <dc:title>Slide 1</dc:title>
</cp:coreProperties>
</file>