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E7B-BA80-4C0B-B540-299010B45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E56-63F4-4BD1-9847-7CBFA231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81B4-F127-4043-AB49-FB8176D56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1A5A-B629-4D76-87C4-1E7BBDC5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E53-8579-4B60-8DE9-818A78CA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BDE9-362E-44BC-B307-E7CBA6E3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2EC1-D808-47BF-B50C-5F214697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0268-BF51-4502-A468-885AF07F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2F9-B6A5-46AA-BF79-12FBF864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69FF-9D13-4B4F-A906-8672C903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81B5-C6A7-40F7-AC28-A48739AA9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8C7-A3DC-4667-84CA-0119563C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D77-B082-4FDC-8DBD-6513DDD1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079-C0D7-4DC2-A121-42146E7B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EAE-C6E1-4964-AB7D-D5298018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AE98-5850-497F-B16D-70F9671A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330-E833-486B-9710-593D871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45E0-9E12-42AF-B0F6-E7D1810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6421-D9D5-41E7-BA24-A667465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D8AB-860E-4EA6-9678-0427B638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F05-C11C-4DB7-B09D-FD8EE7E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32AE-CD5F-4173-886A-044BBB5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013-80A5-4801-B1C5-80FB3C21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E725-58C9-4299-B01E-A43FAEA1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548F-BBE7-4484-8FA3-DC3874DC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6AC4-A3FA-4E0C-9E8F-D39EB1B9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734A-B7E5-40EC-A3EB-67F849BD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A4D0-214C-4B71-94F4-0B8FA614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F67-8A50-424D-812A-B8EF42B0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06F-4DBC-48FB-8423-C6295D6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EE0-8424-47BA-9951-D9B8627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4E1-EDC5-44F6-B7C9-E5E6C92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9A1-D014-46D1-BC59-DA3951E1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CF3-A0C2-4E40-AE22-C39F5BD3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763-B005-4360-B8E5-00642AE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BFF6-37B2-496F-90D1-DE9C8E9F64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421-D72D-4861-9E8C-A727F25D4E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 WG Statu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4, Vancouver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Multiple OTN and WSON draf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s Since Par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6565 - OSPFv3 as a Provide Edge to Customer Edge (PE-CE) Routing Protoc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with IES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ransit-only Networks in OSPF - &lt;draft-ietf-ospf-prefix-hiding-05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Hybrid Interface – &lt;draft-ietf-ospf-hybrid-bcast-and-p2mp-03.tx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s Ready for Pub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3137Bis – OSPF/OSPFv3 stub router support – Completed WG Last Call and comments addressed &lt;draft-ietf-ospf-rfc3137bis-02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s Ready for WG Last C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 – draft-ietf-ospf-ipv4-embedded-ipv6-routing-04. Informational draft document use of multiple address families in support of IPv4&lt;-&gt;IPv6 trans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Drafts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121932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ransport Instance – Defines Transport Instance to advertis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out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s essential routing information from non-rou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remote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rse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WG Documents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 – draft-ietf-ospf-ipv4-embedded-ipv6-routing-01. Informational draft document use of multiple address families in support of IPv4&lt;-&gt;IPv6 trans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Extension for OSPFv2 when using Manual Key Management - draft-ietf-ospf-security-extension-manual-keying-00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WG Documents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E Extensions - draft-ietf-ospf-te-metric-extensions-00.txt – Need more discu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OSPF-MDR in Single-Hop Broadcast Networks - draft-ietf-ospf-manet-single-hop-mdr-00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OSPF-MANET Interface in Single-Hop Broadcast Networks - draft-ietf-ospf-manet-single-hop-or-00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draft-malis-ccamp-rfc5787bis-05.txt – Cleanup of RFC 5787 to bring to standards track. AD not unhappy, still discussing one terminology issue with ITU Representa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P - Analysis of OSPF Security According to KARP Design Guide - draft-ietf-karp-ospf-analysis-05.t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16:24:49Z</dcterms:created>
  <dc:creator>Vishwas Manral</dc:creator>
  <dc:description/>
  <cp:keywords>Crypto</cp:keywords>
  <dc:language>en-US</dc:language>
  <cp:lastModifiedBy>Acee Lindem</cp:lastModifiedBy>
  <dcterms:modified xsi:type="dcterms:W3CDTF">2012-08-02T17:32:42Z</dcterms:modified>
  <cp:revision>184</cp:revision>
  <dc:subject>Crypto Auth for ISIS</dc:subject>
  <dc:title>IS-IS WG</dc:title>
</cp:coreProperties>
</file>