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1618-9300-4221-A2B7-D9C578212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5E53-5C8F-4F42-894B-F177BC98C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4453-66E2-4EF4-B8AB-255390F86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FE13-417B-4615-A0AE-944E1402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49AA-E3DE-47B8-8D44-DE10C7CE1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989F-2895-42E3-AD36-81B84F763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497E-8161-4D18-887E-FF37FC66C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3E81-77E3-4D76-AF67-485F8B113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6077-1C6E-4BC1-8F15-457D544CB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E6FF-C760-4837-B1C8-61E6C3F8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F00F-DDAF-4938-8C0F-D9ED000B5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BCE-588F-4BDE-8EBB-A00214E0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416-4A50-48F5-A378-165E172B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805-49B7-4A3E-84D0-AA68F194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928-5A96-4995-B50D-AC93D86D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49DA-7F6B-4451-A8C6-327964AC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17A9-9CA6-4712-BEA1-F8C9F90A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4211-8383-4538-8415-1D5E8BD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801D-2EDB-4AF8-9AC0-7E1BFF8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7B28-DA9F-48F2-A31C-210C2E39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F620-1063-449C-B26B-43E74401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F506-8493-4560-B45A-3BDA9045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B3A-1E1C-484E-979E-3FC4F9C8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20AC-98B9-4B93-8A6B-EB12FFC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DABF-35B4-40F7-B5D4-902ADBB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89E3-83DE-4354-87FD-95FFB43E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A9CF-398C-404D-B922-39F6757F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AAD5-E5EC-4DC0-8BCA-3BD03D69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7BE-9F00-448E-8C36-B0D9B305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313-EF1F-4794-A2DD-201C82D3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1AA-2F35-4278-AD60-141E4E7F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641-66EC-4FCC-9FBA-3DA685F7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A11-44C9-4900-8DDE-8B6B51BA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12B-346F-47D5-8EF2-23A18B58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37F-8D53-4B42-BB49-CF8BF26D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F9DF-92A0-4C7B-A885-2481A3C596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05EB-81CC-401F-A502-E3D0CE88E4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SPF WG Status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ETF 84, Vancouver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hay Roy, Cis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 – Multiple OTN and WSON draf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FCs Since Par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6565 - OSPFv3 as a Provide Edge to Customer Edge (PE-CE) Routing Protoc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with IES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ransit-only Networks in OSPF - &lt;draft-ietf-ospf-prefix-hiding-05.tx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Hybrid Interface – &lt;draft-ietf-ospf-hybrid-bcast-and-p2mp-03.tx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s Ready for Pub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3137Bis – OSPF/OSPFv3 stub router support – Completed WG Last Call and comments addressed &lt;draft-ietf-ospf-rfc3137bis-02.tx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s Ready for WG Last C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for IPv4-embedded IPv6 packets – draft-ietf-ospf-ipv4-embedded-ipv6-routing-04. Informational draft document use of multiple address families in support of IPv4&lt;-&gt;IPv6 trans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e Drafts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0880" y="1219320"/>
            <a:ext cx="8229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Transport Instance – Defines Transport Instance to advertis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out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s essential routing information from non-rou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remote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rse To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e WG Documents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8088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for IPv4-embedded IPv6 packets – draft-ietf-ospf-ipv4-embedded-ipv6-routing-01. Informational draft document use of multiple address families in support of IPv4&lt;-&gt;IPv6 trans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Extension for OSPFv2 when using Manual Key Management - draft-ietf-ospf-security-extension-manual-keying-00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e WG Documents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TE Extensions - draft-ietf-ospf-te-metric-extensions-00.txt – Need more discus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OSPF-MDR in Single-Hop Broadcast Networks - draft-ietf-ospf-manet-single-hop-mdr-00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OSPF-MANET Interface in Single-Hop Broadcast Networks - draft-ietf-ospf-manet-single-hop-or-00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MP – draft-malis-ccamp-rfc5787bis-05.txt – Cleanup of RFC 5787 to bring to standards track. AD not unhappy, still discussing one terminology issue with ITU Representa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P - Analysis of OSPF Security According to KARP Design Guide - draft-ietf-karp-ospf-analysis-05.t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s in Other WGs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8T16:24:49Z</dcterms:created>
  <dc:creator>Vishwas Manral</dc:creator>
  <dc:description/>
  <cp:keywords>Crypto</cp:keywords>
  <dc:language>en-US</dc:language>
  <cp:lastModifiedBy>Acee Lindem</cp:lastModifiedBy>
  <dcterms:modified xsi:type="dcterms:W3CDTF">2012-08-02T17:32:42Z</dcterms:modified>
  <cp:revision>184</cp:revision>
  <dc:subject>Crypto Auth for ISIS</dc:subject>
  <dc:title>IS-IS WG</dc:title>
</cp:coreProperties>
</file>