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180F-A4FB-4063-A4A1-DF9794A28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40CE-CAD4-49E6-8457-B95BC03F4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FEEB-C187-4875-867B-899F9FAD9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19F8-D490-4AD3-9AE5-1BC70CDC7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0140-9CD7-446D-82F3-724A2EED8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C388-B4E8-4300-8DAA-1E78FBEED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F0F-036F-4B8B-B6F2-6C555371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384-80BF-4AC7-BE51-04B54DCE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D6F-7606-4827-96B3-0086AB9C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B81-FC8F-450E-87D0-D8A141C0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5B09-0D54-4D07-B377-211CF5A7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8FEC-4C51-4635-BC1D-2F59556A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B943-3AD8-4E48-B7AC-9A22AB0C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F683-984E-44DC-8650-4F55B8D7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65FD-B583-4BD7-A2AC-5938E15B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D725-32DF-447E-9F7D-6B8AA0E0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AC79-5497-445F-AFD4-5CCE205E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566-D62C-42BD-B454-0C4FBDD2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1DCB-7029-4D5C-851F-7BD53D96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4A2C-E609-4AB4-9C23-572973C8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3889-2574-403D-9BF8-43B4EA05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C451-A89D-406D-89F7-A18CEE75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E39A-D4B1-4B4B-8388-BE5FF05C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6BC-F2D0-447D-B331-08275F13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BB1-210C-4244-B80B-72166C78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8D1-8D69-4E2D-A11D-42F1AB31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A96-AEEA-4B5C-9B33-338AE6C9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672-69B7-4DC4-921C-2D7F4AB4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18D-BEC0-4ABE-915D-3416575B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F96-1397-4C34-B02B-2884D6E4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DB4F-F4BA-4FF5-9C98-9FDFFC0DAA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F0CA-C7FE-494F-B30C-94EBB285A3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SPFv3 Auto-Config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ETF 84, Vancouver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ri Arkko, Ericss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e Lindem, Erics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story/Requir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ed by HOMENET Routing Requirement for auto-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past work – e.g., expired draft draft-dimitri-zospf-00.txt dr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in HOMENET WG in Taipei at IETF 8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in OSPF WG in Paris at IETF 8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based on com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asking to make WG doc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Version: https://datatracker.ietf.org/doc/draft-acee-ospf-ospfv3-auto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380880" y="14479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ved requirement to use a separate instance ID since we now recommend that implementations provide an option to configure the a single ke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ed IPv4 topology instance ID recommendation (RFC 5838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ed text on pacing refresh of received self-originated LSAs since OSPF Router-ID collision is possi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7240680" y="22431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nges from IETF 83 OSPF WG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14479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ed text indicating implementation should not mistake two interfaces on the same physical network as a duplicate Router I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editorial chang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7240680" y="22431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nges from IETF 83 OSPF W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380880" y="14479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PFv3 autoconfiguration started several times before in other WGs. Time to bring it home and finish i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NET WG Requirement – Protocol not specified yet but this takes us one step clos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framework for other draf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experimental implementa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7240680" y="22431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se for OSPF WG Docu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8T15:17:33Z</dcterms:created>
  <dc:creator>Vishwas Manral</dc:creator>
  <dc:description/>
  <cp:keywords>Crypto</cp:keywords>
  <dc:language>en-US</dc:language>
  <cp:lastModifiedBy>Acee Lindem</cp:lastModifiedBy>
  <dcterms:modified xsi:type="dcterms:W3CDTF">2012-07-28T15:55:36Z</dcterms:modified>
  <cp:revision>183</cp:revision>
  <dc:subject>Crypto Auth for ISIS</dc:subject>
  <dc:title>IS-IS WG</dc:title>
</cp:coreProperties>
</file>