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2799-2F5B-48F7-B85A-84155FCD7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ED3-C26D-462E-B405-7EA7C029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89D0-0518-446C-A85B-BF69D11A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766-522C-4B54-989A-755C2E0F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D2D2-6A33-48F1-8E29-793A1639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E5AB-8BDF-46BA-B542-BEB16B3E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F78-AE11-4D37-BA76-4BDA6D40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57D-140A-4522-A32B-E90D564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788-7800-4B96-AC22-F6B806A4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5EE-889F-4B7D-97E9-4D9FBC9B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6FB-695E-4A62-A542-3E361CA5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8F16-290B-4499-8ACC-EDD99A4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7FC6-D68D-49F5-836F-D2A942D4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F0F2-145A-445E-9BFE-8689DA66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4CF-19C9-4F41-881E-750B1C48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676-AAFC-475B-920C-DFDAA89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9BB6-4D90-4A8C-A2A2-1138E83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93F-72B9-480E-88A5-FAAA1AA4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3ECF-BB39-4135-A523-6D0A9E3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4F67-647D-4D88-9D3E-673AB3A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5EA-21FC-44D3-B858-5F96D22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3C84-F781-4E12-8238-A3E7B627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5206-6D7D-4C75-83AD-796B3DF1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548-C44E-42E9-9439-A839D310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1D5-6376-4F18-870A-CFFB05FC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86C-0F89-42C6-B0B9-509D09A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6858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533-E4E2-4B97-80B2-FCB158BD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95A-E558-4657-A107-D6301C6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E20-334E-4620-9C10-0679124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515-7D50-48C5-AE70-39D43C5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391520" y="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D6F6-0A03-4FEF-9960-1500FE9DFB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ietflogo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8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ietflogo"/>
          <p:cNvPicPr/>
          <p:nvPr/>
        </p:nvPicPr>
        <p:blipFill>
          <a:blip r:embed="rId2"/>
          <a:stretch/>
        </p:blipFill>
        <p:spPr>
          <a:xfrm>
            <a:off x="7391520" y="2971800"/>
            <a:ext cx="15238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AA15-D1B1-4C57-AA63-A941BBB22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SPFv3 Auto-Config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ETF 84, Vancouver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-228600" y="2971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ri Arkko, Ericss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e Lindem, Eric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story/Requir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d by HOMENET Routing Requirement for auto-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past work – e.g., expired draft draft-dimitri-zospf-00.txt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in HOMENET WG in Taipei at IETF 8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in OSPF WG in Paris at IETF 8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based on com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sking to make WG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ersion: https://datatracker.ietf.org/doc/draft-acee-ospf-ospfv3-auto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ed requirement to use a separate instance ID since we now recommend that implementations provide an option to configure the a single ke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d IPv4 topology instance ID recommendation (RFC 5838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d text on pacing refresh of received self-originated LSAs since OSPF Router-ID collision is pos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240680" y="2243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s from IETF 83 OSPF WG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d text indicating implementation should not mistake two interfaces on the same physical network as a duplicate Router I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ditorial chang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7240680" y="2243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s from IETF 83 OSPF W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80880" y="14479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PFv3 autoconfiguration started several times before in other WGs. Time to bring it home and finish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NET WG Requirement – Protocol not specified yet but this takes us one step clos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framework for other draf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experimental implement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240680" y="2243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for OSPF WG Docu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15:17:33Z</dcterms:created>
  <dc:creator>Vishwas Manral</dc:creator>
  <dc:description/>
  <cp:keywords>Crypto</cp:keywords>
  <dc:language>en-US</dc:language>
  <cp:lastModifiedBy>Acee Lindem</cp:lastModifiedBy>
  <dcterms:modified xsi:type="dcterms:W3CDTF">2012-07-28T15:55:36Z</dcterms:modified>
  <cp:revision>183</cp:revision>
  <dc:subject>Crypto Auth for ISIS</dc:subject>
  <dc:title>IS-IS WG</dc:title>
</cp:coreProperties>
</file>