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13C6-AFF5-4347-96A3-AEBA4C2FFB55}" type="datetime">
              <a:rPr b="0" lang="zh-CN" sz="1200" spc="-1" strike="noStrike">
                <a:solidFill>
                  <a:srgbClr val="000000"/>
                </a:solidFill>
                <a:latin typeface="Calibri"/>
                <a:ea typeface="SimSun"/>
              </a:rPr>
              <a:t>26/7/31</a:t>
            </a:fld>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C935-08E3-4039-B0FF-7FF131B076D0}" type="slidenum">
              <a:rPr b="0" lang="zh-CN" sz="1200" spc="-1" strike="noStrike">
                <a:solidFill>
                  <a:srgbClr val="000000"/>
                </a:solidFill>
                <a:latin typeface="Calibri"/>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8597-39B4-4E15-8C46-BA9403C15C1D}" type="slidenum">
              <a:rPr b="0" lang="zh-CN" sz="1200" spc="-1" strike="noStrike">
                <a:solidFill>
                  <a:srgbClr val="000000"/>
                </a:solidFill>
                <a:latin typeface="Calibri"/>
                <a:ea typeface="SimSu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A202-DE75-42E6-9FDD-460FC768E8A0}" type="slidenum">
              <a:rPr b="0" lang="zh-CN" sz="1200" spc="-1" strike="noStrike">
                <a:solidFill>
                  <a:srgbClr val="000000"/>
                </a:solidFill>
                <a:latin typeface="Calibri"/>
                <a:ea typeface="SimSu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BACA-487F-4E52-823B-712EE613CECA}" type="slidenum">
              <a:rPr b="0" lang="zh-CN" sz="1200" spc="-1" strike="noStrike">
                <a:solidFill>
                  <a:srgbClr val="000000"/>
                </a:solidFill>
                <a:latin typeface="Calibri"/>
                <a:ea typeface="SimSu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1366F-7431-4729-B5A2-84FAE20BF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FE400-80C8-4F24-8284-1C4914758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98F97-79BA-428E-93F9-29F7B1EEC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3CD34-FEB5-4EE6-9B98-3159A01F4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9EC01-7B47-49F9-8B0F-6A92BD6D8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A7E8B-6ADA-4C1F-895C-B32F2A850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DDFFA-8DA2-440B-9900-0B26F2844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25C51-1E43-45F2-BB6F-19FCA6200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84DB2-623E-47A6-B0C0-51C4119CA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7B100-C4B6-4FEB-926B-DB7C96C37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01E63-97DF-49DC-B5FD-7AD84FBB3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CCE10-B1E4-4E17-83D9-9AFE26670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247BE-F2E7-46AD-AA01-398FA00B7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51A8A-F649-456F-8ED9-71968032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2B92F-FDDF-4731-A816-DAB03C290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D7EB2-AA6F-48B4-9A25-CC01D270C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1103F-08A6-4FAB-BB60-1BD123D1B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50894B-FA56-4957-9E25-C6F761D8EF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03447-47E8-40FA-8FCC-E97CEFA76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C1464-C61B-4106-974F-B20C6AC1C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B5BEA-7F41-424A-BD15-DC1F9E343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C3B050-5C26-4D53-A3D8-30C2C7677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FE621-F321-4907-93D5-8EF97B01A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0DC59E-22E9-4042-AD4D-AE69F0DD85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5EC0F-A971-47D5-9A7E-B0E86249B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70731-D1A5-424B-917B-B03E51732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A832BC-6A7E-4C53-A0F0-02AD98D0B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875D1-4D4C-418D-8111-B18EF97B7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0C4F2E-954C-4547-BAF8-9867DE23FF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1B4BC6-BF68-4534-8A88-0ADE9E2BFD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22A759-5A62-4ABC-9FF1-FFDBF9BA8D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2300F-DCA4-4CB1-9D77-3BFB649B11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977DFD-7623-49EA-9D9C-72F9B02318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D5B89-B670-4F00-9B8C-831008E91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143CA-F22E-4656-B5C3-E26A624B28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656A09-9571-4DF8-A3B8-631A949F97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43FB97-0FC4-4711-A097-A5F26DD907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9DC9F-5E10-48C5-900E-2AFF68678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F8742-DE33-4DFA-9A6A-E47A304D3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B4F15C-3A82-4AD5-AC6D-7BFE2943C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195BF-3C9A-4BD6-8731-4F0F6F9D82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87222C-A1BC-480C-AD12-8139094B22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50CDA1-D404-4E25-A8DE-8AC55102D5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89FC57-F80B-4DB8-93A8-6CC388A033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2A962-A3E5-40C6-BDAC-3CB089CF7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1A75E5-0B14-4C67-A732-3481B7AA33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5FDE2D-E7D8-4B8A-868A-E1EBEF1725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F4A34B-BFC9-4192-89D7-B5E4AC6E98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EC5AB7-9260-4BB4-B257-5D6E36AB5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B46542-7BE0-49F6-87DB-65A4242B8A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3BE51-CA6E-4549-A76C-3A9BDAB62C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41BB5-EE30-415F-A843-F3D04D388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5FF40-3BC7-402E-A51D-D00499499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DF635F-2ADC-4C3D-B414-89A04C0D6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B85EAC-3F36-4F40-A054-F09FD35559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10DB7-E1FA-4D7A-BE73-61E89C94E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697038-76E0-4F57-B388-ABD707AF9F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E2497D-C539-47D0-882F-CDC5E21E70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0799D0-F74F-4173-89B5-60922351D3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72FAC3-25FF-47E5-B628-AED935237F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A642DF-E970-43E6-B4A8-CE6C6F2548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2B4C4-35C0-414A-900A-6631CC14BD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0FEE44-73B8-44E5-86BF-E018F44D55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404D95-0B67-4CC5-AA40-3E14E3FAE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6ABD1-54D6-498D-BDF9-1201691D6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58EE7D-552C-44DC-B45E-A595B7088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B925E-A972-49BA-8D94-4EAD88760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E4BA30-488C-4EEC-BBAE-24C20FA517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963576-101B-48E2-8BCE-215D6F596C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F24581-BEC0-4438-84A4-84E7D3EEDD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324D46-2747-490B-B7FD-9246E2BAAC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E7DD73-2297-4F29-A210-DD7762A8CB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5A6265-1698-4BE6-B1DE-B71C087FF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DEDAB-7690-44F4-B623-DBE4F7D64A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0AB6DE-A91C-4EA6-9B74-36C887DD6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FE09C7-BCDC-4838-829F-494EBF7B1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6AFFF-9E02-4EED-A17B-E29DA0331B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5C20B-117B-4BC7-98CC-F549B2F9B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DDC40D-186B-4D17-AB7B-9AFFD95801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7BF8C0-1385-4C69-A582-B04C32E63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6EFA82-D770-459B-BBE4-6AC8D5E0ED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E4192C-F311-4529-B8AE-AB3420CADD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FD9FC1-DA71-4897-83B8-A5BFDC008C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1E0D-14FD-4FDB-9D16-225315CC0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7C27-CF89-4EDA-B1AF-C98E053898D8}"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A503-3AB0-4F31-B0DE-E14C8F5DEE6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7"/>
          <p:cNvGrpSpPr/>
          <p:nvPr/>
        </p:nvGrpSpPr>
        <p:grpSpPr>
          <a:xfrm>
            <a:off x="920880" y="1414440"/>
            <a:ext cx="218880" cy="212760"/>
            <a:chOff x="920880" y="1414440"/>
            <a:chExt cx="218880" cy="212760"/>
          </a:xfrm>
        </p:grpSpPr>
        <p:pic>
          <p:nvPicPr>
            <p:cNvPr id="56" name="椭圆 7"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CF0E-D685-43A1-BDF8-9ABC3B93715C}"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850A-95B0-4ECB-BE0C-4E2B3B47801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7"/>
          <p:cNvGrpSpPr/>
          <p:nvPr/>
        </p:nvGrpSpPr>
        <p:grpSpPr>
          <a:xfrm>
            <a:off x="2170080" y="2816280"/>
            <a:ext cx="219240" cy="212760"/>
            <a:chOff x="2170080" y="2816280"/>
            <a:chExt cx="219240" cy="212760"/>
          </a:xfrm>
        </p:grpSpPr>
        <p:pic>
          <p:nvPicPr>
            <p:cNvPr id="103" name="椭圆 7"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AF0F-154A-4479-A472-4753095DE14A}"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48AE-E94C-45A6-87FD-87C5F92FCE4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6FB4-8376-4F2B-9CDC-F3135F73568A}"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FE63-493A-4FE4-8724-31FF3012570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61EF-DF9D-42D7-8A69-CFF12D5A0D50}"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4A89-428F-4800-B2BD-A8ECC499D8A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26E9-75C1-467F-B71F-40BE446C2669}"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304C-7392-408A-A2AB-E238C3801DC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7"/>
          <p:cNvGrpSpPr/>
          <p:nvPr/>
        </p:nvGrpSpPr>
        <p:grpSpPr>
          <a:xfrm>
            <a:off x="652320" y="974880"/>
            <a:ext cx="4797720" cy="4797360"/>
            <a:chOff x="652320" y="974880"/>
            <a:chExt cx="4797720" cy="4797360"/>
          </a:xfrm>
        </p:grpSpPr>
        <p:pic>
          <p:nvPicPr>
            <p:cNvPr id="273" name="矩形 7"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8FF3-0FEE-4CA4-974D-32113384FE77}" type="datetime">
              <a:rPr b="0" lang="zh-CN" sz="1200" spc="-1" strike="noStrike">
                <a:solidFill>
                  <a:srgbClr val="b5a788"/>
                </a:solidFill>
                <a:latin typeface="Gill Sans MT"/>
                <a:ea typeface="华文中宋"/>
              </a:rPr>
              <a:t>26/7/31</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25A1-EA63-4F4D-8353-8B711712B22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47640" y="1700280"/>
            <a:ext cx="7407360" cy="14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72314"/>
                </a:solidFill>
                <a:latin typeface="Gill Sans MT"/>
              </a:rPr>
              <a:t>PAWS: Security Considerations</a:t>
            </a:r>
            <a:endParaRPr b="0" lang="en-US" sz="5400" spc="-1" strike="noStrike">
              <a:solidFill>
                <a:srgbClr val="572314"/>
              </a:solidFill>
              <a:latin typeface="Gill Sans MT"/>
            </a:endParaRPr>
          </a:p>
        </p:txBody>
      </p:sp>
      <p:sp>
        <p:nvSpPr>
          <p:cNvPr id="326" name="TextBox 2"/>
          <p:cNvSpPr/>
          <p:nvPr/>
        </p:nvSpPr>
        <p:spPr>
          <a:xfrm>
            <a:off x="2737080" y="4292640"/>
            <a:ext cx="37638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华文中宋"/>
              </a:rPr>
              <a:t>Yizhuang WU,  </a:t>
            </a:r>
            <a:r>
              <a:rPr b="0" lang="en-US" sz="2400" spc="-1" strike="noStrike" u="sng">
                <a:solidFill>
                  <a:srgbClr val="000000"/>
                </a:solidFill>
                <a:uFillTx/>
                <a:latin typeface="Gill Sans MT"/>
                <a:ea typeface="华文中宋"/>
              </a:rPr>
              <a:t>Yang CU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华文中宋"/>
              </a:rPr>
              <a:t>PAWS W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华文中宋"/>
              </a:rPr>
              <a:t>IETF#84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华文中宋"/>
              </a:rPr>
              <a:t>@Vancouver   2012.07.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00000" y="274320"/>
            <a:ext cx="856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atabases deployed by regulatory body of white space</a:t>
            </a:r>
            <a:endParaRPr b="0" lang="en-US" sz="39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uthentication model 3</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ly one suite credential is needed which is provided by authority of RBW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secure channel shall</a:t>
            </a:r>
            <a:r>
              <a:rPr b="0" lang="zh-CN" sz="2000" spc="-1" strike="noStrike">
                <a:solidFill>
                  <a:srgbClr val="000000"/>
                </a:solidFill>
                <a:latin typeface="Gill Sans MT"/>
              </a:rPr>
              <a:t> </a:t>
            </a:r>
            <a:r>
              <a:rPr b="0" lang="en-US" sz="2000" spc="-1" strike="noStrike">
                <a:solidFill>
                  <a:srgbClr val="000000"/>
                </a:solidFill>
                <a:latin typeface="Gill Sans MT"/>
              </a:rPr>
              <a:t>be established to protect the communication between the master device</a:t>
            </a:r>
            <a:r>
              <a:rPr b="0" lang="zh-CN" sz="2000" spc="-1" strike="noStrike">
                <a:solidFill>
                  <a:srgbClr val="000000"/>
                </a:solidFill>
                <a:latin typeface="Gill Sans MT"/>
              </a:rPr>
              <a:t> </a:t>
            </a:r>
            <a:r>
              <a:rPr b="0" lang="en-US" sz="2000" spc="-1" strike="noStrike">
                <a:solidFill>
                  <a:srgbClr val="000000"/>
                </a:solidFill>
                <a:latin typeface="Gill Sans MT"/>
              </a:rPr>
              <a:t>and the database.</a:t>
            </a: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51"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625FE8DE-21D6-4A63-8954-87003C74DD7B}"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352" name="Picture 2" descr=""/>
          <p:cNvPicPr/>
          <p:nvPr/>
        </p:nvPicPr>
        <p:blipFill>
          <a:blip r:embed="rId1"/>
          <a:stretch/>
        </p:blipFill>
        <p:spPr>
          <a:xfrm>
            <a:off x="2268360" y="1916280"/>
            <a:ext cx="4896000" cy="51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06560" y="-360"/>
            <a:ext cx="8137440" cy="87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LS establishment procedure</a:t>
            </a:r>
            <a:endParaRPr b="0" lang="en-US" sz="43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876AFF03-5349-482F-BD69-C5EBCEB60EB5}"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356" name="Picture 2" descr=""/>
          <p:cNvPicPr/>
          <p:nvPr/>
        </p:nvPicPr>
        <p:blipFill>
          <a:blip r:embed="rId1"/>
          <a:stretch/>
        </p:blipFill>
        <p:spPr>
          <a:xfrm>
            <a:off x="1093680" y="893880"/>
            <a:ext cx="7581960" cy="59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LS establishment procedure</a:t>
            </a:r>
            <a:endParaRPr b="0" lang="en-US" sz="43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first stage: security capabilities including protocol version, session ID, cipher suite, compression method, and initial random numbers are establishe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econd stage: certificate, key exchange, and request certificate may be sent by databas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third phase: master device sends certificate if requested. Key exchange and certificate verification may be sent by master device.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last phase: change cipher suite and finish handshake protocol.</a:t>
            </a:r>
            <a:endParaRPr b="0" lang="en-US" sz="2400" spc="-1" strike="noStrike">
              <a:solidFill>
                <a:srgbClr val="000000"/>
              </a:solidFill>
              <a:latin typeface="Gill Sans MT"/>
            </a:endParaRPr>
          </a:p>
        </p:txBody>
      </p:sp>
      <p:sp>
        <p:nvSpPr>
          <p:cNvPr id="359"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6C0B0C1A-4B97-4045-8ECE-D3A8D1E5E71F}"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16000" y="188640"/>
            <a:ext cx="619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A bad example - Mutual authentication in mixed layers</a:t>
            </a:r>
            <a:endParaRPr b="0" lang="en-US" sz="39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uthentication of both parties in TLS establishment procedur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LS for database authentication, and master device authentication over TLS by running other authentication protocol.  This method is not recommended because such a mixed mode usage opens up the possibility to run a man-in-the-middle attack for impersonating the legitimate clie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FC4196</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sokan et al’s attack since 2002</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02920" y="2565000"/>
            <a:ext cx="749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ank you!</a:t>
            </a: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HGｺﾞｼｯｸE"/>
              </a:rPr>
              <a:t>Motivation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HGｺﾞｼｯｸE"/>
              </a:rPr>
              <a:t>White space spectrum is a valuable resource,</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HGｺﾞｼｯｸE"/>
              </a:rPr>
              <a:t>Business chance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HGｺﾞｼｯｸE"/>
              </a:rPr>
              <a:t>Attract attention from regulatory bodies in different countrie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HGｺﾞｼｯｸE"/>
              </a:rPr>
              <a:t>A great number of potential user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HGｺﾞｼｯｸE"/>
              </a:rPr>
              <a:t>Security and Privacy need to be carefully taken care of…</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HGｺﾞｼｯｸE"/>
              </a:rPr>
              <a:t>Refer to PAWS WG charter, furthe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ecurity threats</a:t>
            </a:r>
            <a:endParaRPr b="0" lang="en-US" sz="43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rious security threats can be summarized as follows from a security point of view:</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ersonation of a master devic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ersonation of a databas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n in the middle node on the interface between master device and databas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tacks on the link of interface between master device and databas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tacks on the master device itself</a:t>
            </a:r>
            <a:endParaRPr b="0" lang="en-US" sz="2400" spc="-1" strike="noStrike">
              <a:solidFill>
                <a:srgbClr val="000000"/>
              </a:solidFill>
              <a:latin typeface="Gill Sans MT"/>
            </a:endParaRPr>
          </a:p>
        </p:txBody>
      </p:sp>
      <p:sp>
        <p:nvSpPr>
          <p:cNvPr id="331"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05970842-9FF6-46AF-8EE7-53C81049D4D5}"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ecurity features</a:t>
            </a:r>
            <a:endParaRPr b="0" lang="en-US" sz="4300" spc="-1" strike="noStrike">
              <a:solidFill>
                <a:srgbClr val="572314"/>
              </a:solidFill>
              <a:latin typeface="Gill Sans MT"/>
            </a:endParaRPr>
          </a:p>
        </p:txBody>
      </p:sp>
      <p:sp>
        <p:nvSpPr>
          <p:cNvPr id="333" name=""/>
          <p:cNvSpPr txBox="1"/>
          <p:nvPr/>
        </p:nvSpPr>
        <p:spPr>
          <a:xfrm>
            <a:off x="1106640" y="1341000"/>
            <a:ext cx="7929360" cy="419436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 thwart the above security threats, the security mechanism shall be able to provide the following security features:</a:t>
            </a: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tual entity authentication and both of them shall be authorized </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confidentiality</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integrity</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ti-Replay</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rusted environment or something equivalent</a:t>
            </a:r>
            <a:endParaRPr b="0" lang="en-US" sz="24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security mechanism TLS is recommended to  be used in PAWS.</a:t>
            </a:r>
            <a:endParaRPr b="0" lang="en-US" sz="2800" spc="-1" strike="noStrike">
              <a:solidFill>
                <a:srgbClr val="000000"/>
              </a:solidFill>
              <a:latin typeface="Gill Sans MT"/>
            </a:endParaRPr>
          </a:p>
        </p:txBody>
      </p:sp>
      <p:sp>
        <p:nvSpPr>
          <p:cNvPr id="334"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152185E1-8883-4E17-8D62-9A207133E3CD}"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HGｺﾞｼｯｸE"/>
              </a:rPr>
              <a:t>This proposal</a:t>
            </a:r>
            <a:endParaRPr b="0" lang="en-US" sz="43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HGｺﾞｼｯｸE"/>
              </a:rPr>
              <a:t>An informational draft,</a:t>
            </a:r>
            <a:endParaRPr b="0" lang="en-US" sz="30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Design and implement PAWS security</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Check security and privacy (ongoing) requ.</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Provide Autho. &amp; Authe. models.</a:t>
            </a:r>
            <a:endParaRPr b="0" lang="en-US" sz="2600" spc="-1" strike="noStrike">
              <a:solidFill>
                <a:srgbClr val="000000"/>
              </a:solidFill>
              <a:latin typeface="Gill Sans MT"/>
            </a:endParaRPr>
          </a:p>
          <a:p>
            <a:pPr lvl="2" marL="859320" indent="-2214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HGｺﾞｼｯｸE"/>
              </a:rPr>
              <a:t>RBWS models</a:t>
            </a:r>
            <a:endParaRPr b="0" lang="en-US" sz="2200" spc="-1" strike="noStrike">
              <a:solidFill>
                <a:srgbClr val="000000"/>
              </a:solidFill>
              <a:latin typeface="Gill Sans MT"/>
            </a:endParaRPr>
          </a:p>
          <a:p>
            <a:pPr lvl="2" marL="859320" indent="-2214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HGｺﾞｼｯｸE"/>
              </a:rPr>
              <a:t>TLS mutual authentication (rather than unilateral)</a:t>
            </a:r>
            <a:endParaRPr b="0" lang="en-US" sz="22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Protection in different layers by distinct use cases.</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Agility of Crypto and Security Protocols (ongoing)</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a:t>
            </a:r>
            <a:endParaRPr b="0" lang="en-US" sz="26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HGｺﾞｼｯｸE"/>
              </a:rPr>
              <a:t>A WG draft on security, as a starting point to discuss?</a:t>
            </a:r>
            <a:endParaRPr b="0" lang="en-US" sz="30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HGｺﾞｼｯｸE"/>
              </a:rPr>
              <a:t>Appendix</a:t>
            </a: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uthentication model </a:t>
            </a:r>
            <a:endParaRPr b="0" lang="en-US" sz="43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business reasons or ease of management, databases may be deployed by different third-party that is authorized by regulatory body of white space.</a:t>
            </a:r>
            <a:r>
              <a:rPr b="0" lang="zh-CN" sz="2800" spc="-1" strike="noStrike">
                <a:solidFill>
                  <a:srgbClr val="000000"/>
                </a:solidFill>
                <a:latin typeface="Gill Sans MT"/>
              </a:rPr>
              <a:t> </a:t>
            </a:r>
            <a:r>
              <a:rPr b="0" lang="en-US" sz="2800" spc="-1" strike="noStrike">
                <a:solidFill>
                  <a:srgbClr val="000000"/>
                </a:solidFill>
                <a:latin typeface="Gill Sans MT"/>
              </a:rPr>
              <a:t>There are two possible deployment cases: </a:t>
            </a:r>
            <a:endParaRPr b="0" lang="en-US" sz="2800" spc="-1" strike="noStrike">
              <a:solidFill>
                <a:srgbClr val="000000"/>
              </a:solidFill>
              <a:latin typeface="Gill Sans MT"/>
            </a:endParaRPr>
          </a:p>
          <a:p>
            <a:pPr lvl="1" marL="707040" indent="-32544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e is that the databases deployed by the third-party which are authorized by regulatory body of white space; </a:t>
            </a:r>
            <a:endParaRPr b="0" lang="en-US" sz="2000" spc="-1" strike="noStrike">
              <a:solidFill>
                <a:srgbClr val="000000"/>
              </a:solidFill>
              <a:latin typeface="Gill Sans MT"/>
            </a:endParaRPr>
          </a:p>
          <a:p>
            <a:pPr lvl="1" marL="707040" indent="-32544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other is that the databases are directly deployed by regulatory body of white space</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requirements on authentication should be considered respectively</a:t>
            </a:r>
            <a:endParaRPr b="0" lang="en-US" sz="2800" spc="-1" strike="noStrike">
              <a:solidFill>
                <a:srgbClr val="000000"/>
              </a:solidFill>
              <a:latin typeface="Gill Sans MT"/>
            </a:endParaRPr>
          </a:p>
        </p:txBody>
      </p:sp>
      <p:sp>
        <p:nvSpPr>
          <p:cNvPr id="340"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F00D21D4-AAF2-4C67-AD2C-84BBC548A92D}"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atabase deployed by third-party</a:t>
            </a:r>
            <a:endParaRPr b="0" lang="en-US" sz="3900" spc="-1" strike="noStrike">
              <a:solidFill>
                <a:srgbClr val="572314"/>
              </a:solidFill>
              <a:latin typeface="Gill Sans MT"/>
            </a:endParaRPr>
          </a:p>
        </p:txBody>
      </p:sp>
      <p:sp>
        <p:nvSpPr>
          <p:cNvPr id="342" name=""/>
          <p:cNvSpPr txBox="1"/>
          <p:nvPr/>
        </p:nvSpPr>
        <p:spPr>
          <a:xfrm>
            <a:off x="1106640" y="1641240"/>
            <a:ext cx="7929360" cy="47401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uthentication model 1</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security channel will be established between master device and  database, only the database can establish connection with RBW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this model ,the master device needs to obtain IP  connectivity with database, which  require an access authentication, which is independent  of  authentication  run in authorized procedure in RBWS(Regulatory Body of White Space ). It means that the mutual authentication shall be implemented in TLS establishment procedure before the authorized procedure of RBW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wo suites credentials are needed:</a:t>
            </a:r>
            <a:r>
              <a:rPr b="0" lang="zh-CN" sz="2000" spc="-1" strike="noStrike">
                <a:solidFill>
                  <a:srgbClr val="000000"/>
                </a:solidFill>
                <a:latin typeface="Gill Sans MT"/>
              </a:rPr>
              <a:t> </a:t>
            </a:r>
            <a:r>
              <a:rPr b="0" lang="en-US" sz="2000" spc="-1" strike="noStrike">
                <a:solidFill>
                  <a:srgbClr val="000000"/>
                </a:solidFill>
                <a:latin typeface="Gill Sans MT"/>
              </a:rPr>
              <a:t>one is provided by trusted authority of third-party, the other is provided by authority of RBW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43"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0DD630FD-7F02-4D08-85DF-333775077820}"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344" name="Picture 3" descr=""/>
          <p:cNvPicPr/>
          <p:nvPr/>
        </p:nvPicPr>
        <p:blipFill>
          <a:blip r:embed="rId1"/>
          <a:stretch/>
        </p:blipFill>
        <p:spPr>
          <a:xfrm>
            <a:off x="1116000" y="2060640"/>
            <a:ext cx="7896240" cy="51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atabase deployed by third-party</a:t>
            </a:r>
            <a:endParaRPr b="0" lang="en-US" sz="39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uthentication model 2</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security channel will be established between master device and  database, both of master device and database can connect to  RBW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differences from  model 1 is master device can directly connect to  RBWS to get the authorized information.</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47"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23D306D2-D5E4-4596-9770-12D4B1E552CD}"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348" name="Picture 4" descr=""/>
          <p:cNvPicPr/>
          <p:nvPr/>
        </p:nvPicPr>
        <p:blipFill>
          <a:blip r:embed="rId1"/>
          <a:stretch/>
        </p:blipFill>
        <p:spPr>
          <a:xfrm>
            <a:off x="2124000" y="1844640"/>
            <a:ext cx="4896000" cy="18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07:03:32Z</dcterms:created>
  <dc:creator>Wuyizhuang</dc:creator>
  <dc:description/>
  <dc:language>en-US</dc:language>
  <cp:lastModifiedBy>Windows User</cp:lastModifiedBy>
  <dcterms:modified xsi:type="dcterms:W3CDTF">2012-07-30T16:06:08Z</dcterms:modified>
  <cp:revision>141</cp:revision>
  <dc:subject/>
  <dc:title>PAWS secur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AYy372ofxkKRVNKEbW96HQu3CmHA94DISJ63HqUiNCTOnIzZHrVkQyd4yb0sbXKKLOrlfd+M
M4O4tRAsrTiit+ml74ItY3UttZv1y6EDHyYrGn0q7a485jMLIWfKWXblmY0d3F4xvZ3LLUMc
oBmTjpoZhs4Dq+L9G3nIgyxI9aTE62bdJnn0FaeyeUgA1U/2zE5arIik48DyjvBQHuaa11ci
MmUmLkKy0+J5G9OpFG</vt:lpwstr>
  </property>
  <property fmtid="{D5CDD505-2E9C-101B-9397-08002B2CF9AE}" pid="3" name="_ms_pID_7253431">
    <vt:lpwstr>wZ0A+Cf3rZDuK6uz/fXKJQJDC0w1++JCbQy//kRPZU+3RKAVFakuAk
QrpsYOX5n18=</vt:lpwstr>
  </property>
  <property fmtid="{D5CDD505-2E9C-101B-9397-08002B2CF9AE}" pid="4" name="sflag">
    <vt:lpwstr>1343374961</vt:lpwstr>
  </property>
</Properties>
</file>