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D557-EA47-4AA3-B371-33BB7CD3D92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2D9C-1873-429D-A2BC-1C49C00A87B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6638-699D-4820-8643-B61DE07AF50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A501-D79D-4B8A-8049-2B133B0C3BA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89E8-DA2D-48C4-B166-0EA08A26047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E122-E647-48CE-81FA-3CCB56D56F3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13E1-98ED-41CC-995E-62A5E72706A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1C4D-8CB0-49EA-9F18-E97DC0A5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441E-D7B3-4CCA-94DE-0F4B597A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CFA-7258-426D-93B6-8D9AB623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B851-3103-421D-8AA6-EC36B54A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30A-5866-4DDB-AC11-A72AF216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0953-3757-415B-B67E-D6B1256A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39ED-3C02-4B25-883D-B37F5499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44A-3D6C-4D0A-A35F-065D5C97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31A4-648D-43F9-A6FA-293B799D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4AA6-6692-4CCD-99DC-AF99D4A8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4FF7-672F-4A46-9B27-674FB534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5A38-6937-4F34-B443-02066BEA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E42E-1874-4187-ADBD-5FDDA3B0453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87160"/>
            <a:ext cx="8991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xtensions to Path Computation Element Communication Protocol (PCEP) for Hierarchical Path Computation Elements (P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2438280"/>
            <a:ext cx="85345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PC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WG, IETF 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  <a:ea typeface="宋体"/>
              </a:rPr>
              <a:t>84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raft-zhang-pce-hierarchy-extensions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219320" y="4114800"/>
            <a:ext cx="7238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. Zhang (Huawe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. Zhao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Huawe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O. González de Dios (Telefonica I+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 Casellas (CTTC)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King(Old Dog Consul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from 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28600" y="1066680"/>
            <a:ext cx="853452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orial poin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d to XML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ed some typos and wor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sec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sections were redundant in -01 ver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sections have been merged and aligned with the requirements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“Determination of destination domain” to align with the framework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 OF to those on the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New Metrics: Domain Count and BN 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a Reachabilily TL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gnment of new OF to those on the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or cap the number of domains cro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llow domain re-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OF: Minimize number of doma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the number of domains can be viewed as a limit in a metric (e.g. number of doma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think disallow domain re-entry is a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metr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work document mentions the need to cap the number of domains cro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: add new metric with number of domains cro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: add new metric with number of BN (to differentiate between cases with one BN common to two domains, and cases with inter-domain lin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chabilily TL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chability TLV carries information of the set of end-points reachable in a given dom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at of the TLV is a list of IPv4 Prefix, IPv6 Prefix, AS and unnumbered Interface ERO subojects, as defined in [RFC3209]  and [RFC3477]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LV can be carried in a NOTIFICATION object to indicate the reachable end-points of the domain of the PCE who sends the PCNtf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 feedb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amework document for H-PCE is almost re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olution document could be a base for a WG document for the solution of the fra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533520" y="3124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scar Gonzalez de Dios</cp:lastModifiedBy>
  <dcterms:modified xsi:type="dcterms:W3CDTF">2012-07-27T11:59:26Z</dcterms:modified>
  <cp:revision>1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