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6FB8-56F1-4006-8EED-F73FF32908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3B6A-A23A-430C-8E1F-D0B0D25296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1CD5-F5B0-4913-9B64-F8D89EBBD4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5DDC-BE03-4E3D-9EA6-24B14A6AE0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E25-FC08-42BB-8502-45F61D50C0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E9A6-08B8-490B-9B8E-9F1D570C69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7930-D501-4D81-96DF-4E40BD2C09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03A-D96E-48A6-A894-5AD17623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261-3C48-4254-AD13-968CF782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2E0-EA2F-4C70-950B-A4A486E7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CD8-08EB-49D8-9D18-23F5E5EA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4D9-7029-45EB-BA14-31F66C50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2BF-7331-43F3-AEAA-81356374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9D4-0622-4EC8-8074-1F75CA0B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42B-A57F-4241-8389-26AE654B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B12-21D0-411D-80FB-A3867DC6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2F8-7DA9-4E7A-A156-FE4DC8C5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DC2-BA39-4633-B7D6-7E64D1CC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360-7CB6-4DDA-B41E-913C334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7FB7-D26F-4620-A42A-9FE533A335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8716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xtensions to Path Computation Element Communication Protocol (PCEP) for Hierarchical Path Computation Elements (P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24382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PC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WG, IETF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  <a:ea typeface="宋体"/>
              </a:rPr>
              <a:t>8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aft-zhang-pce-hierarchy-extensions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219320" y="4114800"/>
            <a:ext cx="7238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. Zhang (Huawe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. Zhao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uawe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O. González de Dios (Telefonica I+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Casellas (CTTC)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King(Old Dog Consul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from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28600" y="1066680"/>
            <a:ext cx="85345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ial poi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d to XML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ed some typos and wo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sec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ections were redundant in -01 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ections have been merged and aligned with the requirements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“Determination of destination domain” to align with the framework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OF to those on th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New Metrics: Domain Count and BN 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Reachabilily TL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 of new OF to those on 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or cap the number of domains cro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llow domain re-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F: Minimize number of dom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he number of domains can be viewed as a limit in a metric (e.g. number of dom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disallow domain re-entry is a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met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document mentions the need to cap the number of domains cro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: add new metric with number of domains cro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: add new metric with number of BN (to differentiate between cases with one BN common to two domains, and cases with inter-domain lin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habilily TL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chability TLV carries information of the set of end-points reachable in a given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t of the TLV is a list of IPv4 Prefix, IPv6 Prefix, AS and unnumbered Interface ERO subojects, as defined in [RFC3209]  and [RFC3477]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LV can be carried in a NOTIFICATION object to indicate the reachable end-points of the domain of the PCE who sends the PCNtf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feed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mework document for H-PCE is almost 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lution document could be a base for a WG document for the solution of the fra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car Gonzalez de Dios</cp:lastModifiedBy>
  <dcterms:modified xsi:type="dcterms:W3CDTF">2012-07-27T11:59:26Z</dcterms:modified>
  <cp:revision>1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