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3"/>
          </p:nvPr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91080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5"/>
          </p:nvPr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2F160-1881-497E-A1A9-CA504C1D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C2D85-A7D8-4B0C-AB97-622115EF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6FB91-9209-4082-8C22-985E8F20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2A2484-BAB8-4402-945A-6AAFA2CB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FB2D4-F20A-428C-836A-5F8FF759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13864-F865-400A-A9AF-91858916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1F90C-792A-4A37-9F64-3FF208AE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3A07F-9ED7-462E-B0CE-E5A1514C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0E7BC1-0425-46F7-B6B8-61CBFB2E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5D225-64EE-4765-B190-EF6581437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F7F23-C15C-48B6-8626-160E4F203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3969000" y="6673680"/>
            <a:ext cx="67752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fld id="{80D88B44-B13C-4F48-9C30-2F8040EFB00D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SimHei"/>
              </a:rPr>
              <a:t>Huawei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1000"/>
            <a:ext cx="81010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322040" y="66229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57320" y="6610320"/>
            <a:ext cx="1212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488-6145-400B-B286-FADDA51BB82B}" type="datetime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/31/26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fld id="{C0C855E4-EDD6-48AA-A2EF-B2A65DE84846}" type="datetime10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:0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650880" y="6435720"/>
            <a:ext cx="275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E8F3DFEE-A1F4-4C0B-837C-C17356196FC1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86200" y="6435720"/>
            <a:ext cx="15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Arial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18312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33612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2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7144920" y="4070520"/>
            <a:ext cx="163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830280" y="247680"/>
            <a:ext cx="1795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 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机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49440" y="6202440"/>
            <a:ext cx="264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97960" y="6202440"/>
            <a:ext cx="165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1965240" y="3922560"/>
            <a:ext cx="46576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song Tao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uawei Technologies Inc.</a:t>
            </a:r>
            <a:r>
              <a:rPr b="0" lang="en-US" sz="25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427040" y="1446120"/>
            <a:ext cx="5921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Introduction to MPLS-PIM Inter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draft-tao-mpls-pim-interworking-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2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3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51080" y="560520"/>
            <a:ext cx="55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2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3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123840" y="1297080"/>
            <a:ext cx="844560" cy="1460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70160" y="1174680"/>
            <a:ext cx="5869080" cy="42386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pplication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P Multicast Sites Around MPLS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Running In Eac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Meets MPLS at MPLS PIM Border Router (mPMB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IM Control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ulticast Data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cal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outing in MP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IM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230" name="Line 6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Oval 8"/>
          <p:cNvSpPr/>
          <p:nvPr/>
        </p:nvSpPr>
        <p:spPr>
          <a:xfrm>
            <a:off x="1020600" y="2235240"/>
            <a:ext cx="1925640" cy="185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05"/>
          <p:cNvPicPr/>
          <p:nvPr/>
        </p:nvPicPr>
        <p:blipFill>
          <a:blip r:embed="rId1"/>
          <a:stretch/>
        </p:blipFill>
        <p:spPr>
          <a:xfrm>
            <a:off x="2360520" y="2922480"/>
            <a:ext cx="29376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05"/>
          <p:cNvPicPr/>
          <p:nvPr/>
        </p:nvPicPr>
        <p:blipFill>
          <a:blip r:embed="rId2"/>
          <a:stretch/>
        </p:blipFill>
        <p:spPr>
          <a:xfrm>
            <a:off x="1673280" y="3083040"/>
            <a:ext cx="295200" cy="193680"/>
          </a:xfrm>
          <a:prstGeom prst="rect">
            <a:avLst/>
          </a:prstGeom>
          <a:ln w="0">
            <a:noFill/>
          </a:ln>
        </p:spPr>
      </p:pic>
      <p:cxnSp>
        <p:nvCxnSpPr>
          <p:cNvPr id="235" name="AutoShape 100"/>
          <p:cNvCxnSpPr>
            <a:stCxn id="236" idx="9"/>
            <a:endCxn id="237" idx="6"/>
          </p:cNvCxnSpPr>
          <p:nvPr/>
        </p:nvCxnSpPr>
        <p:spPr>
          <a:xfrm flipV="1">
            <a:off x="1360440" y="2312280"/>
            <a:ext cx="6674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AutoShape 101"/>
          <p:cNvCxnSpPr/>
          <p:nvPr/>
        </p:nvCxnSpPr>
        <p:spPr>
          <a:xfrm flipH="1" flipV="1">
            <a:off x="1305720" y="2895120"/>
            <a:ext cx="367560" cy="28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9" name="AutoShape 104"/>
          <p:cNvCxnSpPr>
            <a:stCxn id="240" idx="7"/>
          </p:cNvCxnSpPr>
          <p:nvPr/>
        </p:nvCxnSpPr>
        <p:spPr>
          <a:xfrm flipH="1" flipV="1">
            <a:off x="1820520" y="3276000"/>
            <a:ext cx="254880" cy="594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1" name="AutoShape 105"/>
          <p:cNvCxnSpPr/>
          <p:nvPr/>
        </p:nvCxnSpPr>
        <p:spPr>
          <a:xfrm flipV="1">
            <a:off x="1968120" y="3018960"/>
            <a:ext cx="3927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106"/>
          <p:cNvCxnSpPr>
            <a:stCxn id="237" idx="2"/>
          </p:cNvCxnSpPr>
          <p:nvPr/>
        </p:nvCxnSpPr>
        <p:spPr>
          <a:xfrm>
            <a:off x="2313000" y="2324160"/>
            <a:ext cx="1958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AutoShape 107"/>
          <p:cNvCxnSpPr>
            <a:stCxn id="244" idx="2"/>
          </p:cNvCxnSpPr>
          <p:nvPr/>
        </p:nvCxnSpPr>
        <p:spPr>
          <a:xfrm flipV="1">
            <a:off x="2048040" y="3115800"/>
            <a:ext cx="46080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AutoShape 108"/>
          <p:cNvCxnSpPr>
            <a:stCxn id="237" idx="3"/>
          </p:cNvCxnSpPr>
          <p:nvPr/>
        </p:nvCxnSpPr>
        <p:spPr>
          <a:xfrm flipH="1">
            <a:off x="1820520" y="2411280"/>
            <a:ext cx="35136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6" name="AutoShape 103"/>
          <p:cNvCxnSpPr>
            <a:stCxn id="247" idx="2"/>
          </p:cNvCxnSpPr>
          <p:nvPr/>
        </p:nvCxnSpPr>
        <p:spPr>
          <a:xfrm flipH="1" flipV="1">
            <a:off x="656640" y="2507400"/>
            <a:ext cx="41796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AutoShape 103"/>
          <p:cNvCxnSpPr>
            <a:stCxn id="247" idx="2"/>
          </p:cNvCxnSpPr>
          <p:nvPr/>
        </p:nvCxnSpPr>
        <p:spPr>
          <a:xfrm flipH="1" flipV="1">
            <a:off x="755280" y="1852200"/>
            <a:ext cx="31968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9" name="Picture 28" descr="05"/>
          <p:cNvPicPr/>
          <p:nvPr/>
        </p:nvPicPr>
        <p:blipFill>
          <a:blip r:embed="rId3"/>
          <a:stretch/>
        </p:blipFill>
        <p:spPr>
          <a:xfrm>
            <a:off x="1946160" y="4400640"/>
            <a:ext cx="292320" cy="195120"/>
          </a:xfrm>
          <a:prstGeom prst="rect">
            <a:avLst/>
          </a:prstGeom>
          <a:ln w="0">
            <a:noFill/>
          </a:ln>
        </p:spPr>
      </p:pic>
      <p:cxnSp>
        <p:nvCxnSpPr>
          <p:cNvPr id="250" name="AutoShape 103"/>
          <p:cNvCxnSpPr>
            <a:endCxn id="251" idx="3"/>
          </p:cNvCxnSpPr>
          <p:nvPr/>
        </p:nvCxnSpPr>
        <p:spPr>
          <a:xfrm flipH="1" flipV="1">
            <a:off x="2069640" y="4125240"/>
            <a:ext cx="2304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52" name="Picture 28" descr="05"/>
          <p:cNvPicPr/>
          <p:nvPr/>
        </p:nvPicPr>
        <p:blipFill>
          <a:blip r:embed="rId4"/>
          <a:stretch/>
        </p:blipFill>
        <p:spPr>
          <a:xfrm>
            <a:off x="365040" y="2411280"/>
            <a:ext cx="292320" cy="193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05"/>
          <p:cNvPicPr/>
          <p:nvPr/>
        </p:nvPicPr>
        <p:blipFill>
          <a:blip r:embed="rId5"/>
          <a:stretch/>
        </p:blipFill>
        <p:spPr>
          <a:xfrm>
            <a:off x="609480" y="1657440"/>
            <a:ext cx="292320" cy="195120"/>
          </a:xfrm>
          <a:prstGeom prst="rect">
            <a:avLst/>
          </a:prstGeom>
          <a:ln w="0">
            <a:noFill/>
          </a:ln>
        </p:spPr>
      </p:pic>
      <p:sp>
        <p:nvSpPr>
          <p:cNvPr id="254" name="Oval 24"/>
          <p:cNvSpPr/>
          <p:nvPr/>
        </p:nvSpPr>
        <p:spPr>
          <a:xfrm>
            <a:off x="1589040" y="4305240"/>
            <a:ext cx="1236600" cy="9111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0"/>
          <p:cNvSpPr/>
          <p:nvPr/>
        </p:nvSpPr>
        <p:spPr>
          <a:xfrm>
            <a:off x="996120" y="219564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0"/>
          <p:cNvSpPr/>
          <p:nvPr/>
        </p:nvSpPr>
        <p:spPr>
          <a:xfrm>
            <a:off x="2097720" y="20494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20"/>
          <p:cNvSpPr/>
          <p:nvPr/>
        </p:nvSpPr>
        <p:spPr>
          <a:xfrm>
            <a:off x="2113560" y="38955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1074600" y="2603520"/>
            <a:ext cx="287640" cy="328680"/>
            <a:chOff x="1074600" y="2603520"/>
            <a:chExt cx="287640" cy="328680"/>
          </a:xfrm>
        </p:grpSpPr>
        <p:sp>
          <p:nvSpPr>
            <p:cNvPr id="236" name="Freeform 29"/>
            <p:cNvSpPr/>
            <p:nvPr/>
          </p:nvSpPr>
          <p:spPr>
            <a:xfrm>
              <a:off x="1074600" y="2695680"/>
              <a:ext cx="287640" cy="236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>
              <a:off x="1074600" y="2695680"/>
              <a:ext cx="287640" cy="14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1"/>
            <p:cNvSpPr/>
            <p:nvPr/>
          </p:nvSpPr>
          <p:spPr>
            <a:xfrm>
              <a:off x="1074600" y="2603520"/>
              <a:ext cx="286920" cy="1792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1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2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3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4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6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7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8"/>
          <p:cNvGrpSpPr/>
          <p:nvPr/>
        </p:nvGrpSpPr>
        <p:grpSpPr>
          <a:xfrm>
            <a:off x="1925640" y="3797280"/>
            <a:ext cx="287280" cy="328680"/>
            <a:chOff x="1925640" y="3797280"/>
            <a:chExt cx="287280" cy="328680"/>
          </a:xfrm>
        </p:grpSpPr>
        <p:sp>
          <p:nvSpPr>
            <p:cNvPr id="251" name="Freeform 49"/>
            <p:cNvSpPr/>
            <p:nvPr/>
          </p:nvSpPr>
          <p:spPr>
            <a:xfrm>
              <a:off x="1925640" y="3889440"/>
              <a:ext cx="287280" cy="236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0"/>
            <p:cNvSpPr/>
            <p:nvPr/>
          </p:nvSpPr>
          <p:spPr>
            <a:xfrm>
              <a:off x="1925640" y="3889440"/>
              <a:ext cx="287280" cy="14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925640" y="3797280"/>
              <a:ext cx="286560" cy="17928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1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5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6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68"/>
          <p:cNvSpPr/>
          <p:nvPr/>
        </p:nvSpPr>
        <p:spPr>
          <a:xfrm>
            <a:off x="835200" y="3213000"/>
            <a:ext cx="1244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69"/>
          <p:cNvGrpSpPr/>
          <p:nvPr/>
        </p:nvGrpSpPr>
        <p:grpSpPr>
          <a:xfrm>
            <a:off x="2027160" y="2082960"/>
            <a:ext cx="287280" cy="327960"/>
            <a:chOff x="2027160" y="2082960"/>
            <a:chExt cx="287280" cy="327960"/>
          </a:xfrm>
        </p:grpSpPr>
        <p:sp>
          <p:nvSpPr>
            <p:cNvPr id="237" name="Freeform 70"/>
            <p:cNvSpPr/>
            <p:nvPr/>
          </p:nvSpPr>
          <p:spPr>
            <a:xfrm>
              <a:off x="2027160" y="2174760"/>
              <a:ext cx="287280" cy="2361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1"/>
            <p:cNvSpPr/>
            <p:nvPr/>
          </p:nvSpPr>
          <p:spPr>
            <a:xfrm>
              <a:off x="2027160" y="2174760"/>
              <a:ext cx="287280" cy="1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2"/>
            <p:cNvSpPr/>
            <p:nvPr/>
          </p:nvSpPr>
          <p:spPr>
            <a:xfrm>
              <a:off x="2027160" y="2082960"/>
              <a:ext cx="286560" cy="17892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3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4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5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6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7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8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9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0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1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2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3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4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5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6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7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8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28" descr="05"/>
          <p:cNvPicPr/>
          <p:nvPr/>
        </p:nvPicPr>
        <p:blipFill>
          <a:blip r:embed="rId6"/>
          <a:stretch/>
        </p:blipFill>
        <p:spPr>
          <a:xfrm>
            <a:off x="2238480" y="1663560"/>
            <a:ext cx="291960" cy="195480"/>
          </a:xfrm>
          <a:prstGeom prst="rect">
            <a:avLst/>
          </a:prstGeom>
          <a:ln w="0">
            <a:noFill/>
          </a:ln>
        </p:spPr>
      </p:pic>
      <p:cxnSp>
        <p:nvCxnSpPr>
          <p:cNvPr id="314" name="AutoShape 103"/>
          <p:cNvCxnSpPr>
            <a:endCxn id="296" idx="3"/>
          </p:cNvCxnSpPr>
          <p:nvPr/>
        </p:nvCxnSpPr>
        <p:spPr>
          <a:xfrm flipH="1">
            <a:off x="2171520" y="1859040"/>
            <a:ext cx="2131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Oval 92"/>
          <p:cNvSpPr/>
          <p:nvPr/>
        </p:nvSpPr>
        <p:spPr>
          <a:xfrm>
            <a:off x="1890720" y="1073160"/>
            <a:ext cx="1008000" cy="892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3"/>
          <p:cNvSpPr/>
          <p:nvPr/>
        </p:nvSpPr>
        <p:spPr>
          <a:xfrm>
            <a:off x="1266840" y="2800440"/>
            <a:ext cx="723960" cy="1047600"/>
          </a:xfrm>
          <a:custGeom>
            <a:avLst/>
            <a:gdLst>
              <a:gd name="textAreaLeft" fmla="*/ 0 w 723960"/>
              <a:gd name="textAreaRight" fmla="*/ 724320 w 7239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486" h="858">
                <a:moveTo>
                  <a:pt x="0" y="0"/>
                </a:moveTo>
                <a:cubicBezTo>
                  <a:pt x="110" y="69"/>
                  <a:pt x="221" y="138"/>
                  <a:pt x="294" y="228"/>
                </a:cubicBezTo>
                <a:cubicBezTo>
                  <a:pt x="367" y="318"/>
                  <a:pt x="406" y="435"/>
                  <a:pt x="438" y="540"/>
                </a:cubicBezTo>
                <a:cubicBezTo>
                  <a:pt x="470" y="645"/>
                  <a:pt x="478" y="805"/>
                  <a:pt x="486" y="858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4"/>
          <p:cNvSpPr/>
          <p:nvPr/>
        </p:nvSpPr>
        <p:spPr>
          <a:xfrm>
            <a:off x="1762200" y="2266920"/>
            <a:ext cx="419040" cy="847800"/>
          </a:xfrm>
          <a:custGeom>
            <a:avLst/>
            <a:gdLst>
              <a:gd name="textAreaLeft" fmla="*/ 0 w 419040"/>
              <a:gd name="textAreaRight" fmla="*/ 419400 w 4190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324" h="630">
                <a:moveTo>
                  <a:pt x="0" y="630"/>
                </a:moveTo>
                <a:cubicBezTo>
                  <a:pt x="108" y="445"/>
                  <a:pt x="216" y="261"/>
                  <a:pt x="270" y="156"/>
                </a:cubicBezTo>
                <a:cubicBezTo>
                  <a:pt x="324" y="51"/>
                  <a:pt x="324" y="25"/>
                  <a:pt x="324" y="0"/>
                </a:cubicBezTo>
              </a:path>
            </a:pathLst>
          </a:custGeom>
          <a:noFill/>
          <a:ln w="3492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5"/>
          <p:cNvSpPr/>
          <p:nvPr/>
        </p:nvSpPr>
        <p:spPr>
          <a:xfrm>
            <a:off x="657360" y="2552760"/>
            <a:ext cx="380880" cy="17136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7"/>
          <p:cNvSpPr/>
          <p:nvPr/>
        </p:nvSpPr>
        <p:spPr>
          <a:xfrm flipV="1">
            <a:off x="2212920" y="1889280"/>
            <a:ext cx="209520" cy="2095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8"/>
          <p:cNvSpPr/>
          <p:nvPr/>
        </p:nvSpPr>
        <p:spPr>
          <a:xfrm>
            <a:off x="2025720" y="4121280"/>
            <a:ext cx="28440" cy="2761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1"/>
          <p:cNvSpPr/>
          <p:nvPr/>
        </p:nvSpPr>
        <p:spPr>
          <a:xfrm>
            <a:off x="301680" y="4178160"/>
            <a:ext cx="1171440" cy="32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4"/>
          <p:cNvSpPr/>
          <p:nvPr/>
        </p:nvSpPr>
        <p:spPr>
          <a:xfrm flipV="1">
            <a:off x="1371600" y="3543480"/>
            <a:ext cx="514440" cy="6285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5"/>
          <p:cNvSpPr/>
          <p:nvPr/>
        </p:nvSpPr>
        <p:spPr>
          <a:xfrm>
            <a:off x="0" y="3708360"/>
            <a:ext cx="1295280" cy="32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6"/>
          <p:cNvSpPr/>
          <p:nvPr/>
        </p:nvSpPr>
        <p:spPr>
          <a:xfrm flipV="1">
            <a:off x="272880" y="2930040"/>
            <a:ext cx="400320" cy="7239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903240" y="1060560"/>
            <a:ext cx="71071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ur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-Of-Band Method For m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FC6513, RFC6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FC6037(Cis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raft-hlj-l3vpn-mvpn-mrsvp-t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-Band Method For mL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raft-ietf-mpls-mldp-in-band-signaling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pendence on A Third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complete PI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formance and Scal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Overheads Caused to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Optimal Routing in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28" name="Line 6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557280" y="189000"/>
            <a:ext cx="75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/mRSVP-TE Interworking 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548160" y="812880"/>
            <a:ext cx="56149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PM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 and MPL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Quasi-PIM Interface (Q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ame as PIM Interface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 PIM Adjac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-MPLS Interworking (PMI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apping PIM Forwarding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That Terminate at mPMB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Hell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Asse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Mapped Between PIM and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 Forwarding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Per-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Non-Interface Speci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Uni-casted Using Raw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gister, CRP-A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ootstrap: A Bootstrap Channel Over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37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7"/>
          <p:cNvSpPr/>
          <p:nvPr/>
        </p:nvSpPr>
        <p:spPr>
          <a:xfrm>
            <a:off x="-482760" y="901800"/>
            <a:ext cx="15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1079640" y="511812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cast Contro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12720" y="5213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15960" y="54720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1079640" y="534672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 Multica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46120" y="458460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-630720" y="1318320"/>
            <a:ext cx="4154760" cy="3267000"/>
            <a:chOff x="-630720" y="1318320"/>
            <a:chExt cx="4154760" cy="3267000"/>
          </a:xfrm>
        </p:grpSpPr>
        <p:sp>
          <p:nvSpPr>
            <p:cNvPr id="346" name="Rectangle 9"/>
            <p:cNvSpPr/>
            <p:nvPr/>
          </p:nvSpPr>
          <p:spPr>
            <a:xfrm>
              <a:off x="737280" y="1588680"/>
              <a:ext cx="2258280" cy="201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>
              <a:off x="938160" y="2035080"/>
              <a:ext cx="5436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F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1469880" y="2035080"/>
              <a:ext cx="8881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I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1115640" y="161244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3"/>
            <p:cNvGrpSpPr/>
            <p:nvPr/>
          </p:nvGrpSpPr>
          <p:grpSpPr>
            <a:xfrm>
              <a:off x="524160" y="2634120"/>
              <a:ext cx="414000" cy="211320"/>
              <a:chOff x="524160" y="2634120"/>
              <a:chExt cx="414000" cy="211320"/>
            </a:xfrm>
          </p:grpSpPr>
          <p:sp>
            <p:nvSpPr>
              <p:cNvPr id="351" name="Line 14"/>
              <p:cNvSpPr/>
              <p:nvPr/>
            </p:nvSpPr>
            <p:spPr>
              <a:xfrm>
                <a:off x="551520" y="277488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5"/>
              <p:cNvSpPr/>
              <p:nvPr/>
            </p:nvSpPr>
            <p:spPr>
              <a:xfrm>
                <a:off x="551520" y="270468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6"/>
              <p:cNvSpPr/>
              <p:nvPr/>
            </p:nvSpPr>
            <p:spPr>
              <a:xfrm>
                <a:off x="524160" y="26341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7"/>
              <p:cNvSpPr/>
              <p:nvPr/>
            </p:nvSpPr>
            <p:spPr>
              <a:xfrm>
                <a:off x="524160" y="28454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18"/>
            <p:cNvGrpSpPr/>
            <p:nvPr/>
          </p:nvGrpSpPr>
          <p:grpSpPr>
            <a:xfrm>
              <a:off x="2880720" y="2687040"/>
              <a:ext cx="414000" cy="211320"/>
              <a:chOff x="2880720" y="2687040"/>
              <a:chExt cx="414000" cy="211320"/>
            </a:xfrm>
          </p:grpSpPr>
          <p:sp>
            <p:nvSpPr>
              <p:cNvPr id="356" name="Line 19"/>
              <p:cNvSpPr/>
              <p:nvPr/>
            </p:nvSpPr>
            <p:spPr>
              <a:xfrm>
                <a:off x="2908080" y="282780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0"/>
              <p:cNvSpPr/>
              <p:nvPr/>
            </p:nvSpPr>
            <p:spPr>
              <a:xfrm>
                <a:off x="2908080" y="275724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1"/>
              <p:cNvSpPr/>
              <p:nvPr/>
            </p:nvSpPr>
            <p:spPr>
              <a:xfrm>
                <a:off x="2880720" y="26870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2"/>
              <p:cNvSpPr/>
              <p:nvPr/>
            </p:nvSpPr>
            <p:spPr>
              <a:xfrm>
                <a:off x="2880720" y="289836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ectangle 23"/>
            <p:cNvSpPr/>
            <p:nvPr/>
          </p:nvSpPr>
          <p:spPr>
            <a:xfrm>
              <a:off x="2358000" y="2035080"/>
              <a:ext cx="5317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L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24"/>
            <p:cNvGrpSpPr/>
            <p:nvPr/>
          </p:nvGrpSpPr>
          <p:grpSpPr>
            <a:xfrm>
              <a:off x="2889720" y="2410920"/>
              <a:ext cx="414000" cy="140760"/>
              <a:chOff x="2889720" y="2410920"/>
              <a:chExt cx="414000" cy="140760"/>
            </a:xfrm>
          </p:grpSpPr>
          <p:sp>
            <p:nvSpPr>
              <p:cNvPr id="362" name="Line 25"/>
              <p:cNvSpPr/>
              <p:nvPr/>
            </p:nvSpPr>
            <p:spPr>
              <a:xfrm>
                <a:off x="2917080" y="248112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6"/>
              <p:cNvSpPr/>
              <p:nvPr/>
            </p:nvSpPr>
            <p:spPr>
              <a:xfrm>
                <a:off x="2889720" y="24109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7"/>
              <p:cNvSpPr/>
              <p:nvPr/>
            </p:nvSpPr>
            <p:spPr>
              <a:xfrm>
                <a:off x="2889720" y="25516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28"/>
            <p:cNvSpPr/>
            <p:nvPr/>
          </p:nvSpPr>
          <p:spPr>
            <a:xfrm>
              <a:off x="109800" y="2035080"/>
              <a:ext cx="4140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37"/>
            <p:cNvSpPr/>
            <p:nvPr/>
          </p:nvSpPr>
          <p:spPr>
            <a:xfrm rot="4905600">
              <a:off x="-359280" y="2341800"/>
              <a:ext cx="936720" cy="12855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fill="none" w="18122" h="21568">
                  <a:moveTo>
                    <a:pt x="1168" y="-1"/>
                  </a:moveTo>
                  <a:cubicBezTo>
                    <a:pt x="8063" y="373"/>
                    <a:pt x="14364" y="4020"/>
                    <a:pt x="18121" y="9814"/>
                  </a:cubicBezTo>
                </a:path>
                <a:path stroke="0" w="18122" h="21568">
                  <a:moveTo>
                    <a:pt x="1168" y="-1"/>
                  </a:moveTo>
                  <a:cubicBezTo>
                    <a:pt x="8063" y="373"/>
                    <a:pt x="14364" y="4020"/>
                    <a:pt x="18121" y="9814"/>
                  </a:cubicBezTo>
                  <a:lnTo>
                    <a:pt x="0" y="215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38"/>
            <p:cNvSpPr/>
            <p:nvPr/>
          </p:nvSpPr>
          <p:spPr>
            <a:xfrm rot="2176200">
              <a:off x="-364680" y="1528920"/>
              <a:ext cx="1127520" cy="1268280"/>
            </a:xfrm>
            <a:custGeom>
              <a:avLst/>
              <a:gdLst>
                <a:gd name="textAreaLeft" fmla="*/ 0 w 1127520"/>
                <a:gd name="textAreaRight" fmla="*/ 1127880 w 112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fill="none" w="21514" h="21600">
                  <a:moveTo>
                    <a:pt x="-1" y="267"/>
                  </a:moveTo>
                  <a:cubicBezTo>
                    <a:pt x="1121" y="89"/>
                    <a:pt x="2256" y="-1"/>
                    <a:pt x="3392" y="0"/>
                  </a:cubicBezTo>
                  <a:cubicBezTo>
                    <a:pt x="10710" y="0"/>
                    <a:pt x="17531" y="3705"/>
                    <a:pt x="21513" y="9846"/>
                  </a:cubicBezTo>
                </a:path>
                <a:path stroke="0" w="21514" h="21600">
                  <a:moveTo>
                    <a:pt x="-1" y="267"/>
                  </a:moveTo>
                  <a:cubicBezTo>
                    <a:pt x="1121" y="89"/>
                    <a:pt x="2256" y="-1"/>
                    <a:pt x="3392" y="0"/>
                  </a:cubicBezTo>
                  <a:cubicBezTo>
                    <a:pt x="10710" y="0"/>
                    <a:pt x="17531" y="3705"/>
                    <a:pt x="21513" y="9846"/>
                  </a:cubicBezTo>
                  <a:lnTo>
                    <a:pt x="3392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221760" y="3761640"/>
              <a:ext cx="1050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 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0"/>
            <p:cNvSpPr/>
            <p:nvPr/>
          </p:nvSpPr>
          <p:spPr>
            <a:xfrm flipV="1">
              <a:off x="443520" y="2845440"/>
              <a:ext cx="22608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1"/>
            <p:cNvSpPr/>
            <p:nvPr/>
          </p:nvSpPr>
          <p:spPr>
            <a:xfrm>
              <a:off x="2472480" y="3726000"/>
              <a:ext cx="10515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PLS Tu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2"/>
            <p:cNvSpPr/>
            <p:nvPr/>
          </p:nvSpPr>
          <p:spPr>
            <a:xfrm flipV="1">
              <a:off x="2898720" y="2951280"/>
              <a:ext cx="14292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3"/>
            <p:cNvSpPr/>
            <p:nvPr/>
          </p:nvSpPr>
          <p:spPr>
            <a:xfrm flipV="1">
              <a:off x="3208680" y="2551680"/>
              <a:ext cx="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5"/>
            <p:cNvSpPr/>
            <p:nvPr/>
          </p:nvSpPr>
          <p:spPr>
            <a:xfrm>
              <a:off x="1468440" y="266076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6"/>
            <p:cNvSpPr/>
            <p:nvPr/>
          </p:nvSpPr>
          <p:spPr>
            <a:xfrm>
              <a:off x="1474560" y="285120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7"/>
            <p:cNvSpPr/>
            <p:nvPr/>
          </p:nvSpPr>
          <p:spPr>
            <a:xfrm>
              <a:off x="1469880" y="4278240"/>
              <a:ext cx="817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8"/>
            <p:cNvSpPr/>
            <p:nvPr/>
          </p:nvSpPr>
          <p:spPr>
            <a:xfrm flipH="1" flipV="1">
              <a:off x="1742040" y="2912760"/>
              <a:ext cx="98280" cy="13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9"/>
            <p:cNvSpPr/>
            <p:nvPr/>
          </p:nvSpPr>
          <p:spPr>
            <a:xfrm>
              <a:off x="1480320" y="2750040"/>
              <a:ext cx="880200" cy="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1"/>
            <p:cNvSpPr/>
            <p:nvPr/>
          </p:nvSpPr>
          <p:spPr>
            <a:xfrm>
              <a:off x="1468440" y="2404800"/>
              <a:ext cx="875880" cy="343440"/>
            </a:xfrm>
            <a:custGeom>
              <a:avLst/>
              <a:gdLst>
                <a:gd name="textAreaLeft" fmla="*/ 0 w 875880"/>
                <a:gd name="textAreaRight" fmla="*/ 876240 w 87588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588" h="234">
                  <a:moveTo>
                    <a:pt x="0" y="234"/>
                  </a:moveTo>
                  <a:cubicBezTo>
                    <a:pt x="92" y="117"/>
                    <a:pt x="184" y="0"/>
                    <a:pt x="282" y="0"/>
                  </a:cubicBezTo>
                  <a:cubicBezTo>
                    <a:pt x="380" y="0"/>
                    <a:pt x="484" y="117"/>
                    <a:pt x="588" y="23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27160" y="189000"/>
            <a:ext cx="87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pping PIM States To/From MPLS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81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0"/>
          <p:cNvGrpSpPr/>
          <p:nvPr/>
        </p:nvGrpSpPr>
        <p:grpSpPr>
          <a:xfrm>
            <a:off x="3652920" y="2006640"/>
            <a:ext cx="4321080" cy="3958920"/>
            <a:chOff x="3652920" y="2006640"/>
            <a:chExt cx="4321080" cy="3958920"/>
          </a:xfrm>
        </p:grpSpPr>
        <p:sp>
          <p:nvSpPr>
            <p:cNvPr id="384" name="Rectangle 7"/>
            <p:cNvSpPr/>
            <p:nvPr/>
          </p:nvSpPr>
          <p:spPr>
            <a:xfrm>
              <a:off x="3652920" y="2006640"/>
              <a:ext cx="4321080" cy="39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3759120" y="2559240"/>
              <a:ext cx="1293840" cy="9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Interf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9"/>
            <p:cNvSpPr/>
            <p:nvPr/>
          </p:nvSpPr>
          <p:spPr>
            <a:xfrm>
              <a:off x="4738680" y="209808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 Leaf 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6243480" y="2647440"/>
              <a:ext cx="1427400" cy="79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LS In-B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M-Flow Spec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2"/>
            <p:cNvSpPr/>
            <p:nvPr/>
          </p:nvSpPr>
          <p:spPr>
            <a:xfrm>
              <a:off x="5172120" y="2712600"/>
              <a:ext cx="981000" cy="575280"/>
            </a:xfrm>
            <a:prstGeom prst="rightArrow">
              <a:avLst>
                <a:gd name="adj1" fmla="val 50000"/>
                <a:gd name="adj2" fmla="val 426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3813120" y="4615560"/>
              <a:ext cx="1198440" cy="88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-Interf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"/>
            <p:cNvSpPr/>
            <p:nvPr/>
          </p:nvSpPr>
          <p:spPr>
            <a:xfrm>
              <a:off x="6202440" y="4654800"/>
              <a:ext cx="1427040" cy="79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LS In-B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M-Flow Spec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8"/>
            <p:cNvSpPr/>
            <p:nvPr/>
          </p:nvSpPr>
          <p:spPr>
            <a:xfrm>
              <a:off x="5095800" y="4635360"/>
              <a:ext cx="1028880" cy="745200"/>
            </a:xfrm>
            <a:prstGeom prst="leftArrow">
              <a:avLst>
                <a:gd name="adj1" fmla="val 50000"/>
                <a:gd name="adj2" fmla="val 345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4849920" y="404640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 Root 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2"/>
          <p:cNvGrpSpPr/>
          <p:nvPr/>
        </p:nvGrpSpPr>
        <p:grpSpPr>
          <a:xfrm>
            <a:off x="262080" y="1536840"/>
            <a:ext cx="2903400" cy="4587840"/>
            <a:chOff x="262080" y="1536840"/>
            <a:chExt cx="2903400" cy="4587840"/>
          </a:xfrm>
        </p:grpSpPr>
        <p:sp>
          <p:nvSpPr>
            <p:cNvPr id="394" name="Rectangle 3"/>
            <p:cNvSpPr/>
            <p:nvPr/>
          </p:nvSpPr>
          <p:spPr>
            <a:xfrm>
              <a:off x="264960" y="1536840"/>
              <a:ext cx="2894040" cy="24955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marL="293760" indent="-293760" algn="ctr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PIM Forwarding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*, *, RP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*, 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S, 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S, G, RP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1"/>
            <p:cNvSpPr/>
            <p:nvPr/>
          </p:nvSpPr>
          <p:spPr>
            <a:xfrm>
              <a:off x="262080" y="4133880"/>
              <a:ext cx="2903400" cy="199080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marL="293760" indent="-293760" algn="ctr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MPLS In-Band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99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-Flow Spe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nding To P2MP L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olicy-based Aggre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60360" y="1022400"/>
            <a:ext cx="78598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af m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ind A Prospective PIM Upstream State to A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Initiate Tunnel Signaling If Necess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M-Flow Spec as In-Band signal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Create a QPI after su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May Bind to An Existing Tu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Merge M-Flow Sp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Create PIM Upstream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QPI as RFP 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ot m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Newly Received M-Flow Specs Mapped to New Per-Interfac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Create QPI for Each New Tu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QPI as the downstream 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t L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ecide Bran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Merge M-Flow Specs For Branching L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ass On In-Band M-Flow Specs Until They Are No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99" name="Line 5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014480" y="189000"/>
            <a:ext cx="76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 Bootstrap Over Backbone 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065400" y="1555920"/>
            <a:ext cx="622152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ootstrap MP2MP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t Startup, each mPMBR do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Designate A Root BSTRAP_RO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Each mPM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Join (BSTRAP_ROOT, ALL_PIM_ROU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M on mPMBR sends and receives Boots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o/From the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o/From PIM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404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8"/>
          <p:cNvSpPr/>
          <p:nvPr/>
        </p:nvSpPr>
        <p:spPr>
          <a:xfrm>
            <a:off x="762120" y="2133720"/>
            <a:ext cx="1971720" cy="173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20"/>
          <p:cNvSpPr/>
          <p:nvPr/>
        </p:nvSpPr>
        <p:spPr>
          <a:xfrm>
            <a:off x="447840" y="208584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8" descr="05"/>
          <p:cNvPicPr/>
          <p:nvPr/>
        </p:nvPicPr>
        <p:blipFill>
          <a:blip r:embed="rId1"/>
          <a:stretch/>
        </p:blipFill>
        <p:spPr>
          <a:xfrm>
            <a:off x="914400" y="2508120"/>
            <a:ext cx="325440" cy="23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8" descr="05"/>
          <p:cNvPicPr/>
          <p:nvPr/>
        </p:nvPicPr>
        <p:blipFill>
          <a:blip r:embed="rId2"/>
          <a:stretch/>
        </p:blipFill>
        <p:spPr>
          <a:xfrm>
            <a:off x="1569960" y="2262240"/>
            <a:ext cx="325440" cy="23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8" descr="05"/>
          <p:cNvPicPr/>
          <p:nvPr/>
        </p:nvPicPr>
        <p:blipFill>
          <a:blip r:embed="rId3"/>
          <a:stretch/>
        </p:blipFill>
        <p:spPr>
          <a:xfrm>
            <a:off x="2243160" y="2773440"/>
            <a:ext cx="325440" cy="233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05"/>
          <p:cNvPicPr/>
          <p:nvPr/>
        </p:nvPicPr>
        <p:blipFill>
          <a:blip r:embed="rId4"/>
          <a:stretch/>
        </p:blipFill>
        <p:spPr>
          <a:xfrm>
            <a:off x="1484280" y="2965320"/>
            <a:ext cx="325440" cy="233640"/>
          </a:xfrm>
          <a:prstGeom prst="rect">
            <a:avLst/>
          </a:prstGeom>
          <a:ln w="0">
            <a:noFill/>
          </a:ln>
        </p:spPr>
      </p:pic>
      <p:cxnSp>
        <p:nvCxnSpPr>
          <p:cNvPr id="412" name="AutoShape 100"/>
          <p:cNvCxnSpPr/>
          <p:nvPr/>
        </p:nvCxnSpPr>
        <p:spPr>
          <a:xfrm flipV="1">
            <a:off x="1239480" y="2377800"/>
            <a:ext cx="33084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AutoShape 101"/>
          <p:cNvCxnSpPr/>
          <p:nvPr/>
        </p:nvCxnSpPr>
        <p:spPr>
          <a:xfrm flipH="1" flipV="1">
            <a:off x="1077120" y="2741400"/>
            <a:ext cx="407160" cy="342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14" name="AutoShape 104"/>
          <p:cNvCxnSpPr/>
          <p:nvPr/>
        </p:nvCxnSpPr>
        <p:spPr>
          <a:xfrm flipH="1" flipV="1">
            <a:off x="1647000" y="3198600"/>
            <a:ext cx="205560" cy="30384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15" name="AutoShape 105"/>
          <p:cNvCxnSpPr/>
          <p:nvPr/>
        </p:nvCxnSpPr>
        <p:spPr>
          <a:xfrm flipV="1">
            <a:off x="1809720" y="2890440"/>
            <a:ext cx="4341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AutoShape 106"/>
          <p:cNvCxnSpPr/>
          <p:nvPr/>
        </p:nvCxnSpPr>
        <p:spPr>
          <a:xfrm>
            <a:off x="1895400" y="2378160"/>
            <a:ext cx="51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AutoShape 107"/>
          <p:cNvCxnSpPr/>
          <p:nvPr/>
        </p:nvCxnSpPr>
        <p:spPr>
          <a:xfrm flipV="1">
            <a:off x="1852200" y="3006360"/>
            <a:ext cx="5547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AutoShape 108"/>
          <p:cNvCxnSpPr/>
          <p:nvPr/>
        </p:nvCxnSpPr>
        <p:spPr>
          <a:xfrm flipH="1">
            <a:off x="1647360" y="2493720"/>
            <a:ext cx="86400" cy="47196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pic>
        <p:nvPicPr>
          <p:cNvPr id="419" name="Picture 28" descr="05"/>
          <p:cNvPicPr/>
          <p:nvPr/>
        </p:nvPicPr>
        <p:blipFill>
          <a:blip r:embed="rId5"/>
          <a:stretch/>
        </p:blipFill>
        <p:spPr>
          <a:xfrm>
            <a:off x="1743120" y="3514680"/>
            <a:ext cx="323640" cy="233280"/>
          </a:xfrm>
          <a:prstGeom prst="rect">
            <a:avLst/>
          </a:prstGeom>
          <a:ln w="0">
            <a:noFill/>
          </a:ln>
        </p:spPr>
      </p:pic>
      <p:cxnSp>
        <p:nvCxnSpPr>
          <p:cNvPr id="420" name="AutoShape 100"/>
          <p:cNvCxnSpPr>
            <a:endCxn id="421" idx="3"/>
          </p:cNvCxnSpPr>
          <p:nvPr/>
        </p:nvCxnSpPr>
        <p:spPr>
          <a:xfrm flipH="1" flipV="1">
            <a:off x="641160" y="1839600"/>
            <a:ext cx="43704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TextBox 220"/>
          <p:cNvSpPr/>
          <p:nvPr/>
        </p:nvSpPr>
        <p:spPr>
          <a:xfrm>
            <a:off x="734040" y="14097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33"/>
          <p:cNvGrpSpPr/>
          <p:nvPr/>
        </p:nvGrpSpPr>
        <p:grpSpPr>
          <a:xfrm>
            <a:off x="522360" y="1638360"/>
            <a:ext cx="236520" cy="201600"/>
            <a:chOff x="522360" y="1638360"/>
            <a:chExt cx="236520" cy="201600"/>
          </a:xfrm>
        </p:grpSpPr>
        <p:sp>
          <p:nvSpPr>
            <p:cNvPr id="421" name="Freeform 34"/>
            <p:cNvSpPr/>
            <p:nvPr/>
          </p:nvSpPr>
          <p:spPr>
            <a:xfrm>
              <a:off x="522360" y="169488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"/>
            <p:cNvSpPr/>
            <p:nvPr/>
          </p:nvSpPr>
          <p:spPr>
            <a:xfrm>
              <a:off x="522360" y="169488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522360" y="163836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7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8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0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1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2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4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5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6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7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8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9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0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1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2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53"/>
          <p:cNvGrpSpPr/>
          <p:nvPr/>
        </p:nvGrpSpPr>
        <p:grpSpPr>
          <a:xfrm>
            <a:off x="1440000" y="4464000"/>
            <a:ext cx="236520" cy="201600"/>
            <a:chOff x="1440000" y="4464000"/>
            <a:chExt cx="236520" cy="201600"/>
          </a:xfrm>
        </p:grpSpPr>
        <p:sp>
          <p:nvSpPr>
            <p:cNvPr id="443" name="Freeform 54"/>
            <p:cNvSpPr/>
            <p:nvPr/>
          </p:nvSpPr>
          <p:spPr>
            <a:xfrm>
              <a:off x="1440000" y="452052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5"/>
            <p:cNvSpPr/>
            <p:nvPr/>
          </p:nvSpPr>
          <p:spPr>
            <a:xfrm>
              <a:off x="1440000" y="452052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6"/>
            <p:cNvSpPr/>
            <p:nvPr/>
          </p:nvSpPr>
          <p:spPr>
            <a:xfrm>
              <a:off x="1440000" y="446400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7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8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9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0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1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2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3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4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5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6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9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0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1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2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73"/>
          <p:cNvGrpSpPr/>
          <p:nvPr/>
        </p:nvGrpSpPr>
        <p:grpSpPr>
          <a:xfrm>
            <a:off x="1805040" y="1587600"/>
            <a:ext cx="236520" cy="201600"/>
            <a:chOff x="1805040" y="1587600"/>
            <a:chExt cx="236520" cy="201600"/>
          </a:xfrm>
        </p:grpSpPr>
        <p:sp>
          <p:nvSpPr>
            <p:cNvPr id="463" name="Freeform 74"/>
            <p:cNvSpPr/>
            <p:nvPr/>
          </p:nvSpPr>
          <p:spPr>
            <a:xfrm>
              <a:off x="1805040" y="164412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5"/>
            <p:cNvSpPr/>
            <p:nvPr/>
          </p:nvSpPr>
          <p:spPr>
            <a:xfrm>
              <a:off x="1805040" y="164412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6"/>
            <p:cNvSpPr/>
            <p:nvPr/>
          </p:nvSpPr>
          <p:spPr>
            <a:xfrm>
              <a:off x="1805040" y="158760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7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8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9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0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81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2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3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4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5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6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7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8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9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90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1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2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220"/>
          <p:cNvSpPr/>
          <p:nvPr/>
        </p:nvSpPr>
        <p:spPr>
          <a:xfrm>
            <a:off x="1670400" y="12574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20"/>
          <p:cNvSpPr/>
          <p:nvPr/>
        </p:nvSpPr>
        <p:spPr>
          <a:xfrm>
            <a:off x="686160" y="434664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AutoShape 100"/>
          <p:cNvCxnSpPr>
            <a:endCxn id="463" idx="3"/>
          </p:cNvCxnSpPr>
          <p:nvPr/>
        </p:nvCxnSpPr>
        <p:spPr>
          <a:xfrm flipV="1">
            <a:off x="1733400" y="1788840"/>
            <a:ext cx="19152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AutoShape 100"/>
          <p:cNvCxnSpPr/>
          <p:nvPr/>
        </p:nvCxnSpPr>
        <p:spPr>
          <a:xfrm flipV="1">
            <a:off x="1549080" y="3728160"/>
            <a:ext cx="346680" cy="71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6" name="Line 97"/>
          <p:cNvSpPr/>
          <p:nvPr/>
        </p:nvSpPr>
        <p:spPr>
          <a:xfrm>
            <a:off x="584280" y="1968480"/>
            <a:ext cx="17784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20"/>
          <p:cNvSpPr/>
          <p:nvPr/>
        </p:nvSpPr>
        <p:spPr>
          <a:xfrm>
            <a:off x="6480" y="29973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20"/>
          <p:cNvSpPr/>
          <p:nvPr/>
        </p:nvSpPr>
        <p:spPr>
          <a:xfrm>
            <a:off x="1048320" y="4737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20"/>
          <p:cNvSpPr/>
          <p:nvPr/>
        </p:nvSpPr>
        <p:spPr>
          <a:xfrm>
            <a:off x="1870200" y="40035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2"/>
          <p:cNvSpPr/>
          <p:nvPr/>
        </p:nvSpPr>
        <p:spPr>
          <a:xfrm flipV="1">
            <a:off x="165240" y="2222640"/>
            <a:ext cx="4442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3"/>
          <p:cNvSpPr/>
          <p:nvPr/>
        </p:nvSpPr>
        <p:spPr>
          <a:xfrm>
            <a:off x="1104840" y="2870280"/>
            <a:ext cx="304920" cy="279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8"/>
          <p:cNvSpPr/>
          <p:nvPr/>
        </p:nvSpPr>
        <p:spPr>
          <a:xfrm flipV="1">
            <a:off x="1600200" y="2514240"/>
            <a:ext cx="76320" cy="43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09"/>
          <p:cNvSpPr/>
          <p:nvPr/>
        </p:nvSpPr>
        <p:spPr>
          <a:xfrm flipV="1">
            <a:off x="1676520" y="1854360"/>
            <a:ext cx="13968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4"/>
          <p:cNvSpPr/>
          <p:nvPr/>
        </p:nvSpPr>
        <p:spPr>
          <a:xfrm flipH="1" flipV="1">
            <a:off x="1726920" y="3149280"/>
            <a:ext cx="190440" cy="291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15"/>
          <p:cNvSpPr/>
          <p:nvPr/>
        </p:nvSpPr>
        <p:spPr>
          <a:xfrm flipV="1">
            <a:off x="1727280" y="2577600"/>
            <a:ext cx="8892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16"/>
          <p:cNvSpPr/>
          <p:nvPr/>
        </p:nvSpPr>
        <p:spPr>
          <a:xfrm flipV="1">
            <a:off x="1816200" y="1790280"/>
            <a:ext cx="15228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7"/>
          <p:cNvSpPr/>
          <p:nvPr/>
        </p:nvSpPr>
        <p:spPr>
          <a:xfrm flipH="1" flipV="1">
            <a:off x="1219320" y="2768760"/>
            <a:ext cx="304560" cy="279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18"/>
          <p:cNvSpPr/>
          <p:nvPr/>
        </p:nvSpPr>
        <p:spPr>
          <a:xfrm flipH="1" flipV="1">
            <a:off x="736560" y="1854000"/>
            <a:ext cx="279360" cy="43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9"/>
          <p:cNvSpPr/>
          <p:nvPr/>
        </p:nvSpPr>
        <p:spPr>
          <a:xfrm flipV="1">
            <a:off x="1647720" y="3774600"/>
            <a:ext cx="285840" cy="654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0"/>
          <p:cNvSpPr/>
          <p:nvPr/>
        </p:nvSpPr>
        <p:spPr>
          <a:xfrm>
            <a:off x="1568520" y="3238560"/>
            <a:ext cx="190440" cy="26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1"/>
          <p:cNvSpPr/>
          <p:nvPr/>
        </p:nvSpPr>
        <p:spPr>
          <a:xfrm flipH="1">
            <a:off x="1517400" y="3740040"/>
            <a:ext cx="266760" cy="631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m00904492</cp:lastModifiedBy>
  <cp:lastPrinted>2002-09-26T02:29:13Z</cp:lastPrinted>
  <dcterms:modified xsi:type="dcterms:W3CDTF">2012-07-31T05:01:22Z</dcterms:modified>
  <cp:revision>1865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669770</vt:lpwstr>
  </property>
</Properties>
</file>