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90AE-A1BD-40DA-94BF-6AA58576D65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CD86-A7C4-43A5-A684-1B77273EB7D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23F9-5987-4346-9451-5B6C6C7994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4BB1-411A-48DC-921B-D7B85C54F70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3E3C-1659-4642-B279-A987672EE3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9AB4-8096-411F-8E11-55DEF0E121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1480-776A-47DB-94A0-5AEBC269C2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DBB1-3BC5-4BA1-9004-7563FE6D684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42C5-9D27-4FFD-8DAB-966BC2526BB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C10C-4EC0-432D-AF00-F120E74B53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CCA1-54A0-45CF-A213-870D8013DB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17A-3894-4E27-B2D1-6B665ED0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2F11-D6B4-4ACE-B1BA-DFC051E2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ACCD0-046A-48F2-86F5-362C5A8D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59E51-3772-448D-A2BF-85B7BD44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35E77-ABDC-4F4E-968F-D2D5ED21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FD474-D268-4222-8BE3-D89FEBBB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49DC1-E36A-49A2-A92F-BA29E244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91EBE-6F37-4FF8-BB92-FE685697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BE22A-F662-487C-A114-3D90F953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AB863-614F-4644-A338-5CD9C226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67F8F-AC14-4F41-92BC-7C626CCF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F08-E6DC-4E30-994F-21CF3D69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664-E450-4573-BF12-5F53C829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1627-F2A6-4936-A184-E42B99CE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0E57-9448-48A9-BE09-648AF3A3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18FE-2458-4EB2-8DAB-07CE784A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E22C-0A9E-45B7-B4C3-C55D0B34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CAAA-73EE-4C7A-A7E2-1AD0DE81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870E-CEE1-46DD-B630-E6C1E152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3091-56DA-446B-928A-4EC1CBD9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DAA-E467-4961-BEA7-B6614423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22F9-0376-4485-B20F-F0DA324C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69C5-8364-4996-A26C-CB5F1222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5070-943C-441D-894F-2DD3FAA9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1549-4E5B-45F8-83CA-AF521B71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0ABB-E65E-4BD9-87F0-1689E94D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78C99-752B-417B-A514-2ACE693C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8CD33-F8ED-4850-8863-E9162BC2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5A935-29C4-4FFA-A90C-3BBCBABB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6EA7A-41E3-4B3A-9B51-13993764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3DE11-D1B4-4EE7-A1D6-C5591E8D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A34-DBAB-4CEC-8AF3-17521132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56A10-D6FF-42A6-A9ED-42C261DC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4B1A5-DF21-4FCA-8CBF-F4D4ED9D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F8660-68C9-4116-9B26-C2008ACF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F485D-0EEF-4E21-AC35-1AB26483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926BE-FCF6-4EF1-A6D9-D6EDBA9A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78C97-80D5-4094-9FDB-A4E6AD52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D46EF-212A-4A2C-AFF3-4467EC5F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F265F-A273-443E-AF5A-2C5065AD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7F86C-EDB1-4A74-9787-2431E114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CDB19-920B-447C-9F88-7D8C227A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A79-0DAE-4010-9B02-09ABACE9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5A6F8-2B23-4154-91B4-2E82274E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3B759-AFCA-4E75-B983-2D6382B9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60EAE-21BF-480D-A476-7C34147B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2794B-F4A0-46CA-8BAF-9A713537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D9F59-CE7A-4C7C-9443-0875C71D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AFCC9-0E7C-49E3-841C-5E9EF30A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9EA59-5A7E-40A1-BA82-275828E8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C588B-4089-43E7-B030-2FFBE70C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7C64A-AB4C-4954-9737-20E6E799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15278-C56B-4FF9-9C45-0021466B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9CCF-199B-4CD4-BC0D-E4959E7F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97E17-E092-4599-B74D-F85D4662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87B09-D7AA-43E7-8C21-04D381D8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06B3C-CB20-4CA4-A32A-346EC1A9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10CCC-6F2A-41F7-B560-349CAA22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9C689-CB4A-476B-9AD3-8E048C0C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7D31F-1F57-40E5-A1BF-7BFA2748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24D6D-7B65-4F2B-9972-CB500091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F7884-21E5-4402-81FF-7E48953E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D96D6-A5CB-42B4-89A6-4511050D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990E0-5827-4574-9FD1-1CEF05DE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1E9-2AA9-4989-BCE9-BA896CAB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932F0-E68A-44C4-B6F8-A5016493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39654-1929-4334-B0F4-B520B668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5F15E-5495-469F-9ABC-0E88A06A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797BF-8467-4EBD-8258-95C5C90C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ECBF2-3CD1-4749-B6C6-1084597B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251F2-103E-41B2-AEC3-5BED7F52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07359-DEA1-4F77-BF59-52A1FC18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E741F-D729-49B7-98A3-D9BC15F2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17B5F-51B1-46A3-9310-E762E27D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524B4-750D-4A53-80BF-3A7EE4C5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DB3B-0D0C-4C2A-B3E9-0DFD9F2D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BCE9A-8C6E-4F34-A320-DA323D9C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998ED-19F7-4E0F-B0A9-5D5482B1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BCE8A-7319-4E92-9536-5CA20CB5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B46C6-F51D-41A2-B3E4-02AA17D2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724D3-8244-4804-9D1B-A0149344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A987D-E0F3-49B2-B6F1-6B18FFB6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F5B35-CFF0-401A-82C4-CFAF2635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CBD3B-5910-42EE-BD3F-09FC85D3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9E7D7-C903-408D-B38B-FE403FDD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C04B7-23BF-4FAC-AE04-35514852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3D72-E8FA-447A-8748-2CA85F89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D319E-5955-4973-8EB7-18A17F85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87CC9-89E1-4193-B61B-96CFC4E6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8AD28-B438-4B78-80AE-86592725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CFCB3-BF57-47AB-868F-87B132DB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3FE1F-165B-4E0E-AAEB-B9504D44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1A45A-8C3F-4724-9F70-BD54DF4E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7D4E7-02DD-4961-AE8E-B7891631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3F9C5-5E8E-4A4C-97BA-A100C739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A1C01-503D-45C5-A9A8-B0669D3F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715F5-AC20-4131-A359-CE33E3F8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1F74-B6CD-42DB-BC79-988A25FB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DD17C-1262-4664-9C66-582730D0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33630-6BAC-43D4-B409-56A2EB81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DF823-682E-49FD-9A85-7E0EF279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D48B3-ECBB-4EDE-B105-B7F8A0C8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5B6DA-A79F-4660-B79D-0CDD469D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1B3B2-41DA-4C63-9AA1-62009833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87B28-B5B4-4572-BB0C-D30393EF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3D281-90AB-4E08-8F59-51162FAC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3CB01-BAD4-4022-978E-D2DA6DBB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DC46A-F263-4606-8631-02F8B362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2941-2F54-4F56-9895-FBAE6CC50B8C}" type="datetime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FE25-34D8-4A7A-BBAE-C6453B7CE300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B04F-DC5C-4140-AC93-BA222B796F18}" type="datetime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1DD4-59CF-4D3E-A778-C96397C55E6A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2BC3-7EAA-4D47-8924-985F1D2EC43D}" type="datetime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7130-141E-43FA-A00F-CB8DC19D98D0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2697-8C30-4384-8F4A-AA8C819EE1D5}" type="datetime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13FE-339A-4A04-9338-FDBFF75E70C5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EAA6-11F6-4A2D-814D-D1B61C658E04}" type="datetime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0205-2C65-4C2A-99B0-AB9B566BBEF1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64C9-29B4-48A1-8A48-7F03DDDD121C}" type="datetime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C17E-D0BD-42A6-805B-7048240A1E9B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C475-FBAC-4EF3-A2A5-47EA90DCA131}" type="datetime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27D0-5475-4AA6-BF37-4A7955A96877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1DEC-4847-409D-91C5-A7E4C75F076D}" type="datetime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8A2B-D0AA-4704-B31A-95558C91A670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25B7-D07D-4900-82E5-1A80254CEFC0}" type="datetime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939E-6FE7-4AB7-9D8A-D0BA73D11F19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545"/>
                </a:solidFill>
                <a:latin typeface="Franklin Gothic Medium"/>
              </a:rPr>
              <a:t>IGMP and MLD Optimizations in Wireless and Mobile Networks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3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9D37-A1AE-4881-A5D9-EF9A7434F576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539640" y="3645000"/>
            <a:ext cx="806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3838"/>
                </a:solidFill>
                <a:latin typeface="Arial"/>
              </a:rPr>
              <a:t>draft-liu-multimob-igmp-mld-wireless-mobile-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468360" y="4724280"/>
            <a:ext cx="806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6868"/>
                </a:solidFill>
                <a:latin typeface="Arial"/>
              </a:rPr>
              <a:t>Liu Hui   Mike McB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54545"/>
                </a:solidFill>
                <a:latin typeface="Franklin Gothic Medium"/>
              </a:rPr>
              <a:t>Changes to ver-01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5771-6DFF-48B7-86B7-0A0106B77F5D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9640" y="1844280"/>
            <a:ext cx="8064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宋体"/>
              </a:rPr>
              <a:t>Complete the ‘Security Considerations’ sec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Delete ‘leaving the network without notification (sec.3.2) ’ and ‘moving out of range (sec. 3.3)’  as the reasons for additional queryi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Remove ‘prolonged interval method’ for not introducing big changes to protocol manner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Others be mostly editorial changes, including improving description and updating referenc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0920" y="6933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54545"/>
                </a:solidFill>
                <a:latin typeface="Franklin Gothic Medium"/>
              </a:rPr>
              <a:t>Aims 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755640" y="1773000"/>
            <a:ext cx="770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Optimize IGMP and MLD to meet wireless/mobile multicast network requirements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Adaptive to link condition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Minimizing group join/leave latenc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Robust to packet los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Reducing packet exchang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Avoiding packet burst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Limit the changes within the protocol framework without introducing interoperability issu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Possibly used in wired network where efficiency and robustness are require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E705-F1D3-4C87-A1FF-1E5FC55B8CAF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7640" y="765000"/>
            <a:ext cx="84358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54545"/>
                </a:solidFill>
                <a:latin typeface="Franklin Gothic Medium"/>
              </a:rPr>
              <a:t>Option List 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0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F5C3-30D5-48F7-85BE-48D698BD0242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611280" y="1844640"/>
            <a:ext cx="7848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Switching between unicast and multicast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General Query supplemented with unicast Qu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Retransmission of General Qu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General Query suppression with n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Tuning response delay according to link type/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Triggering report and query quickly during 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54545"/>
                </a:solidFill>
                <a:latin typeface="Franklin Gothic Medium"/>
              </a:rPr>
              <a:t>Switching Between Unicast and Multicast General Queries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3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7DFF-3DF4-4755-AABD-C1E4BB07800F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9640" y="1701720"/>
            <a:ext cx="80647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3232"/>
                </a:solidFill>
                <a:latin typeface="Arial"/>
                <a:ea typeface="Arial Unicode MS"/>
              </a:rPr>
              <a:t>Switch between unicast and multicast General Queries according to actual network conditions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Unicast query each receiver when number of receivers is small; multicast query all receivers when the number is larg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A switching threshold should be predefined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Explicit tracking is required to know the reception statu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3232"/>
                </a:solidFill>
                <a:latin typeface="Arial"/>
                <a:ea typeface="Arial Unicode MS"/>
              </a:rPr>
              <a:t>Benefits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Take advantages of both unicast and multicast Queries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Unicast Query has less effect on non-members and helps to improve battery-saving 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545"/>
                </a:solidFill>
                <a:latin typeface="Franklin Gothic Medium"/>
              </a:rPr>
              <a:t>General Query Supplemented with Unicast General Query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6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EC06-9795-4210-B2F1-514BCFC2F281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39640" y="1915920"/>
            <a:ext cx="8064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23232"/>
                </a:solidFill>
                <a:latin typeface="Arial"/>
                <a:ea typeface="Arial Unicode MS"/>
              </a:rPr>
              <a:t>Send unicast Query to each non-respondent valid receivers after a round of General Query, presumably the number of non-respondent receivers is small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23232"/>
                </a:solidFill>
                <a:latin typeface="Arial"/>
                <a:ea typeface="Arial Unicode MS"/>
              </a:rPr>
              <a:t>Triggered at the end of the [Maximum Response Delay] after General Query,  transmitted for [Last Member Query Count] times spaced by [Last Member Query Interval] 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23232"/>
                </a:solidFill>
                <a:latin typeface="Arial"/>
                <a:ea typeface="Arial Unicode MS"/>
              </a:rPr>
              <a:t>Require explicit tracking to track reception status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23232"/>
                </a:solidFill>
                <a:latin typeface="Arial"/>
                <a:ea typeface="Arial Unicode MS"/>
              </a:rPr>
              <a:t>Benefits: 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Arial"/>
                <a:ea typeface="Arial Unicode MS"/>
              </a:rPr>
              <a:t>Improve robustness without influencing other receiver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545"/>
                </a:solidFill>
                <a:latin typeface="Franklin Gothic Medium"/>
              </a:rPr>
              <a:t>Retransmission of General Query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08F4-4E49-4703-B183-EAE53F641FB7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9640" y="1917360"/>
            <a:ext cx="806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Arial"/>
                <a:ea typeface="Arial Unicode MS"/>
              </a:rPr>
              <a:t>If after a General Query no response can be collected from all valid receivers, for the reasons e.g.: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All valid receivers leave the group silent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All responses of the receivers happen to be lost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The query fails to reach the other side of link to the receivers</a:t>
            </a:r>
            <a:r>
              <a:rPr b="0" lang="en-US" sz="1900" spc="-1" strike="noStrike">
                <a:solidFill>
                  <a:srgbClr val="323232"/>
                </a:solidFill>
                <a:latin typeface="Arial"/>
                <a:ea typeface="Arial Unicode MS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Arial"/>
                <a:ea typeface="Arial Unicode MS"/>
              </a:rPr>
              <a:t>Retransmit General Queries for [Last Member Query Count] times spaced by [Last Member Query Interval] before </a:t>
            </a:r>
            <a:r>
              <a:rPr b="0" lang="en-US" sz="2200" spc="-1" strike="noStrike">
                <a:solidFill>
                  <a:srgbClr val="323232"/>
                </a:solidFill>
                <a:latin typeface="Arial"/>
                <a:ea typeface="宋体"/>
              </a:rPr>
              <a:t>deciding to stop General Query totally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Arial"/>
                <a:ea typeface="Arial Unicode MS"/>
              </a:rPr>
              <a:t>Require explicit tracking to acquire the reception statu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Arial"/>
                <a:ea typeface="Arial Unicode MS"/>
              </a:rPr>
              <a:t>Benefit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Improve robustness of General Query if there are valid member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Realize fast leave if all receivers quit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0360" y="620280"/>
            <a:ext cx="6191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545"/>
                </a:solidFill>
                <a:latin typeface="Franklin Gothic Medium"/>
              </a:rPr>
              <a:t>General Query Suppression with no Receiver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2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4386-6F4C-414E-AACD-89EAC87C4D7B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39640" y="1628280"/>
            <a:ext cx="806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Arial"/>
                <a:ea typeface="Arial Unicode MS"/>
              </a:rPr>
              <a:t>Suppress General Query if there is no valid multicast receiver on an interface: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Arial"/>
                <a:ea typeface="Arial Unicode MS"/>
              </a:rPr>
              <a:t>When the last member reports its leave,  by an explicit-tracking router checking its membership database, or by a non-explicit-tracking router getting no response after sending Group-(and-Source-) Specific Queries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Arial"/>
                <a:ea typeface="Arial Unicode MS"/>
              </a:rPr>
              <a:t>When the (only) member on a PTP link leaves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Arial"/>
                <a:ea typeface="Arial Unicode MS"/>
              </a:rPr>
              <a:t>When a router after retransmitting General Queries on startup fails to get any response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Arial"/>
                <a:ea typeface="Arial Unicode MS"/>
              </a:rPr>
              <a:t>When a router previously has valid members but fails to get any response after several rounds of General Queries.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Arial"/>
                <a:ea typeface="Arial Unicode MS"/>
              </a:rPr>
              <a:t>Benefit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Arial"/>
                <a:ea typeface="Arial Unicode MS"/>
              </a:rPr>
              <a:t>Eliminating unnecessary continuous General Queries has benefit for all terminal on the link for battery saving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545"/>
                </a:solidFill>
                <a:latin typeface="Franklin Gothic Medium"/>
              </a:rPr>
              <a:t>Tuning Response Delay according to link type and status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5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0164-814C-4277-8FAD-29D5517ADBC3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94920" y="1628280"/>
            <a:ext cx="80643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Tuning Maximum Response Delay according to link type and status, according to the expected number of responders, and link type/status: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Arial"/>
                <a:ea typeface="Arial Unicode MS"/>
              </a:rPr>
              <a:t>If the expected number of reporters is large and/or the link condition is bad, select larger [Maximum Response Delay] 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Arial"/>
                <a:ea typeface="Arial Unicode MS"/>
              </a:rPr>
              <a:t>If the expected number of reporters is small and/or the link condition is good, select smaller Delay 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Arial"/>
                <a:ea typeface="Arial Unicode MS"/>
              </a:rPr>
              <a:t>If link mode is PTP, choose smaller Delay; or if link mode is PTMP or broadcast, configure larger Delay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By making balance between reducing message burst and leave latency to improve overall protocol performanc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545"/>
                </a:solidFill>
                <a:latin typeface="Franklin Gothic Medium"/>
              </a:rPr>
              <a:t>Triggering Reports and Queries</a:t>
            </a:r>
            <a:br>
              <a:rPr sz="3200"/>
            </a:br>
            <a:r>
              <a:rPr b="0" lang="en-US" sz="3200" spc="-1" strike="noStrike">
                <a:solidFill>
                  <a:srgbClr val="454545"/>
                </a:solidFill>
                <a:latin typeface="Franklin Gothic Medium"/>
              </a:rPr>
              <a:t>during handover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8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E91D-F324-4C48-A62F-62BED369FE35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39640" y="1844280"/>
            <a:ext cx="806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Access router triggers a multicast or unicast General Query as soon as it detects a new terminal on its lin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Terminal triggers a Report as soon as it detects its connection to a new network, if it is just in multicast reception stat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Arial"/>
                <a:ea typeface="Arial Unicode MS"/>
              </a:rPr>
              <a:t>Enable new access network acquire terminal’s membership and deliver the content quickly, to help reducing disruption or performance deterioration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2:50:21Z</dcterms:created>
  <dc:creator>Liu Hui</dc:creator>
  <dc:description/>
  <dc:language>en-US</dc:language>
  <cp:lastModifiedBy>m00904492</cp:lastModifiedBy>
  <dcterms:modified xsi:type="dcterms:W3CDTF">2012-07-30T05:48:36Z</dcterms:modified>
  <cp:revision>409</cp:revision>
  <dc:subject/>
  <dc:title>IGMPv3/MLDv2 Li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Oidn1JKDC9VHRcdfiZdtOTRL6/xwtu/bZjqiTp/+QMxNMP2X1d2n94Wo57ubOrCj5tkmrsWd
K9YDZk0341nbbKbRlfoeC1NNJjUZAxHxiwGJFPeoGz20/KKFp837jPefliJxuiuUFqmqtJF+
015PLBOvhfeBiHEoTvFWECJEHNeIDI525F1gwt1uZUzVl8Dj63jXg6Nk5ROTBRu8EQMi8FR0
6pAtyg5FFzQdy78lhJ</vt:lpwstr>
  </property>
  <property fmtid="{D5CDD505-2E9C-101B-9397-08002B2CF9AE}" pid="3" name="_ms_pID_7253431">
    <vt:lpwstr>gOHpSCCkCcN8W74jDY7AbAuf2guE2UAiHMRYy9DRhbfB00MLiSuBo0
xQ2TO8yzkJ/2jGtyrTK+XFuYZNxx1zbyCTM8m1UzqBwyjdx9jqQm6lB0gPGUy7HH3kkgDHiS
mmrETtX3/jOqDUcisn1EGIUOYFmz2LL/75zdI8eFKuFVRNgIaQIaGjaarc0u+saXlpeuc6KI
5gRwW0prxdwUJY7Y</vt:lpwstr>
  </property>
  <property fmtid="{D5CDD505-2E9C-101B-9397-08002B2CF9AE}" pid="4" name="sflag">
    <vt:lpwstr>1343061893</vt:lpwstr>
  </property>
</Properties>
</file>