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move the slide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3EC06-39E6-4C28-A4C8-9C0B6D1B8E17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5A307-02BA-42F7-A87E-72DA63E8B44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05129-CA35-4981-BA62-40D131EC710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07812-174B-448D-A25D-01D7D851880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AFE01-F088-4AFE-911D-99CF407212B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D5FC0-62C0-4D4B-982F-EC3CB183483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385DC-7910-4A68-BFC4-81E16423575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64C97-95CD-4AE1-BA12-F76E3AFC571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6A41F-5416-481C-9B55-0E768C418C9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00735-875B-4136-ABD2-84B2EB779B6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6E8FE-DF5B-4144-8F90-6435C9B6328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AE07-A31A-4D28-88BD-62A13927D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CCBE-4F47-4E2C-A47C-C99EEB363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59DED7-F716-4A77-BBAF-7F304EA05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EA7607-F9B0-4176-B565-B0A9C5894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FFC64F-3427-4443-91E0-D97484FC4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B679AB-3808-4A3A-9912-D8017936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1B01B5-1B76-40B8-963A-5D9CBC3B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CB0FED-21B6-44B8-BF3E-78BE9DB2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1336A1-9AAA-48CA-95DA-B669AD779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43B206-C4EE-463B-B39C-1CDB2614C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C486D7-365F-478D-A96B-9CFA5DC15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EB47-B330-486C-A5E3-08D5D5033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360F-CF63-411A-99CE-F4978F137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410DB-7ED2-4971-896C-80B59EC26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1BA3C-7F11-4DC9-865B-A5184DB7B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7FB4E-235B-4C93-BF22-449726885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A60C0-5E3A-4845-81A6-F342EDEF9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C5897-7533-4EEA-A726-B527E2441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A7CA5-01AB-48FC-9C86-C992FF4B8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05EF5-47B5-4C5F-9E56-8DBAF880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EC96-EDC1-4A7E-A8A2-A971923CA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3C2BD-8B32-4AA1-9C10-2B5851F9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F24CC-91D1-44CA-87CE-F39866A2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0ED22-6AD6-48B2-B2B8-841BF0843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1DAB6-C85A-4384-A47E-D36AD0711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C338F-B419-42C7-80AC-56074A56E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7C052-6F50-4D08-994A-780BCECBE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AD82B-3CD3-45EF-8F90-2072AAE82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A436F-84CA-4274-B1FC-A2B9350A7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26D3D-3CE4-46E8-BE77-68080C684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EB81C-1B45-4ADD-81ED-7791F6E98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3132-EF77-48A2-A7ED-BC65841E7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0C3E6-3DD3-4A1F-A22A-6BB12DE29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38A80-D41E-4B59-B6FD-2CB4CD5C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DA6DE-9DFC-49D4-A8C6-049F09D5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A5777-03FB-4FC8-8770-4FE1E08D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11212-F401-477D-ACBA-8F7742A38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8FE52-3C20-4121-A7D4-8AD272FA5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48D91-C418-4F13-9E14-9971D2261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6E5A3-8B98-4B9C-9F02-A90539682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69207-0657-4F7D-92F2-CE34CB157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9943C-A19A-4232-97D6-6F562DEC9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A61A-A932-439D-9422-D2178EE15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E08D7-F1D9-47D7-AE73-77F003F50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2BF28-B076-47C8-814D-F94AB2FEA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16CD7-72EC-4CCF-B646-477C8B12E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1F5D0-3BB5-460A-BA21-883A8D4B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7755C-EF39-496C-805A-B44D36FA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1F694-7C2B-478B-9E4B-0BCA4E42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8BE1C-7D01-4FDE-B49F-8BD97B658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15398-3E23-4EE0-B404-2FF459E1F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23FEA-629E-4999-B47B-7792749D5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7F029-F01F-4065-9397-C5A1AE447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F1CF-909E-49B7-BDAE-68995C987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18F02-E718-4F9C-A9A0-354CB5171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F1C02-7C6E-4001-9951-C997FE093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33644-CB95-4478-BA11-030F40F88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0E69B-FC45-48FE-9124-12571C979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7B734-3E50-4CC8-9565-41D80F69D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E6D4C-3530-417C-8F5B-34D28D36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EE30A-963C-43ED-AC71-ED9E45A0D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B9111-8B71-4A1F-9419-FD668BCF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BD781-38ED-4327-AC43-ED7DAA5DF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E94F3-D966-4951-AFD1-ECA0C8F86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D3A0-77DC-439D-AD72-EAB957BEB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3FE34-F3CD-4B00-84B0-DC742EA12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9369D8-3A0D-4EB1-9931-5093C4297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4E07A-3F38-461F-ADD3-B15DC1099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3155C-2270-4734-9AAD-55565AE9F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08B1D9-2CF0-4A39-8390-E4233C30B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689A83-9E9A-40E0-8F11-C534FBE68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BADA6-E9F7-4EB1-A6F7-1DC98D334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AA516-3688-4DF8-8486-CC696E86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41A78-1A8B-4F24-AE1E-02C94C90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195C2-D2A5-4AF3-8E3E-4757EAC8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93A3-9164-4E86-B458-BC211F01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2DFBE-E431-4DDD-8FAA-1ACFA1018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3F443-0744-4708-8295-26D9EBB46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B5D7CE-13E4-46D3-989E-7DC3435A2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769B0A-4E26-49AA-9CD0-CFAE3E2AD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D59B1-1FFF-4C58-A7C1-A6A2F3A16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A0EBE-B4BD-4540-AC8A-0C35DD36D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324168-9D16-451E-B336-3BFA27D52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CA7B62-E5D8-4090-A3BE-705729D1D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4480C-31C0-406E-A767-D16141AE6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2B6C92-2265-4AD4-A2B0-603AC8AF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8C31-54C2-4BEA-80D4-5DB501F8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70B110-D4A6-4326-927D-A1F4CC31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B47F9F-741A-40A5-8497-5E7668BB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5E734-5053-4736-850E-59BA93A2F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723941-9664-42D6-A329-9C3FA3F5A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AA6FB2-A4AE-4AC2-BCE3-ECEA19B74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B8AF22-E8B6-4ADC-AE2F-6155F178D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70F598-B569-4C77-B8F2-4BB9E7F9A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48BE0B-47A7-4D22-9F4F-1E8E275B2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D2FDB8-BC7C-446B-8DD1-017EFF2E1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FE7357-8343-428F-81EA-B154D7B82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A934-0798-4DC1-9C00-F65AB166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B9B2B2-23D0-4500-BF3B-CB8877338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DD1B9F-C81D-49A4-96BF-855172C3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85097C-9692-405F-9CE8-A30B5DE8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146974-F2A6-4C11-816B-80C0154D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76DC13-08C9-4150-9F08-6A4175411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4CB726-42B4-4FB1-B18C-B9C4FA4C1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A8CE19-E76C-4267-952E-02FAC05F4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3315F7-E0B3-4441-8C3E-C8DE05B5B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C982A3-5994-4800-9A8D-8774467F4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DD70D0-711C-4B7C-A3F4-97270905F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06DDF-E682-41BA-93DD-63D07370BE9E}" type="datetime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EDFC8-5AB1-4FC1-8B3F-B275B11AB70C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685800" y="3197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157F3-08E0-4D8B-AB2D-24878E035BCF}" type="datetime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CD733-F87C-41D4-922D-1BE8A8FE5940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7308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5A9EF-1472-4E53-BFE1-1E704FBA56C3}" type="datetime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5330880" y="6400440"/>
            <a:ext cx="37339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48CD9-B94B-4A31-AB9A-5705FF4D4E06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8"/>
          <p:cNvSpPr/>
          <p:nvPr/>
        </p:nvSpPr>
        <p:spPr>
          <a:xfrm>
            <a:off x="685800" y="3143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3EBA4-8C3C-47EB-AE81-F9C911E874C8}" type="datetime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8256E-0B3C-4467-BE4A-9FAB01CB7A51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67886-20EF-457E-B907-4617686CE159}" type="datetime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88815-5D0B-44F2-8B4A-F53C94264201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6B77F-BBEF-4915-A907-B92BD535D9FF}" type="datetime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0D802-F9B9-43C5-9991-42C445E3B4AB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C337C-171A-4921-8A20-1D3AA907E0AB}" type="datetime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C7C5E-E16C-4810-8D69-82FE0042791D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8"/>
          <p:cNvSpPr/>
          <p:nvPr/>
        </p:nvSpPr>
        <p:spPr>
          <a:xfrm>
            <a:off x="2786040" y="1054080"/>
            <a:ext cx="59040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22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07104-CAE4-4DBA-9BA5-227532B3818B}" type="datetime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3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4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C814B-0C0B-422D-A22D-1AAA3FC08B19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5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2868-1CB8-45BB-8F26-8B4CAE79ADCE}" type="datetime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6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7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B8072-C732-43E3-94DD-DFAD78EFA615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545"/>
                </a:solidFill>
                <a:latin typeface="Franklin Gothic Medium"/>
              </a:rPr>
              <a:t>IGMP and MLD Optimizations in Wireless and Mobile Networks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3" name="灯片编号占位符 5"/>
          <p:cNvSpPr/>
          <p:nvPr/>
        </p:nvSpPr>
        <p:spPr>
          <a:xfrm>
            <a:off x="4114800" y="6400800"/>
            <a:ext cx="914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D239C-8B64-41F8-AE0A-3C268D5D3FE5}" type="slidenum">
              <a:rPr b="0" lang="en-US" sz="1100" spc="-1" strike="noStrike">
                <a:solidFill>
                  <a:srgbClr val="636363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6"/>
          <p:cNvSpPr/>
          <p:nvPr/>
        </p:nvSpPr>
        <p:spPr>
          <a:xfrm>
            <a:off x="539640" y="3645000"/>
            <a:ext cx="8064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83838"/>
                </a:solidFill>
                <a:latin typeface="Arial"/>
              </a:rPr>
              <a:t>draft-liu-multimob-igmp-mld-wireless-mobile-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6"/>
          <p:cNvSpPr/>
          <p:nvPr/>
        </p:nvSpPr>
        <p:spPr>
          <a:xfrm>
            <a:off x="468360" y="4724280"/>
            <a:ext cx="8064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6868"/>
                </a:solidFill>
                <a:latin typeface="Arial"/>
              </a:rPr>
              <a:t>Liu Hui   Mike McB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54545"/>
                </a:solidFill>
                <a:latin typeface="Franklin Gothic Medium"/>
              </a:rPr>
              <a:t>Changes to ver-01</a:t>
            </a:r>
            <a:endParaRPr b="0" lang="en-US" sz="36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31" name="灯片编号占位符 5"/>
          <p:cNvSpPr/>
          <p:nvPr/>
        </p:nvSpPr>
        <p:spPr>
          <a:xfrm>
            <a:off x="4114800" y="6400800"/>
            <a:ext cx="914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62527-62DF-4E09-AF6B-67AC89BFEF77}" type="slidenum">
              <a:rPr b="0" lang="en-US" sz="1100" spc="-1" strike="noStrike">
                <a:solidFill>
                  <a:srgbClr val="636363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9640" y="1844280"/>
            <a:ext cx="806472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3232"/>
                </a:solidFill>
                <a:latin typeface="Arial"/>
                <a:ea typeface="宋体"/>
              </a:rPr>
              <a:t>Complete the ‘Security Considerations’ sectio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3232"/>
                </a:solidFill>
                <a:latin typeface="Arial"/>
                <a:ea typeface="Arial Unicode MS"/>
              </a:rPr>
              <a:t>Delete ‘leaving the network without notification (sec.3.2) ’ and ‘moving out of range (sec. 3.3)’  as the reasons for additional querying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3232"/>
                </a:solidFill>
                <a:latin typeface="Arial"/>
                <a:ea typeface="Arial Unicode MS"/>
              </a:rPr>
              <a:t>Remove ‘prolonged interval method’ for not introducing big changes to protocol manner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3232"/>
                </a:solidFill>
                <a:latin typeface="Arial"/>
                <a:ea typeface="Arial Unicode MS"/>
              </a:rPr>
              <a:t>Others be mostly editorial changes, including improving description and updating reference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10920" y="6933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54545"/>
                </a:solidFill>
                <a:latin typeface="Franklin Gothic Medium"/>
              </a:rPr>
              <a:t>Aims </a:t>
            </a:r>
            <a:endParaRPr b="0" lang="en-US" sz="36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755640" y="1773000"/>
            <a:ext cx="7704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3232"/>
                </a:solidFill>
                <a:latin typeface="Arial"/>
                <a:ea typeface="Arial Unicode MS"/>
              </a:rPr>
              <a:t>Optimize IGMP and MLD to meet wireless/mobile multicast network requirements: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Arial"/>
                <a:ea typeface="Arial Unicode MS"/>
              </a:rPr>
              <a:t>Adaptive to link conditions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Arial"/>
                <a:ea typeface="Arial Unicode MS"/>
              </a:rPr>
              <a:t>Minimizing group join/leave latency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Arial"/>
                <a:ea typeface="Arial Unicode MS"/>
              </a:rPr>
              <a:t>Robust to packet loss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Arial"/>
                <a:ea typeface="Arial Unicode MS"/>
              </a:rPr>
              <a:t>Reducing packet exchange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Arial"/>
                <a:ea typeface="Arial Unicode MS"/>
              </a:rPr>
              <a:t>Avoiding packet burst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3232"/>
                </a:solidFill>
                <a:latin typeface="Arial"/>
                <a:ea typeface="Arial Unicode MS"/>
              </a:rPr>
              <a:t>Limit the changes within the protocol framework without introducing interoperability issue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3232"/>
                </a:solidFill>
                <a:latin typeface="Arial"/>
                <a:ea typeface="Arial Unicode MS"/>
              </a:rPr>
              <a:t>Possibly used in wired network where efficiency and robustness are required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8" name="灯片编号占位符 5"/>
          <p:cNvSpPr/>
          <p:nvPr/>
        </p:nvSpPr>
        <p:spPr>
          <a:xfrm>
            <a:off x="4114800" y="6400800"/>
            <a:ext cx="914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6EC00-0D09-4912-9C7A-B9EFE99AE698}" type="slidenum">
              <a:rPr b="0" lang="en-US" sz="1100" spc="-1" strike="noStrike">
                <a:solidFill>
                  <a:srgbClr val="636363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07640" y="765000"/>
            <a:ext cx="843588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54545"/>
                </a:solidFill>
                <a:latin typeface="Franklin Gothic Medium"/>
              </a:rPr>
              <a:t>Option List </a:t>
            </a:r>
            <a:endParaRPr b="0" lang="en-US" sz="36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0" name="灯片编号占位符 5"/>
          <p:cNvSpPr/>
          <p:nvPr/>
        </p:nvSpPr>
        <p:spPr>
          <a:xfrm>
            <a:off x="4114800" y="6400800"/>
            <a:ext cx="914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8519B-83FA-4980-B782-1CFAC6919EDA}" type="slidenum">
              <a:rPr b="0" lang="en-US" sz="1100" spc="-1" strike="noStrike">
                <a:solidFill>
                  <a:srgbClr val="636363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5"/>
          <p:cNvSpPr/>
          <p:nvPr/>
        </p:nvSpPr>
        <p:spPr>
          <a:xfrm>
            <a:off x="611280" y="1844640"/>
            <a:ext cx="784836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3232"/>
                </a:solidFill>
                <a:latin typeface="Arial"/>
                <a:ea typeface="Arial Unicode MS"/>
              </a:rPr>
              <a:t>Switching between unicast and multicast Qu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3232"/>
                </a:solidFill>
                <a:latin typeface="Arial"/>
                <a:ea typeface="Arial Unicode MS"/>
              </a:rPr>
              <a:t>General Query supplemented with unicast Que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3232"/>
                </a:solidFill>
                <a:latin typeface="Arial"/>
                <a:ea typeface="Arial Unicode MS"/>
              </a:rPr>
              <a:t>Retransmission of General Que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3232"/>
                </a:solidFill>
                <a:latin typeface="Arial"/>
                <a:ea typeface="Arial Unicode MS"/>
              </a:rPr>
              <a:t>General Query suppression with no rece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3232"/>
                </a:solidFill>
                <a:latin typeface="Arial"/>
                <a:ea typeface="Arial Unicode MS"/>
              </a:rPr>
              <a:t>Tuning response delay according to link type/sta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3232"/>
                </a:solidFill>
                <a:latin typeface="Arial"/>
                <a:ea typeface="Arial Unicode MS"/>
              </a:rPr>
              <a:t>Triggering report and query quickly during hand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10920" y="62028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54545"/>
                </a:solidFill>
                <a:latin typeface="Franklin Gothic Medium"/>
              </a:rPr>
              <a:t>Switching Between Unicast and Multicast General Queries</a:t>
            </a:r>
            <a:endParaRPr b="0" lang="en-US" sz="36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3" name="灯片编号占位符 5"/>
          <p:cNvSpPr/>
          <p:nvPr/>
        </p:nvSpPr>
        <p:spPr>
          <a:xfrm>
            <a:off x="4114800" y="6400800"/>
            <a:ext cx="914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8C792-2AD0-4C9F-847D-DEDCE425096F}" type="slidenum">
              <a:rPr b="0" lang="en-US" sz="1100" spc="-1" strike="noStrike">
                <a:solidFill>
                  <a:srgbClr val="636363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9640" y="1701720"/>
            <a:ext cx="80647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3232"/>
                </a:solidFill>
                <a:latin typeface="Arial"/>
                <a:ea typeface="Arial Unicode MS"/>
              </a:rPr>
              <a:t>Switch between unicast and multicast General Queries according to actual network conditions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Arial"/>
                <a:ea typeface="Arial Unicode MS"/>
              </a:rPr>
              <a:t>Unicast query each receiver when number of receivers is small; multicast query all receivers when the number is large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Arial"/>
                <a:ea typeface="Arial Unicode MS"/>
              </a:rPr>
              <a:t>A switching threshold should be predefined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Arial"/>
                <a:ea typeface="Arial Unicode MS"/>
              </a:rPr>
              <a:t>Explicit tracking is required to know the reception status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3232"/>
                </a:solidFill>
                <a:latin typeface="Arial"/>
                <a:ea typeface="Arial Unicode MS"/>
              </a:rPr>
              <a:t>Benefits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Arial"/>
                <a:ea typeface="Arial Unicode MS"/>
              </a:rPr>
              <a:t>Take advantages of both unicast and multicast Queries 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Arial"/>
                <a:ea typeface="Arial Unicode MS"/>
              </a:rPr>
              <a:t>Unicast Query has less effect on non-members and helps to improve battery-saving  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10920" y="62028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545"/>
                </a:solidFill>
                <a:latin typeface="Franklin Gothic Medium"/>
              </a:rPr>
              <a:t>General Query Supplemented with Unicast General Query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6" name="灯片编号占位符 5"/>
          <p:cNvSpPr/>
          <p:nvPr/>
        </p:nvSpPr>
        <p:spPr>
          <a:xfrm>
            <a:off x="4114800" y="6400800"/>
            <a:ext cx="914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D48D7-B8B0-4435-BF48-2205CEB5C7DB}" type="slidenum">
              <a:rPr b="0" lang="en-US" sz="1100" spc="-1" strike="noStrike">
                <a:solidFill>
                  <a:srgbClr val="636363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539640" y="1915920"/>
            <a:ext cx="806472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575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23232"/>
                </a:solidFill>
                <a:latin typeface="Arial"/>
                <a:ea typeface="Arial Unicode MS"/>
              </a:rPr>
              <a:t>Send unicast Query to each non-respondent valid receivers after a round of General Query, presumably the number of non-respondent receivers is small</a:t>
            </a:r>
            <a:endParaRPr b="0" lang="en-US" sz="23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10000"/>
              </a:lnSpc>
              <a:spcBef>
                <a:spcPts val="575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23232"/>
                </a:solidFill>
                <a:latin typeface="Arial"/>
                <a:ea typeface="Arial Unicode MS"/>
              </a:rPr>
              <a:t>Triggered at the end of the [Maximum Response Delay] after General Query,  transmitted for [Last Member Query Count] times spaced by [Last Member Query Interval] </a:t>
            </a:r>
            <a:endParaRPr b="0" lang="en-US" sz="23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10000"/>
              </a:lnSpc>
              <a:spcBef>
                <a:spcPts val="575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23232"/>
                </a:solidFill>
                <a:latin typeface="Arial"/>
                <a:ea typeface="Arial Unicode MS"/>
              </a:rPr>
              <a:t>Require explicit tracking to track reception status</a:t>
            </a:r>
            <a:endParaRPr b="0" lang="en-US" sz="23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23232"/>
                </a:solidFill>
                <a:latin typeface="Arial"/>
                <a:ea typeface="Arial Unicode MS"/>
              </a:rPr>
              <a:t>Benefits: </a:t>
            </a:r>
            <a:endParaRPr b="0" lang="en-US" sz="23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23232"/>
                </a:solidFill>
                <a:latin typeface="Arial"/>
                <a:ea typeface="Arial Unicode MS"/>
              </a:rPr>
              <a:t>Improve robustness without influencing other receivers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4000" y="62028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545"/>
                </a:solidFill>
                <a:latin typeface="Franklin Gothic Medium"/>
              </a:rPr>
              <a:t>Retransmission of General Query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9" name="灯片编号占位符 5"/>
          <p:cNvSpPr/>
          <p:nvPr/>
        </p:nvSpPr>
        <p:spPr>
          <a:xfrm>
            <a:off x="4114800" y="6400800"/>
            <a:ext cx="914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4E5D5-6829-4913-89EB-6E925AE93A0F}" type="slidenum">
              <a:rPr b="0" lang="en-US" sz="1100" spc="-1" strike="noStrike">
                <a:solidFill>
                  <a:srgbClr val="636363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9640" y="1917360"/>
            <a:ext cx="80647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23232"/>
                </a:solidFill>
                <a:latin typeface="Arial"/>
                <a:ea typeface="Arial Unicode MS"/>
              </a:rPr>
              <a:t>If after a General Query no response can be collected from all valid receivers, for the reasons e.g.: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Arial"/>
                <a:ea typeface="Arial Unicode MS"/>
              </a:rPr>
              <a:t>All valid receivers leave the group silently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Arial"/>
                <a:ea typeface="Arial Unicode MS"/>
              </a:rPr>
              <a:t>All responses of the receivers happen to be lost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Arial"/>
                <a:ea typeface="Arial Unicode MS"/>
              </a:rPr>
              <a:t>The query fails to reach the other side of link to the receivers</a:t>
            </a:r>
            <a:r>
              <a:rPr b="0" lang="en-US" sz="1900" spc="-1" strike="noStrike">
                <a:solidFill>
                  <a:srgbClr val="323232"/>
                </a:solidFill>
                <a:latin typeface="Arial"/>
                <a:ea typeface="Arial Unicode MS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23232"/>
                </a:solidFill>
                <a:latin typeface="Arial"/>
                <a:ea typeface="Arial Unicode MS"/>
              </a:rPr>
              <a:t>Retransmit General Queries for [Last Member Query Count] times spaced by [Last Member Query Interval] before </a:t>
            </a:r>
            <a:r>
              <a:rPr b="0" lang="en-US" sz="2200" spc="-1" strike="noStrike">
                <a:solidFill>
                  <a:srgbClr val="323232"/>
                </a:solidFill>
                <a:latin typeface="Arial"/>
                <a:ea typeface="宋体"/>
              </a:rPr>
              <a:t>deciding to stop General Query totally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23232"/>
                </a:solidFill>
                <a:latin typeface="Arial"/>
                <a:ea typeface="Arial Unicode MS"/>
              </a:rPr>
              <a:t>Require explicit tracking to acquire the reception status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23232"/>
                </a:solidFill>
                <a:latin typeface="Arial"/>
                <a:ea typeface="Arial Unicode MS"/>
              </a:rPr>
              <a:t>Benefits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Arial"/>
                <a:ea typeface="Arial Unicode MS"/>
              </a:rPr>
              <a:t>Improve robustness of General Query if there are valid members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Arial"/>
                <a:ea typeface="Arial Unicode MS"/>
              </a:rPr>
              <a:t>Realize fast leave if all receivers quit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260360" y="620280"/>
            <a:ext cx="61912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545"/>
                </a:solidFill>
                <a:latin typeface="Franklin Gothic Medium"/>
              </a:rPr>
              <a:t>General Query Suppression with no Receiver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2" name="灯片编号占位符 5"/>
          <p:cNvSpPr/>
          <p:nvPr/>
        </p:nvSpPr>
        <p:spPr>
          <a:xfrm>
            <a:off x="4114800" y="6400800"/>
            <a:ext cx="914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0C25E-AB82-4BDD-B72E-EEB791E9D927}" type="slidenum">
              <a:rPr b="0" lang="en-US" sz="1100" spc="-1" strike="noStrike">
                <a:solidFill>
                  <a:srgbClr val="636363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539640" y="1628280"/>
            <a:ext cx="8064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23232"/>
                </a:solidFill>
                <a:latin typeface="Arial"/>
                <a:ea typeface="Arial Unicode MS"/>
              </a:rPr>
              <a:t>Suppress General Query if there is no valid multicast receiver on an interface: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23232"/>
                </a:solidFill>
                <a:latin typeface="Arial"/>
                <a:ea typeface="Arial Unicode MS"/>
              </a:rPr>
              <a:t>When the last member reports its leave,  by an explicit-tracking router checking its membership database, or by a non-explicit-tracking router getting no response after sending Group-(and-Source-) Specific Queries</a:t>
            </a:r>
            <a:endParaRPr b="0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23232"/>
                </a:solidFill>
                <a:latin typeface="Arial"/>
                <a:ea typeface="Arial Unicode MS"/>
              </a:rPr>
              <a:t>When the (only) member on a PTP link leaves</a:t>
            </a:r>
            <a:endParaRPr b="0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23232"/>
                </a:solidFill>
                <a:latin typeface="Arial"/>
                <a:ea typeface="Arial Unicode MS"/>
              </a:rPr>
              <a:t>When a router after retransmitting General Queries on startup fails to get any response</a:t>
            </a:r>
            <a:endParaRPr b="0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23232"/>
                </a:solidFill>
                <a:latin typeface="Arial"/>
                <a:ea typeface="Arial Unicode MS"/>
              </a:rPr>
              <a:t>When a router previously has valid members but fails to get any response after several rounds of General Queries.</a:t>
            </a:r>
            <a:endParaRPr b="0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23232"/>
                </a:solidFill>
                <a:latin typeface="Arial"/>
                <a:ea typeface="Arial Unicode MS"/>
              </a:rPr>
              <a:t>Benefits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23232"/>
                </a:solidFill>
                <a:latin typeface="Arial"/>
                <a:ea typeface="Arial Unicode MS"/>
              </a:rPr>
              <a:t>Eliminating unnecessary continuous General Queries has benefit for all terminal on the link for battery saving</a:t>
            </a:r>
            <a:endParaRPr b="0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10920" y="62028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545"/>
                </a:solidFill>
                <a:latin typeface="Franklin Gothic Medium"/>
              </a:rPr>
              <a:t>Tuning Response Delay according to link type and status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5" name="灯片编号占位符 5"/>
          <p:cNvSpPr/>
          <p:nvPr/>
        </p:nvSpPr>
        <p:spPr>
          <a:xfrm>
            <a:off x="4114800" y="6400800"/>
            <a:ext cx="914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270E4-BC7A-4C75-8495-98CB9AD8D730}" type="slidenum">
              <a:rPr b="0" lang="en-US" sz="1100" spc="-1" strike="noStrike">
                <a:solidFill>
                  <a:srgbClr val="636363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94920" y="1628280"/>
            <a:ext cx="806436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3232"/>
                </a:solidFill>
                <a:latin typeface="Arial"/>
                <a:ea typeface="Arial Unicode MS"/>
              </a:rPr>
              <a:t>Tuning Maximum Response Delay according to link type and status, according to the expected number of responders, and link type/status: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23232"/>
                </a:solidFill>
                <a:latin typeface="Arial"/>
                <a:ea typeface="Arial Unicode MS"/>
              </a:rPr>
              <a:t>If the expected number of reporters is large and/or the link condition is bad, select larger [Maximum Response Delay] </a:t>
            </a:r>
            <a:endParaRPr b="0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23232"/>
                </a:solidFill>
                <a:latin typeface="Arial"/>
                <a:ea typeface="Arial Unicode MS"/>
              </a:rPr>
              <a:t>If the expected number of reporters is small and/or the link condition is good, select smaller Delay </a:t>
            </a:r>
            <a:endParaRPr b="0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23232"/>
                </a:solidFill>
                <a:latin typeface="Arial"/>
                <a:ea typeface="Arial Unicode MS"/>
              </a:rPr>
              <a:t>If link mode is PTP, choose smaller Delay; or if link mode is PTMP or broadcast, configure larger Delay</a:t>
            </a:r>
            <a:endParaRPr b="0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3232"/>
                </a:solidFill>
                <a:latin typeface="Arial"/>
                <a:ea typeface="Arial Unicode MS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Arial"/>
                <a:ea typeface="Arial Unicode MS"/>
              </a:rPr>
              <a:t>By making balance between reducing message burst and leave latency to improve overall protocol performance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10920" y="62028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545"/>
                </a:solidFill>
                <a:latin typeface="Franklin Gothic Medium"/>
              </a:rPr>
              <a:t>Triggering Reports and Queries</a:t>
            </a:r>
            <a:br>
              <a:rPr sz="3200"/>
            </a:br>
            <a:r>
              <a:rPr b="0" lang="en-US" sz="3200" spc="-1" strike="noStrike">
                <a:solidFill>
                  <a:srgbClr val="454545"/>
                </a:solidFill>
                <a:latin typeface="Franklin Gothic Medium"/>
              </a:rPr>
              <a:t>during handover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8" name="灯片编号占位符 5"/>
          <p:cNvSpPr/>
          <p:nvPr/>
        </p:nvSpPr>
        <p:spPr>
          <a:xfrm>
            <a:off x="4114800" y="6400800"/>
            <a:ext cx="914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24724-4CB9-4B4F-B800-7FFAEC34A24A}" type="slidenum">
              <a:rPr b="0" lang="en-US" sz="1100" spc="-1" strike="noStrike">
                <a:solidFill>
                  <a:srgbClr val="636363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539640" y="1844280"/>
            <a:ext cx="80647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3232"/>
                </a:solidFill>
                <a:latin typeface="Arial"/>
                <a:ea typeface="Arial Unicode MS"/>
              </a:rPr>
              <a:t>Access router triggers a multicast or unicast General Query as soon as it detects a new terminal on its link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3232"/>
                </a:solidFill>
                <a:latin typeface="Arial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3232"/>
                </a:solidFill>
                <a:latin typeface="Arial"/>
                <a:ea typeface="Arial Unicode MS"/>
              </a:rPr>
              <a:t>Terminal triggers a Report as soon as it detects its connection to a new network, if it is just in multicast reception stat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3232"/>
                </a:solidFill>
                <a:latin typeface="Arial"/>
                <a:ea typeface="Arial Unicode MS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23232"/>
                </a:solidFill>
                <a:latin typeface="Arial"/>
                <a:ea typeface="Arial Unicode MS"/>
              </a:rPr>
              <a:t>Enable new access network acquire terminal’s membership and deliver the content quickly, to help reducing disruption or performance deterioration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35480" indent="-2829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3T02:50:21Z</dcterms:created>
  <dc:creator>Liu Hui</dc:creator>
  <dc:description/>
  <dc:language>en-US</dc:language>
  <cp:lastModifiedBy>m00904492</cp:lastModifiedBy>
  <dcterms:modified xsi:type="dcterms:W3CDTF">2012-07-30T05:48:36Z</dcterms:modified>
  <cp:revision>409</cp:revision>
  <dc:subject/>
  <dc:title>IGMPv3/MLDv2 Li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s_pID_725343">
    <vt:lpwstr>(2)Oidn1JKDC9VHRcdfiZdtOTRL6/xwtu/bZjqiTp/+QMxNMP2X1d2n94Wo57ubOrCj5tkmrsWd
K9YDZk0341nbbKbRlfoeC1NNJjUZAxHxiwGJFPeoGz20/KKFp837jPefliJxuiuUFqmqtJF+
015PLBOvhfeBiHEoTvFWECJEHNeIDI525F1gwt1uZUzVl8Dj63jXg6Nk5ROTBRu8EQMi8FR0
6pAtyg5FFzQdy78lhJ</vt:lpwstr>
  </property>
  <property fmtid="{D5CDD505-2E9C-101B-9397-08002B2CF9AE}" pid="3" name="_ms_pID_7253431">
    <vt:lpwstr>gOHpSCCkCcN8W74jDY7AbAuf2guE2UAiHMRYy9DRhbfB00MLiSuBo0
xQ2TO8yzkJ/2jGtyrTK+XFuYZNxx1zbyCTM8m1UzqBwyjdx9jqQm6lB0gPGUy7HH3kkgDHiS
mmrETtX3/jOqDUcisn1EGIUOYFmz2LL/75zdI8eFKuFVRNgIaQIaGjaarc0u+saXlpeuc6KI
5gRwW0prxdwUJY7Y</vt:lpwstr>
  </property>
  <property fmtid="{D5CDD505-2E9C-101B-9397-08002B2CF9AE}" pid="4" name="sflag">
    <vt:lpwstr>1343061893</vt:lpwstr>
  </property>
</Properties>
</file>