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9CB-46A7-471C-AA7C-AEB562D6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F9A-8501-4C13-BD76-0AFADFE8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D4D-1365-437F-AEDD-1CBAF82B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401-119F-4693-AD0E-196002DA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D3A-13D0-4F4D-AA6A-DA55934E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3B0-D81B-4961-8342-A31A634A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16D0-6219-4484-BF34-55458D6D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B49-9095-42D7-BE01-66066403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9CF-D636-4CDD-A7E2-9A3027D0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0350-FFEA-4582-BF5C-32443F3A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242-1ECB-4431-9963-F418D8D5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AD4-7072-4BEA-AD39-1758B4CA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3260E-D374-42D4-8EA7-9F0790663E3E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84th IETF, 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91C87-24C8-40B0-9B5B-245C450712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36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GMP/MLD-Based Explicit Membership Tracking Function for Multicast Routers</a:t>
            </a:r>
            <a:br>
              <a:rPr sz="25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raft-ietf-pim-explicit-tracking-0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40280"/>
            <a:ext cx="6400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toshi Asae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icolai Leyman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3"/>
          <p:cNvSpPr/>
          <p:nvPr/>
        </p:nvSpPr>
        <p:spPr>
          <a:xfrm>
            <a:off x="2578680" y="69048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ETF, July 2012, Vancouver,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CD44F-C348-41E6-AF47-CB6BAE1650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フッター プレースホルダ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84th IETF, 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licit tracking function on routers works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-host ac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ing the number of transmitted Query and Report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ening leave lat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ing multicast channel characteristics (or statistic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80025-EE61-4776-A772-4A1DD7AE11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84th IETF, 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 Issues in Interoperability with Non-supported Rou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174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case when querier enables exp. tracking but non-querier does not support 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MS PGothic"/>
              </a:rPr>
              <a:t>Querier does not query to confirm the last member (when it knows there are other members), but non-querier (who is a forwarder but does not know other members) may prune the stat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フッター プレースホルダー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84th IETF, 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スライド番号プレースホルダー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3D133-8937-4C5F-A58E-D6C64415E6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7" descr="05"/>
          <p:cNvPicPr/>
          <p:nvPr/>
        </p:nvPicPr>
        <p:blipFill>
          <a:blip r:embed="rId1"/>
          <a:stretch/>
        </p:blipFill>
        <p:spPr>
          <a:xfrm>
            <a:off x="2401920" y="4194000"/>
            <a:ext cx="957240" cy="749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7" descr="05"/>
          <p:cNvPicPr/>
          <p:nvPr/>
        </p:nvPicPr>
        <p:blipFill>
          <a:blip r:embed="rId2"/>
          <a:stretch/>
        </p:blipFill>
        <p:spPr>
          <a:xfrm>
            <a:off x="4888080" y="4346640"/>
            <a:ext cx="647640" cy="446040"/>
          </a:xfrm>
          <a:prstGeom prst="rect">
            <a:avLst/>
          </a:prstGeom>
          <a:ln w="0">
            <a:noFill/>
          </a:ln>
        </p:spPr>
      </p:pic>
      <p:sp>
        <p:nvSpPr>
          <p:cNvPr id="56" name="直線コネクタ 2"/>
          <p:cNvSpPr/>
          <p:nvPr/>
        </p:nvSpPr>
        <p:spPr>
          <a:xfrm>
            <a:off x="2881440" y="4792680"/>
            <a:ext cx="0" cy="496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線コネクタ 9"/>
          <p:cNvSpPr/>
          <p:nvPr/>
        </p:nvSpPr>
        <p:spPr>
          <a:xfrm>
            <a:off x="5211720" y="4792680"/>
            <a:ext cx="0" cy="496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線コネクタ 12"/>
          <p:cNvSpPr/>
          <p:nvPr/>
        </p:nvSpPr>
        <p:spPr>
          <a:xfrm>
            <a:off x="2095560" y="5289480"/>
            <a:ext cx="3887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円/楕円 15"/>
          <p:cNvSpPr/>
          <p:nvPr/>
        </p:nvSpPr>
        <p:spPr>
          <a:xfrm>
            <a:off x="7148520" y="4017960"/>
            <a:ext cx="511200" cy="446040"/>
          </a:xfrm>
          <a:prstGeom prst="ellipse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20"/>
          <p:cNvSpPr/>
          <p:nvPr/>
        </p:nvSpPr>
        <p:spPr>
          <a:xfrm>
            <a:off x="2416320" y="40194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26"/>
          <p:cNvSpPr/>
          <p:nvPr/>
        </p:nvSpPr>
        <p:spPr>
          <a:xfrm>
            <a:off x="4611240" y="40194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線コネクタ 27"/>
          <p:cNvSpPr/>
          <p:nvPr/>
        </p:nvSpPr>
        <p:spPr>
          <a:xfrm>
            <a:off x="3492360" y="5291280"/>
            <a:ext cx="0" cy="496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円/楕円 28"/>
          <p:cNvSpPr/>
          <p:nvPr/>
        </p:nvSpPr>
        <p:spPr>
          <a:xfrm>
            <a:off x="3124080" y="5788080"/>
            <a:ext cx="623880" cy="446040"/>
          </a:xfrm>
          <a:prstGeom prst="ellipse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線コネクタ 29"/>
          <p:cNvSpPr/>
          <p:nvPr/>
        </p:nvSpPr>
        <p:spPr>
          <a:xfrm>
            <a:off x="4648320" y="5289480"/>
            <a:ext cx="0" cy="498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円/楕円 30"/>
          <p:cNvSpPr/>
          <p:nvPr/>
        </p:nvSpPr>
        <p:spPr>
          <a:xfrm>
            <a:off x="4394160" y="5788080"/>
            <a:ext cx="608040" cy="446040"/>
          </a:xfrm>
          <a:prstGeom prst="ellipse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直線矢印コネクタ 23"/>
          <p:cNvCxnSpPr/>
          <p:nvPr/>
        </p:nvCxnSpPr>
        <p:spPr>
          <a:xfrm flipH="1">
            <a:off x="5547600" y="4346280"/>
            <a:ext cx="1523160" cy="237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 Issues in Interoperability with Non-supported Rou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17840"/>
            <a:ext cx="822960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ssible solu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able exp. tracking function when adjacent router(s) exists or “I am not the forwarder”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istence of adjacent router is known when [Other Querier Present Interval] is not 0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routers SHOULD be able to configure disabling this disable function to avoid 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new IGMP/MLD message for informing that querier/non-querier(s) enables/disables exp. tracking and synchronizing the behavio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well for the standard IGMP/MLD without doing anyth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Querier Present Timeout = Rob_Var (2) x Query Int. (125 sec.) x Query Response Int. (10) x 1/2 = 1250 se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ning Other Querier Present Timeout shorter (e.g., 10 sec.)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フッター プレースホルダー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84th IETF, 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スライド番号プレースホルダー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57AF7-6ABA-4E72-B8A3-37CE8C9FCA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al RFC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ress open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GLC after revisi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654B8-717A-4B77-95D4-4EC376C01C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84th IETF, 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0:30:49Z</dcterms:created>
  <dc:creator>朝枝 仁</dc:creator>
  <dc:description/>
  <dc:language>en-US</dc:language>
  <cp:lastModifiedBy>m00904492</cp:lastModifiedBy>
  <dcterms:modified xsi:type="dcterms:W3CDTF">2012-07-31T06:13:03Z</dcterms:modified>
  <cp:revision>51</cp:revision>
  <dc:subject/>
  <dc:title>IGMP/MLD-Based Explicit Membership Tracking Function for Multicast Routers   draft-asaeda-mboned-explicit-tracking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43669770</vt:lpwstr>
  </property>
</Properties>
</file>