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A0E-450D-4DA0-BD6A-820183B2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9DE-4F83-4C3B-8B26-13ACA079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BB2-471E-48E9-8E46-73F335D8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756-3A56-4E83-9880-670122F5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94F-ED4F-48E4-8B89-0903A7FC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9E1-6611-4977-8766-BE407686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32E-F8E5-4D43-9B00-D3830BBA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7C8-29F8-4BE0-B4AB-B1A9FCD9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515-4DA4-43C5-AFE5-65C9C5C8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B4D-D5B9-4E83-9AA7-73E68971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FD9-F814-439C-BF39-4484D7AB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4B7-2086-4CCE-BA20-099755F8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6FA6F-2CB3-47E4-8290-4D9A10518D17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3E20A-F615-436C-AE1F-68F367DC5E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3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GMP/MLD-Based Explicit Membership Tracking Function for Multicast Routers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raft-ietf-pim-explicit-tracking-0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0280"/>
            <a:ext cx="6400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toshi Asae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icolai Leyman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3"/>
          <p:cNvSpPr/>
          <p:nvPr/>
        </p:nvSpPr>
        <p:spPr>
          <a:xfrm>
            <a:off x="2578680" y="69048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ETF, July 2012, Vancouver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6E9FD-EF9F-42C8-BFE8-1E9156A847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フッター プレースホルダ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licit tracking function on routers work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-host ac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ing the number of transmitted Query and Report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ning leave la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ing multicast channel characteristics (or statistic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EBBCF-E4E1-4C61-9EB0-7D667AF897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 in Interoperability with Non-supporte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174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case when querier enables exp. tracking but non-querier does not support 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PGothic"/>
              </a:rPr>
              <a:t>Querier does not query to confirm the last member (when it knows there are other members), but non-querier (who is a forwarder but does not know other members) may prune the stat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フッター プレースホルダー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スライド番号プレースホルダー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57C06-F626-4E6A-904C-5B265B89F7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7" descr="05"/>
          <p:cNvPicPr/>
          <p:nvPr/>
        </p:nvPicPr>
        <p:blipFill>
          <a:blip r:embed="rId1"/>
          <a:stretch/>
        </p:blipFill>
        <p:spPr>
          <a:xfrm>
            <a:off x="2401920" y="4194000"/>
            <a:ext cx="957240" cy="74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7" descr="05"/>
          <p:cNvPicPr/>
          <p:nvPr/>
        </p:nvPicPr>
        <p:blipFill>
          <a:blip r:embed="rId2"/>
          <a:stretch/>
        </p:blipFill>
        <p:spPr>
          <a:xfrm>
            <a:off x="4888080" y="4346640"/>
            <a:ext cx="647640" cy="446040"/>
          </a:xfrm>
          <a:prstGeom prst="rect">
            <a:avLst/>
          </a:prstGeom>
          <a:ln w="0">
            <a:noFill/>
          </a:ln>
        </p:spPr>
      </p:pic>
      <p:sp>
        <p:nvSpPr>
          <p:cNvPr id="56" name="直線コネクタ 2"/>
          <p:cNvSpPr/>
          <p:nvPr/>
        </p:nvSpPr>
        <p:spPr>
          <a:xfrm>
            <a:off x="2881440" y="4792680"/>
            <a:ext cx="0" cy="496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線コネクタ 9"/>
          <p:cNvSpPr/>
          <p:nvPr/>
        </p:nvSpPr>
        <p:spPr>
          <a:xfrm>
            <a:off x="5211720" y="4792680"/>
            <a:ext cx="0" cy="496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線コネクタ 12"/>
          <p:cNvSpPr/>
          <p:nvPr/>
        </p:nvSpPr>
        <p:spPr>
          <a:xfrm>
            <a:off x="2095560" y="5289480"/>
            <a:ext cx="3887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円/楕円 15"/>
          <p:cNvSpPr/>
          <p:nvPr/>
        </p:nvSpPr>
        <p:spPr>
          <a:xfrm>
            <a:off x="7148520" y="4017960"/>
            <a:ext cx="511200" cy="446040"/>
          </a:xfrm>
          <a:prstGeom prst="ellipse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20"/>
          <p:cNvSpPr/>
          <p:nvPr/>
        </p:nvSpPr>
        <p:spPr>
          <a:xfrm>
            <a:off x="2416320" y="4019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26"/>
          <p:cNvSpPr/>
          <p:nvPr/>
        </p:nvSpPr>
        <p:spPr>
          <a:xfrm>
            <a:off x="4611240" y="4019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線コネクタ 27"/>
          <p:cNvSpPr/>
          <p:nvPr/>
        </p:nvSpPr>
        <p:spPr>
          <a:xfrm>
            <a:off x="3492360" y="5291280"/>
            <a:ext cx="0" cy="496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円/楕円 28"/>
          <p:cNvSpPr/>
          <p:nvPr/>
        </p:nvSpPr>
        <p:spPr>
          <a:xfrm>
            <a:off x="3124080" y="5788080"/>
            <a:ext cx="623880" cy="446040"/>
          </a:xfrm>
          <a:prstGeom prst="ellipse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線コネクタ 29"/>
          <p:cNvSpPr/>
          <p:nvPr/>
        </p:nvSpPr>
        <p:spPr>
          <a:xfrm>
            <a:off x="4648320" y="5289480"/>
            <a:ext cx="0" cy="498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円/楕円 30"/>
          <p:cNvSpPr/>
          <p:nvPr/>
        </p:nvSpPr>
        <p:spPr>
          <a:xfrm>
            <a:off x="4394160" y="5788080"/>
            <a:ext cx="608040" cy="446040"/>
          </a:xfrm>
          <a:prstGeom prst="ellipse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線矢印コネクタ 23"/>
          <p:cNvCxnSpPr/>
          <p:nvPr/>
        </p:nvCxnSpPr>
        <p:spPr>
          <a:xfrm flipH="1">
            <a:off x="5547600" y="4346280"/>
            <a:ext cx="1523160" cy="237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 in Interoperability with Non-supporte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17840"/>
            <a:ext cx="822960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sible sol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ble exp. tracking function when adjacent router(s) exists or “I am not the forwarder”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stence of adjacent router is known when [Other Querier Present Interval] is not 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routers SHOULD be able to configure disabling this disable function to avoid 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new IGMP/MLD message for informing that querier/non-querier(s) enables/disables exp. tracking and synchronizing the behavi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well for the standard IGMP/MLD without doing any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Querier Present Timeout = Rob_Var (2) x Query Int. (125 sec.) x Query Response Int. (10) x 1/2 = 1250 se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ning Other Querier Present Timeout shorter (e.g., 10 sec.)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フッター プレースホルダー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スライド番号プレースホルダー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A991D-BFDB-474E-A441-38D29B2199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al RFC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ress open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GLC after revis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046A1-59CB-4DC5-A264-45937765D6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0:30:49Z</dcterms:created>
  <dc:creator>朝枝 仁</dc:creator>
  <dc:description/>
  <dc:language>en-US</dc:language>
  <cp:lastModifiedBy>m00904492</cp:lastModifiedBy>
  <dcterms:modified xsi:type="dcterms:W3CDTF">2012-07-31T06:13:03Z</dcterms:modified>
  <cp:revision>51</cp:revision>
  <dc:subject/>
  <dc:title>IGMP/MLD-Based Explicit Membership Tracking Function for Multicast Routers   draft-asaeda-mboned-explicit-tracking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43669770</vt:lpwstr>
  </property>
</Properties>
</file>