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B580-35A4-4F4B-B151-8014A48FE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6720-EC89-4CDB-9D3D-F3F3C64D0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640D9410-854C-407E-9A39-632949C89F8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8" name="PlaceHolder 1"/>
          <p:cNvSpPr>
            <a:spLocks noGrp="1"/>
          </p:cNvSpPr>
          <p:nvPr>
            <p:ph type="sldImg"/>
          </p:nvPr>
        </p:nvSpPr>
        <p:spPr>
          <a:xfrm>
            <a:off x="1143000" y="693720"/>
            <a:ext cx="4572000" cy="3429000"/>
          </a:xfrm>
          <a:prstGeom prst="rect">
            <a:avLst/>
          </a:prstGeom>
          <a:ln w="0">
            <a:noFill/>
          </a:ln>
        </p:spPr>
      </p:sp>
      <p:sp>
        <p:nvSpPr>
          <p:cNvPr id="5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849E-7C29-4B5F-AD55-E108E0BE6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3814F7A1-61B6-4BFC-A859-837FA9E85B8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 name="Text Box 1"/>
          <p:cNvSpPr/>
          <p:nvPr/>
        </p:nvSpPr>
        <p:spPr>
          <a:xfrm>
            <a:off x="944640" y="662040"/>
            <a:ext cx="4570200" cy="326052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Arial"/>
            </a:endParaRPr>
          </a:p>
        </p:txBody>
      </p:sp>
      <p:sp>
        <p:nvSpPr>
          <p:cNvPr id="63" name="PlaceHolder 1"/>
          <p:cNvSpPr>
            <a:spLocks noGrp="1"/>
          </p:cNvSpPr>
          <p:nvPr>
            <p:ph type="body"/>
          </p:nvPr>
        </p:nvSpPr>
        <p:spPr>
          <a:xfrm>
            <a:off x="646200" y="4146480"/>
            <a:ext cx="5162400" cy="3927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D122-998E-4AB9-B7DA-7463A7738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8449-C684-4126-90CD-F4121910F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5C6A-5446-4AC1-8C8B-D99F43D8D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07D34-32F7-425D-B48F-D8346B534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794F8-BF3C-49D1-B8C2-D134DD76F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556B0-72BC-4337-B712-F31644210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1D57-D711-4370-9086-D67C7B151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D0A99-C53F-4F17-BE47-D730501C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CFB2F-7712-428E-B74D-4628628A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BD947-F296-4808-9667-D4A6C537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A682-1FC1-410B-BF9E-B0AE6C355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BE0B-20F5-4A3F-86CB-64F5F7B8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D0C5-7113-4D40-BCE5-3EC14556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5A72-5767-4CDF-A86B-E74ADEB52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3B52-8D76-4D36-8215-1BDE2E7AA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PSP WG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2565000"/>
            <a:ext cx="8231040" cy="3522600"/>
          </a:xfrm>
          <a:prstGeom prst="rect">
            <a:avLst/>
          </a:prstGeom>
          <a:noFill/>
          <a:ln w="0">
            <a:noFill/>
          </a:ln>
        </p:spPr>
        <p:txBody>
          <a:bodyPr lIns="0" rIns="0" tIns="25560" bIns="0" anchor="ctr">
            <a:noAutofit/>
          </a:bodyPr>
          <a:p>
            <a:pPr indent="0" algn="ctr">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ETF-84, Vancouver, August 1, 2012 </a:t>
            </a:r>
            <a:endParaRPr b="0" lang="en-US" sz="28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hairs:Stefano Previdi &lt;sprevidi@cisco.com&gt; </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Yunfei Zhang &lt;zhangyunfei@chinamobile.com&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WebEx@ http://www.ietf.org/meeting/84/remote-participation.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208080" y="297000"/>
            <a:ext cx="960480" cy="533160"/>
          </a:xfrm>
          <a:prstGeom prst="rect">
            <a:avLst/>
          </a:prstGeom>
          <a:ln w="0">
            <a:noFill/>
          </a:ln>
        </p:spPr>
      </p:pic>
      <p:sp>
        <p:nvSpPr>
          <p:cNvPr id="51" name="PlaceHolder 1"/>
          <p:cNvSpPr>
            <a:spLocks noGrp="1"/>
          </p:cNvSpPr>
          <p:nvPr>
            <p:ph type="title"/>
          </p:nvPr>
        </p:nvSpPr>
        <p:spPr>
          <a:xfrm>
            <a:off x="968040" y="334800"/>
            <a:ext cx="7041960" cy="648000"/>
          </a:xfrm>
          <a:prstGeom prst="rect">
            <a:avLst/>
          </a:prstGeom>
          <a:noFill/>
          <a:ln w="0">
            <a:noFill/>
          </a:ln>
        </p:spPr>
        <p:txBody>
          <a:bodyPr lIns="82080" rIns="82080" tIns="75240" bIns="4032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83840" y="1312920"/>
            <a:ext cx="8016840" cy="5284800"/>
          </a:xfrm>
          <a:prstGeom prst="rect">
            <a:avLst/>
          </a:prstGeom>
          <a:noFill/>
          <a:ln w="0">
            <a:noFill/>
          </a:ln>
        </p:spPr>
        <p:txBody>
          <a:bodyPr lIns="82080" rIns="82080" tIns="78480" bIns="40320" anchor="t">
            <a:normAutofit/>
          </a:bodyPr>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79280" y="-1011240"/>
            <a:ext cx="8785440" cy="70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PSP Agenda #IETF 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0   Agenda bashing (Chairs, 5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5   Status of the WG (Chairs, 5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0   Peer Protocol (Johan Pouwelse, 40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ietf-ppsp-peer-protocol-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0   Tracker  Base Protocol (Yingjie, 30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cruz-ppsp-base-tracker-protocol-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0   Tracker Protocol Extension  (Rachel,1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huang-ppsp-extended-tracker-protocol-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5 Conclusion and next step(Chairs, 10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5 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of PPSP W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WG draf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problem-statement-09(</a:t>
            </a:r>
            <a:r>
              <a:rPr b="0" lang="en-US" sz="2400" spc="-1" strike="noStrike">
                <a:solidFill>
                  <a:srgbClr val="ff0000"/>
                </a:solidFill>
                <a:latin typeface="Arial"/>
              </a:rPr>
              <a:t>3 round WGLC, almost finishe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peer-protocol-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survey-02 (</a:t>
            </a:r>
            <a:r>
              <a:rPr b="0" lang="en-US" sz="2400" spc="-1" strike="noStrike">
                <a:solidFill>
                  <a:srgbClr val="ff0000"/>
                </a:solidFill>
                <a:latin typeface="Arial"/>
              </a:rPr>
              <a:t>Need updat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rack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cruz-ppsp-base-tracker-protocol-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huang-ppsp-extended-tracker-protocol-00</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2:39:52Z</dcterms:created>
  <dc:creator>zyf</dc:creator>
  <dc:description/>
  <dc:language>en-US</dc:language>
  <cp:lastModifiedBy>zyf</cp:lastModifiedBy>
  <dcterms:modified xsi:type="dcterms:W3CDTF">2012-08-01T05:48:15Z</dcterms:modified>
  <cp:revision>41</cp:revision>
  <dc:subject/>
  <dc:title>幻灯片 1</dc:title>
</cp:coreProperties>
</file>