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6.wmf" ContentType="image/x-wmf"/>
  <Override PartName="/ppt/media/image14.png" ContentType="image/png"/>
  <Override PartName="/ppt/media/image22.jpeg" ContentType="image/jpeg"/>
  <Override PartName="/ppt/media/image9.png" ContentType="image/png"/>
  <Override PartName="/ppt/media/image15.wmf" ContentType="image/x-wmf"/>
  <Override PartName="/ppt/media/image17.wmf" ContentType="image/x-wmf"/>
  <Override PartName="/ppt/media/image38.jpeg" ContentType="image/jpeg"/>
  <Override PartName="/ppt/media/image4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jpeg" ContentType="image/jpeg"/>
  <Override PartName="/ppt/media/image32.jpeg" ContentType="image/jpeg"/>
  <Override PartName="/ppt/media/image8.wmf" ContentType="image/x-wmf"/>
  <Override PartName="/ppt/media/image37.jpeg" ContentType="image/jpeg"/>
  <Override PartName="/ppt/media/image33.jpeg" ContentType="image/jpeg"/>
  <Override PartName="/ppt/media/image5.wmf" ContentType="image/x-wmf"/>
  <Override PartName="/ppt/media/image4.wmf" ContentType="image/x-wmf"/>
  <Override PartName="/ppt/media/image39.jpeg" ContentType="image/jpeg"/>
  <Override PartName="/ppt/media/image41.wmf" ContentType="image/x-wmf"/>
  <Override PartName="/ppt/media/image43.png" ContentType="image/png"/>
  <Override PartName="/ppt/media/image12.wmf" ContentType="image/x-wmf"/>
  <Override PartName="/ppt/media/image30.jpeg" ContentType="image/jpeg"/>
  <Override PartName="/ppt/media/image7.wmf" ContentType="image/x-wmf"/>
  <Override PartName="/ppt/media/image6.wmf" ContentType="image/x-wmf"/>
  <Override PartName="/ppt/media/image11.png" ContentType="image/png"/>
  <Override PartName="/ppt/media/image27.jpeg" ContentType="image/jpeg"/>
  <Override PartName="/ppt/media/image13.wmf" ContentType="image/x-wmf"/>
  <Override PartName="/ppt/media/image3.wmf" ContentType="image/x-wmf"/>
  <Override PartName="/ppt/media/image29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026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597120"/>
            <a:ext cx="82026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200" y="137160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59712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200" y="359712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4096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0280" y="1371600"/>
            <a:ext cx="264096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3720" y="1371600"/>
            <a:ext cx="264096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597120"/>
            <a:ext cx="264096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0280" y="3597120"/>
            <a:ext cx="264096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3720" y="3597120"/>
            <a:ext cx="264096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0284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200" y="1371600"/>
            <a:ext cx="400284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61800"/>
            <a:ext cx="7288200" cy="386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371600"/>
            <a:ext cx="400284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59712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0284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37160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200" y="359712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200" y="137160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597120"/>
            <a:ext cx="82026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2" marL="1143000" indent="-2286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3" marL="1600200" indent="-2286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4" marL="2057400" indent="-2286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5" marL="2057400" indent="-228600">
              <a:lnSpc>
                <a:spcPct val="134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6" marL="2057400" indent="-228600">
              <a:lnSpc>
                <a:spcPct val="134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21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762120"/>
            <a:ext cx="304920" cy="20628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8" descr="logo_P2P-NEXT_small"/>
          <p:cNvPicPr/>
          <p:nvPr/>
        </p:nvPicPr>
        <p:blipFill>
          <a:blip r:embed="rId2"/>
          <a:stretch/>
        </p:blipFill>
        <p:spPr>
          <a:xfrm>
            <a:off x="7343640" y="0"/>
            <a:ext cx="1800360" cy="72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image" Target="../media/image34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image" Target="../media/image39.jpeg"/><Relationship Id="rId21" Type="http://schemas.openxmlformats.org/officeDocument/2006/relationships/image" Target="../media/image40.jpeg"/><Relationship Id="rId2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itle 1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he PPSP Peer Protocol (PPSP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1476360" y="4076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 algn="ctr"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Johan Pouwelse, Arno Bakker, Riccardo Petrocc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 algn="ctr"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 algn="ctr"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Delft University of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4" descr="apusapus.png"/>
          <p:cNvPicPr/>
          <p:nvPr/>
        </p:nvPicPr>
        <p:blipFill>
          <a:blip r:embed="rId1"/>
          <a:stretch/>
        </p:blipFill>
        <p:spPr>
          <a:xfrm>
            <a:off x="228600" y="1916280"/>
            <a:ext cx="1219320" cy="16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Power consumption on Android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71" name="Footer Placeholder 2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2" descr="C:\Users\arno\Documents\Delft\IETF-PPSP\IETF84-Vancouver\android.eps"/>
          <p:cNvPicPr/>
          <p:nvPr/>
        </p:nvPicPr>
        <p:blipFill>
          <a:blip r:embed="rId1"/>
          <a:stretch/>
        </p:blipFill>
        <p:spPr>
          <a:xfrm>
            <a:off x="324000" y="923760"/>
            <a:ext cx="806436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Next Steps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7280" indent="-2872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hoose transport protocol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esolving #21, #24, #25, #27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87280" indent="-2872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dd CHOKE/UNCHOKE message?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esolving #4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87280" indent="-2872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efine failure behaviour and errors?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esolving #22, #23, #28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87280" indent="-2872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losed Swarm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eparate draft coming soon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87280" indent="-2872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Basic protocol ready!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87280" indent="-2872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vember 85 IETF: resolved all open tickets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to deal with lack of mailing list feedback?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75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10000"/>
                </a:solidFill>
                <a:latin typeface="Verdana"/>
              </a:rPr>
              <a:t>Extra slides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Refresh: PPSPP messages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371600"/>
            <a:ext cx="82026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23120" indent="-12312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Basic unit of communication: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Message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279000" indent="-10080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HANDSHAKE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279000" indent="-10080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HAVE: 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onvey chunk availability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279000" indent="-10080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HINT:  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equest chunk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279000" indent="-10080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ATA: 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ctual chunk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279000" indent="-10080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HASH: 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MDCs to enable integrity verification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279000" indent="-10080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123120" indent="-12312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Messages are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multiplexed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together when sent over the wire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123120" indent="-123120"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80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5" descr="C:\Users\arno\AppData\Local\Microsoft\Windows\Temporary Internet Files\Content.IE5\C2XZSFKB\MC900055518[1].wmf"/>
          <p:cNvPicPr/>
          <p:nvPr/>
        </p:nvPicPr>
        <p:blipFill>
          <a:blip r:embed="rId1"/>
          <a:stretch/>
        </p:blipFill>
        <p:spPr>
          <a:xfrm>
            <a:off x="5796000" y="5221440"/>
            <a:ext cx="280512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6840" y="1371600"/>
            <a:ext cx="820260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Peer A and B both have some chunk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e: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low latenc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data transfer already in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atagram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Example PPSPP on the wire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14360" y="2459160"/>
            <a:ext cx="1008000" cy="291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7831080" y="2459160"/>
            <a:ext cx="1008000" cy="291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1638360" y="260496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NDSHAKE + HA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7" name="Straight Arrow Connector 10"/>
          <p:cNvCxnSpPr/>
          <p:nvPr/>
        </p:nvCxnSpPr>
        <p:spPr>
          <a:xfrm>
            <a:off x="1422360" y="2892600"/>
            <a:ext cx="6409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8" name="Group 20"/>
          <p:cNvGrpSpPr/>
          <p:nvPr/>
        </p:nvGrpSpPr>
        <p:grpSpPr>
          <a:xfrm>
            <a:off x="1422000" y="3324240"/>
            <a:ext cx="6409080" cy="337320"/>
            <a:chOff x="1422000" y="3324240"/>
            <a:chExt cx="6409080" cy="337320"/>
          </a:xfrm>
        </p:grpSpPr>
        <p:sp>
          <p:nvSpPr>
            <p:cNvPr id="89" name="TextBox 11"/>
            <p:cNvSpPr/>
            <p:nvPr/>
          </p:nvSpPr>
          <p:spPr>
            <a:xfrm>
              <a:off x="1854720" y="3324240"/>
              <a:ext cx="59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NDSHAKE + HAVE + H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0" name="Straight Arrow Connector 12"/>
            <p:cNvCxnSpPr/>
            <p:nvPr/>
          </p:nvCxnSpPr>
          <p:spPr>
            <a:xfrm flipH="1" flipV="1">
              <a:off x="1422000" y="3611160"/>
              <a:ext cx="64094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1" name="TextBox 16"/>
          <p:cNvSpPr/>
          <p:nvPr/>
        </p:nvSpPr>
        <p:spPr>
          <a:xfrm>
            <a:off x="1638360" y="40305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INT + HASH + 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  <a:ea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2" name="Straight Arrow Connector 17"/>
          <p:cNvCxnSpPr/>
          <p:nvPr/>
        </p:nvCxnSpPr>
        <p:spPr>
          <a:xfrm>
            <a:off x="1422360" y="4317480"/>
            <a:ext cx="6409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Group 20"/>
          <p:cNvGrpSpPr/>
          <p:nvPr/>
        </p:nvGrpSpPr>
        <p:grpSpPr>
          <a:xfrm>
            <a:off x="1422000" y="4753080"/>
            <a:ext cx="6409080" cy="337320"/>
            <a:chOff x="1422000" y="4753080"/>
            <a:chExt cx="6409080" cy="337320"/>
          </a:xfrm>
        </p:grpSpPr>
        <p:sp>
          <p:nvSpPr>
            <p:cNvPr id="95" name="TextBox 11"/>
            <p:cNvSpPr/>
            <p:nvPr/>
          </p:nvSpPr>
          <p:spPr>
            <a:xfrm>
              <a:off x="1854720" y="4753080"/>
              <a:ext cx="59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NT + HASH + 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6" name="Straight Arrow Connector 12"/>
            <p:cNvCxnSpPr/>
            <p:nvPr/>
          </p:nvCxnSpPr>
          <p:spPr>
            <a:xfrm flipH="1" flipV="1">
              <a:off x="1422000" y="5041440"/>
              <a:ext cx="64094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PPSPP in detail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4920" y="14112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ommon set of messages across transports (UDP, RTP, TCP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Novel method of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content integrity protection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Merkle hash tree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Novel method of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chunk addressing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Bin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Address range of chunks with single integer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6" descr="C:\Users\arno\AppData\Local\Microsoft\Windows\Temporary Internet Files\Content.IE5\C2XZSFKB\MC900441793[1].png"/>
          <p:cNvPicPr/>
          <p:nvPr/>
        </p:nvPicPr>
        <p:blipFill>
          <a:blip r:embed="rId1"/>
          <a:stretch/>
        </p:blipFill>
        <p:spPr>
          <a:xfrm>
            <a:off x="6948360" y="4221000"/>
            <a:ext cx="2022480" cy="202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Users\arno\AppData\Local\Microsoft\Windows\Temporary Internet Files\Content.IE5\P6FVWHXH\MC900434739[1].png"/>
          <p:cNvPicPr/>
          <p:nvPr/>
        </p:nvPicPr>
        <p:blipFill>
          <a:blip r:embed="rId2"/>
          <a:stretch/>
        </p:blipFill>
        <p:spPr>
          <a:xfrm>
            <a:off x="7093080" y="5100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Proposal 10+13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7280" indent="-2872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Multiple content integrity and chunk addressing schemes”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87280" indent="-2872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Chunk addressing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cheme is extra metadata with swarm ID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HINT+HAVE+… carry opaque “chunk spec”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PPSPP SHOULD implement bin numbering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87280" indent="-2872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Integrity protection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cheme is extra metadata with swarm ID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Or: Sender describes content integrity protection scheme in HANDSHAKE. Validity clear on first DATA message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HASH message renamed to generic INTEGRITY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PPSPP SHOULD implement Merkle Hash trees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5" descr="C:\Users\arno\AppData\Local\Microsoft\Windows\Temporary Internet Files\Content.IE5\I0FC3Q3E\MC900432631[1].png"/>
          <p:cNvPicPr/>
          <p:nvPr/>
        </p:nvPicPr>
        <p:blipFill>
          <a:blip r:embed="rId1"/>
          <a:stretch/>
        </p:blipFill>
        <p:spPr>
          <a:xfrm>
            <a:off x="7045200" y="21337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Proposal 26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3760" indent="-29376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ecurity of </a:t>
            </a: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the handshake procedure”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93760" indent="-29376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ttacks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65640" indent="-24048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oS amplification: PPSPP peer amplifies traffic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65640" indent="-24048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oS flood: state buildup at PPSPP peer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93760" indent="-29376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Existing mechanism suffice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65640" indent="-24048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larify: no updates to unacknowledged peer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65640" indent="-24048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dd: peer must reply immediately to HANDSHAKE, short timeout on state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93760" indent="-29376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Or: Copy RFC5971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65640" indent="-24048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No state till return routability check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65640" indent="-24048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dds latency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C:\Users\arno\AppData\Local\Microsoft\Windows\Temporary Internet Files\Content.IE5\I0FC3Q3E\MC900230642[1].wmf"/>
          <p:cNvPicPr/>
          <p:nvPr/>
        </p:nvPicPr>
        <p:blipFill>
          <a:blip r:embed="rId1"/>
          <a:stretch/>
        </p:blipFill>
        <p:spPr>
          <a:xfrm>
            <a:off x="6107040" y="5013360"/>
            <a:ext cx="22924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6840" y="1371600"/>
            <a:ext cx="820260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PPSPP handshake procedure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14360" y="2459160"/>
            <a:ext cx="1008000" cy="291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7831080" y="2459160"/>
            <a:ext cx="1008000" cy="291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Group 1"/>
          <p:cNvGrpSpPr/>
          <p:nvPr/>
        </p:nvGrpSpPr>
        <p:grpSpPr>
          <a:xfrm>
            <a:off x="1422000" y="2894040"/>
            <a:ext cx="6409440" cy="1762920"/>
            <a:chOff x="1422000" y="2894040"/>
            <a:chExt cx="6409440" cy="1762920"/>
          </a:xfrm>
        </p:grpSpPr>
        <p:sp>
          <p:nvSpPr>
            <p:cNvPr id="115" name="TextBox 8"/>
            <p:cNvSpPr/>
            <p:nvPr/>
          </p:nvSpPr>
          <p:spPr>
            <a:xfrm>
              <a:off x="1638000" y="2894040"/>
              <a:ext cx="50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n0 + HANDSHAKE(chanA) + 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6" name="Straight Arrow Connector 10"/>
            <p:cNvCxnSpPr/>
            <p:nvPr/>
          </p:nvCxnSpPr>
          <p:spPr>
            <a:xfrm>
              <a:off x="1422360" y="3181320"/>
              <a:ext cx="64094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7" name="Group 20"/>
            <p:cNvGrpSpPr/>
            <p:nvPr/>
          </p:nvGrpSpPr>
          <p:grpSpPr>
            <a:xfrm>
              <a:off x="1422000" y="3612960"/>
              <a:ext cx="6409080" cy="337320"/>
              <a:chOff x="1422000" y="3612960"/>
              <a:chExt cx="6409080" cy="337320"/>
            </a:xfrm>
          </p:grpSpPr>
          <p:sp>
            <p:nvSpPr>
              <p:cNvPr id="118" name="TextBox 11"/>
              <p:cNvSpPr/>
              <p:nvPr/>
            </p:nvSpPr>
            <p:spPr>
              <a:xfrm>
                <a:off x="1854720" y="3612960"/>
                <a:ext cx="5904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hanA + HANDSHAKE(chanB) + …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19" name="Straight Arrow Connector 12"/>
              <p:cNvCxnSpPr/>
              <p:nvPr/>
            </p:nvCxnSpPr>
            <p:spPr>
              <a:xfrm flipH="1" flipV="1">
                <a:off x="1422000" y="3899880"/>
                <a:ext cx="640944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20" name="TextBox 16"/>
            <p:cNvSpPr/>
            <p:nvPr/>
          </p:nvSpPr>
          <p:spPr>
            <a:xfrm>
              <a:off x="1638000" y="4319640"/>
              <a:ext cx="518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nB + 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Straight Arrow Connector 17"/>
            <p:cNvCxnSpPr/>
            <p:nvPr/>
          </p:nvCxnSpPr>
          <p:spPr>
            <a:xfrm>
              <a:off x="1422360" y="4606920"/>
              <a:ext cx="64094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2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Proposal 17+20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efinition and security of Peer-Address Exchange (PEX)”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ewrite definition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PEX MUST contain addresses you exchanged messages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with in the last 60 seconds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ecurity attacks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mplification: peer T causes peer A to connect to B1…n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Eclipse 1: Isolate single injector in live streaming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Eclipse 2: Isolate specific consumer peer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2" descr="C:\Users\arno\AppData\Local\Microsoft\Windows\Temporary Internet Files\Content.IE5\C2XZSFKB\MC900197753[1].wmf"/>
          <p:cNvPicPr/>
          <p:nvPr/>
        </p:nvPicPr>
        <p:blipFill>
          <a:blip r:embed="rId1"/>
          <a:stretch/>
        </p:blipFill>
        <p:spPr>
          <a:xfrm>
            <a:off x="7236000" y="4578480"/>
            <a:ext cx="177480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Changes in -02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4920" y="1341000"/>
            <a:ext cx="8202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llows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different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chunk addressing and content integrity </a:t>
            </a: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      protection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schemes</a:t>
            </a: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 (#13)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dded description of chunk addressing via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(start,end) ranges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esolved #26: Added section on the security of the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handshake procedure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esolved #17+20: Added design to make Peer Address Exchange (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PEX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) more secure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esolved #38+39 / PPSP.SEC.REQ-2+3: Added section on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confidentiality of content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esolved #40+42 / PPSP.SEC.REQ-4+6: Added per-message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analysis of threats 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nd how PPSPP is protected from them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48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Protection against PEX Amplification attack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7280" indent="-2872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Introduce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membership certificates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peer A at address ipA+portA part of swarm S at time T”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igitally signed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87280" indent="-2872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Usage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 sends cert to peer B during/after handshake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B checks if sig OK, swarm OK and liveliness OK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B puts cert in PEX reply to others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87280" indent="-2872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ifferent certification schemes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Generic CA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hands out basic certificates, peer creates membership certs (CA -&gt; basic -&gt; membership trust chain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Tracker as CA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creates membership cert on/after JOIN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2" descr="C:\Users\arno\AppData\Local\Microsoft\Windows\Temporary Internet Files\Content.IE5\I0FC3Q3E\MC900434825[1].png"/>
          <p:cNvPicPr/>
          <p:nvPr/>
        </p:nvPicPr>
        <p:blipFill>
          <a:blip r:embed="rId1"/>
          <a:stretch/>
        </p:blipFill>
        <p:spPr>
          <a:xfrm>
            <a:off x="7164360" y="2637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Protection against PEX Eclipse attacks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7280" indent="-2872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ssumption: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tracker returns a true random sample 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of the actual swarm membership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87280" indent="-2872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Live injector 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protected by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Initiate percentage of connections itself, addrs from tracker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isabling PEX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Or: PEX, but get percentage of peers from trusted tracker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87280" indent="-2872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Protect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consumer peer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in same way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Go to tracker if bad service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87280" indent="-2872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lternative PEX protection: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PuppetCast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et of peers in PEX reply externally controlled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51240" indent="-235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3" descr="C:\Users\arno\AppData\Local\Microsoft\Windows\Temporary Internet Files\Content.IE5\C5CV3WIS\MC910217195[1].wmf"/>
          <p:cNvPicPr/>
          <p:nvPr/>
        </p:nvPicPr>
        <p:blipFill>
          <a:blip r:embed="rId1"/>
          <a:stretch/>
        </p:blipFill>
        <p:spPr>
          <a:xfrm>
            <a:off x="6948360" y="4221000"/>
            <a:ext cx="18162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New Issues from PPSP Requirements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71600"/>
            <a:ext cx="82915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2840" indent="-31284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REQ-8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Qo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08840" indent="-25596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More support needed? New issue #35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2840" indent="-31284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PP.REQ-3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Get peers from peer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08840" indent="-25596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atisfied by new safe PEX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2840" indent="-31284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PP.REQ-6</a:t>
            </a: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: Peer status reporting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08840" indent="-25596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New issue #36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2840" indent="-31284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SEC.REQ-1</a:t>
            </a: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: Closed Swarms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08840" indent="-25596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New issue #37, propose P2P-Next solution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2840" indent="-31284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SEC.REQ-2</a:t>
            </a: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: Content confidentiality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08840" indent="-25596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Supported, add text (new issue#38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2840" indent="-31284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2840" indent="-31284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" descr="C:\Users\arno\AppData\Local\Microsoft\Windows\Temporary Internet Files\Content.IE5\I0FC3Q3E\MC900020014[1].wmf"/>
          <p:cNvPicPr/>
          <p:nvPr/>
        </p:nvPicPr>
        <p:blipFill>
          <a:blip r:embed="rId1"/>
          <a:stretch/>
        </p:blipFill>
        <p:spPr>
          <a:xfrm>
            <a:off x="6443640" y="2276640"/>
            <a:ext cx="221616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New Issues from PPSP Requirements (cont’d)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371600"/>
            <a:ext cx="829152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SEC.REQ-3</a:t>
            </a: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: Encrypt peer links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IPsec or DTLS, add text (new issue #39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SEC.REQ-4</a:t>
            </a: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: Limit bad peer damage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Most attacks covered, will discuss (new issue #40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SEC.REQ-5</a:t>
            </a: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: Exclude bad peer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Via content integrity protection, add text (new issue #41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SEC.REQ-6</a:t>
            </a: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: Bad peers exhaust resource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Need safe PEX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Limit upload per peer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(Secure handshake procedure protects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Add text (new issue #42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6" descr="C:\Users\arno\AppData\Local\Microsoft\Windows\Temporary Internet Files\Content.IE5\C2XZSFKB\MC900441793[1].png"/>
          <p:cNvPicPr/>
          <p:nvPr/>
        </p:nvPicPr>
        <p:blipFill>
          <a:blip r:embed="rId1"/>
          <a:stretch/>
        </p:blipFill>
        <p:spPr>
          <a:xfrm>
            <a:off x="6948360" y="4221000"/>
            <a:ext cx="2022480" cy="202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arno\AppData\Local\Microsoft\Windows\Temporary Internet Files\Content.IE5\P6FVWHXH\MC900434739[1].png"/>
          <p:cNvPicPr/>
          <p:nvPr/>
        </p:nvPicPr>
        <p:blipFill>
          <a:blip r:embed="rId2"/>
          <a:stretch/>
        </p:blipFill>
        <p:spPr>
          <a:xfrm>
            <a:off x="7093080" y="5100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New Issues from PPSP Requirements (cont’d)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371600"/>
            <a:ext cx="82915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SEC.REQ-7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Decentralized tracking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Need  safe PEX == issue #20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SEC.REQ-9</a:t>
            </a: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: Content integrity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overed, add ref to </a:t>
            </a: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Chung Kei Wong and Simon S. Lam for live (new issue #43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2" marL="1143000" indent="-228600">
              <a:lnSpc>
                <a:spcPct val="134000"/>
              </a:lnSpc>
              <a:spcBef>
                <a:spcPts val="400"/>
              </a:spcBef>
              <a:buClr>
                <a:srgbClr val="210000"/>
              </a:buClr>
              <a:buFont typeface="Verdana"/>
              <a:buChar char="−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3" descr="C:\Users\arno\AppData\Local\Microsoft\Windows\Temporary Internet Files\Content.IE5\C2XZSFKB\MC900370246[1].wmf"/>
          <p:cNvPicPr/>
          <p:nvPr/>
        </p:nvPicPr>
        <p:blipFill>
          <a:blip r:embed="rId1"/>
          <a:stretch/>
        </p:blipFill>
        <p:spPr>
          <a:xfrm>
            <a:off x="7093080" y="4338720"/>
            <a:ext cx="15238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Threat Analysis: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HANDSHAKE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ecured against DoS amplification attacks as proposed in mail dd. Jan 25</a:t>
            </a:r>
            <a:r>
              <a:rPr b="0" lang="en-US" sz="1800" spc="-1" strike="noStrike" baseline="30000">
                <a:solidFill>
                  <a:srgbClr val="21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(and above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Threat 1.1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Eclipse attack where peers T1..TN fill all connection slots of A by initiating the connection to A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olution: Don't accept all incoming connections, initiate e.g. 50% yourself (see also SEC.REQ-6 discussion)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2" descr="C:\Users\arno\AppData\Local\Microsoft\Windows\Temporary Internet Files\Content.IE5\JJ2LADBB\MC900441322[1].png"/>
          <p:cNvPicPr/>
          <p:nvPr/>
        </p:nvPicPr>
        <p:blipFill>
          <a:blip r:embed="rId1"/>
          <a:stretch/>
        </p:blipFill>
        <p:spPr>
          <a:xfrm>
            <a:off x="6807240" y="4437000"/>
            <a:ext cx="18795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Threat Analysis: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HAVE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Threat 2.1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Malicious peer T can claim to have content which it hasn't. Subsequently T won't correspond to requests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olution: peer A will consider T to be a slow peer and not ask it again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Threat 2.2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Malicious peer T can claim not to have content. Hence it won't contribute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olution: Peer+chunk selection policies external to the protocol will implement fairness and provide sharing incentives. Perhaps we should add CHOKE/UNCHOKE messages (Issue #4) as an extra mechanism for these policies to use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" descr="C:\Users\arno\AppData\Local\Microsoft\Windows\Temporary Internet Files\Content.IE5\JJ2LADBB\MC900441322[1].png"/>
          <p:cNvPicPr/>
          <p:nvPr/>
        </p:nvPicPr>
        <p:blipFill>
          <a:blip r:embed="rId1"/>
          <a:stretch/>
        </p:blipFill>
        <p:spPr>
          <a:xfrm>
            <a:off x="7524720" y="5300640"/>
            <a:ext cx="11620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Threat Analysis: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ACK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Threat 3.1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peer T acks wrong chunks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olution: peer A will detect inconsistencies with what it sent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Threat 3.2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peer T modifies timestamp in ACK to peer A used for time-based congestion control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olution: TODO. Could peer T use it to fake there is no congestion when in fact there is, causing A to send more data than it should?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2" descr="C:\Users\arno\AppData\Local\Microsoft\Windows\Temporary Internet Files\Content.IE5\JJ2LADBB\MC900441322[1].png"/>
          <p:cNvPicPr/>
          <p:nvPr/>
        </p:nvPicPr>
        <p:blipFill>
          <a:blip r:embed="rId1"/>
          <a:stretch/>
        </p:blipFill>
        <p:spPr>
          <a:xfrm>
            <a:off x="6807240" y="4437000"/>
            <a:ext cx="18795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Threat Analysis: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DATA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Threat 4.1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peer T sending bogus chunks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olution: The content integrity protection scheme defends against this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Threat 4.2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peer T sends peer A unrequested chunks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To protect against this threat we would need network-level DoS prevention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C:\Users\arno\AppData\Local\Microsoft\Windows\Temporary Internet Files\Content.IE5\JJ2LADBB\MC900441322[1].png"/>
          <p:cNvPicPr/>
          <p:nvPr/>
        </p:nvPicPr>
        <p:blipFill>
          <a:blip r:embed="rId1"/>
          <a:stretch/>
        </p:blipFill>
        <p:spPr>
          <a:xfrm>
            <a:off x="6807240" y="4437000"/>
            <a:ext cx="18795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Threat Analysis: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HASH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Threat 5.1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Amplifcation attack: peer T sends HASHes, peer A checks hashes, spending CPU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olution: If the hashes don't check out A will stop asking T because of the atomic datagram principle and the content integrity protection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2" descr="C:\Users\arno\AppData\Local\Microsoft\Windows\Temporary Internet Files\Content.IE5\JJ2LADBB\MC900441322[1].png"/>
          <p:cNvPicPr/>
          <p:nvPr/>
        </p:nvPicPr>
        <p:blipFill>
          <a:blip r:embed="rId1"/>
          <a:stretch/>
        </p:blipFill>
        <p:spPr>
          <a:xfrm>
            <a:off x="6807240" y="4437000"/>
            <a:ext cx="18795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Changes in -02 (cont’d)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Progressed #41 / PPSP.SEC.REQ-5: Added section on possible ways of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excluding bad or broken peers 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from the system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Moved Rationale to Appendix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esolved #43: Updated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Live Streaming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section to include "Sign All"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content authentication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, and reference to </a:t>
            </a: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[SIGMCAST]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Extended HANDSHAKE message to carry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protocol options 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nd created Section 8 on Protocol options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enamed HASH message to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INTEGRITY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Renamed HINT to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REQUEST</a:t>
            </a: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51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Threat Analysis: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HINT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Threat 6.1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peer T could request lots from A, leaving A without resources for others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olution: Limit upload bandwidth per peer (see also SEC.REQ-6 discussion)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2" descr="C:\Users\arno\AppData\Local\Microsoft\Windows\Temporary Internet Files\Content.IE5\JJ2LADBB\MC900441322[1].png"/>
          <p:cNvPicPr/>
          <p:nvPr/>
        </p:nvPicPr>
        <p:blipFill>
          <a:blip r:embed="rId1"/>
          <a:stretch/>
        </p:blipFill>
        <p:spPr>
          <a:xfrm>
            <a:off x="6807240" y="4437000"/>
            <a:ext cx="18795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Threat Analysis: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PEX_RES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ee above (mail dd. Feb 14</a:t>
            </a:r>
            <a:r>
              <a:rPr b="0" lang="en-US" sz="1800" spc="-1" strike="noStrike" baseline="30000">
                <a:solidFill>
                  <a:srgbClr val="21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2" descr="C:\Users\arno\AppData\Local\Microsoft\Windows\Temporary Internet Files\Content.IE5\JJ2LADBB\MC900441322[1].png"/>
          <p:cNvPicPr/>
          <p:nvPr/>
        </p:nvPicPr>
        <p:blipFill>
          <a:blip r:embed="rId1"/>
          <a:stretch/>
        </p:blipFill>
        <p:spPr>
          <a:xfrm>
            <a:off x="6807240" y="4437000"/>
            <a:ext cx="18795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Threat Analysis: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Unsollicited requests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Threat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peer T could send a spoofed PEX_REQ or HINT from peer B to peer A, causing A to send a PEX_RES/DATA to B.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olution: the message from peer T won't be accepted unless T does a handshake first (see mail dd. Jan 25th.), in which case the reply goes to T, not victim B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2" descr="C:\Users\arno\AppData\Local\Microsoft\Windows\Temporary Internet Files\Content.IE5\JJ2LADBB\MC900441322[1].png"/>
          <p:cNvPicPr/>
          <p:nvPr/>
        </p:nvPicPr>
        <p:blipFill>
          <a:blip r:embed="rId1"/>
          <a:stretch/>
        </p:blipFill>
        <p:spPr>
          <a:xfrm>
            <a:off x="6807240" y="4437000"/>
            <a:ext cx="18795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ummary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No show stoppers!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Need more feedback!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2" descr="C:\Users\arno\AppData\Local\Microsoft\Windows\Temporary Internet Files\Content.IE5\JJ2LADBB\MC900441322[1].png"/>
          <p:cNvPicPr/>
          <p:nvPr/>
        </p:nvPicPr>
        <p:blipFill>
          <a:blip r:embed="rId1"/>
          <a:stretch/>
        </p:blipFill>
        <p:spPr>
          <a:xfrm>
            <a:off x="3348000" y="977760"/>
            <a:ext cx="53388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PPSPP Implementation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rno Bakker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indent="0" algn="ctr">
              <a:lnSpc>
                <a:spcPct val="13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iccardo Petrocco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indent="0" algn="ctr">
              <a:lnSpc>
                <a:spcPct val="13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ichard Marsh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indent="0" algn="ctr">
              <a:lnSpc>
                <a:spcPct val="13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et al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Introduction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wift implemented in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C++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Libevent2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library for socket communication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UDP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Verdana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Multiplexing: Many swarms on same socket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Verdana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IETF LEDBAT congestion contro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Video-on-demand +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live prototype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ource code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www.libswift.org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(GitHub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LGPL License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Verdana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4" descr="apusapus.png"/>
          <p:cNvPicPr/>
          <p:nvPr/>
        </p:nvPicPr>
        <p:blipFill>
          <a:blip r:embed="rId1"/>
          <a:stretch/>
        </p:blipFill>
        <p:spPr>
          <a:xfrm>
            <a:off x="5508720" y="404640"/>
            <a:ext cx="12189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24000" y="90360"/>
            <a:ext cx="9144000" cy="6465960"/>
          </a:xfrm>
          <a:prstGeom prst="rect">
            <a:avLst/>
          </a:prstGeom>
          <a:ln w="0">
            <a:noFill/>
          </a:ln>
        </p:spPr>
      </p:pic>
      <p:sp>
        <p:nvSpPr>
          <p:cNvPr id="192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ummary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More info, sources, binaries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www.libswift.org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cknowledgement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European Community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’s Seventh Framework Programme in the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P2P-Next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project under grant agreement no 216217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7888320" y="5864400"/>
            <a:ext cx="1238040" cy="752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2"/>
          <a:stretch/>
        </p:blipFill>
        <p:spPr>
          <a:xfrm>
            <a:off x="4037040" y="4533840"/>
            <a:ext cx="1238400" cy="752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3"/>
          <a:stretch/>
        </p:blipFill>
        <p:spPr>
          <a:xfrm>
            <a:off x="380880" y="4476600"/>
            <a:ext cx="1238400" cy="752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4"/>
          <a:stretch/>
        </p:blipFill>
        <p:spPr>
          <a:xfrm>
            <a:off x="372960" y="5089680"/>
            <a:ext cx="1238400" cy="75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5"/>
          <a:stretch/>
        </p:blipFill>
        <p:spPr>
          <a:xfrm>
            <a:off x="6649920" y="4479840"/>
            <a:ext cx="1238400" cy="752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"/>
          <p:cNvPicPr/>
          <p:nvPr/>
        </p:nvPicPr>
        <p:blipFill>
          <a:blip r:embed="rId6"/>
          <a:stretch/>
        </p:blipFill>
        <p:spPr>
          <a:xfrm>
            <a:off x="3830760" y="5823000"/>
            <a:ext cx="1238040" cy="752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"/>
          <p:cNvPicPr/>
          <p:nvPr/>
        </p:nvPicPr>
        <p:blipFill>
          <a:blip r:embed="rId7"/>
          <a:stretch/>
        </p:blipFill>
        <p:spPr>
          <a:xfrm>
            <a:off x="2637000" y="4481640"/>
            <a:ext cx="1238040" cy="752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8" descr=""/>
          <p:cNvPicPr/>
          <p:nvPr/>
        </p:nvPicPr>
        <p:blipFill>
          <a:blip r:embed="rId8"/>
          <a:stretch/>
        </p:blipFill>
        <p:spPr>
          <a:xfrm>
            <a:off x="406440" y="5845320"/>
            <a:ext cx="1238040" cy="752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9" descr=""/>
          <p:cNvPicPr/>
          <p:nvPr/>
        </p:nvPicPr>
        <p:blipFill>
          <a:blip r:embed="rId9"/>
          <a:stretch/>
        </p:blipFill>
        <p:spPr>
          <a:xfrm>
            <a:off x="5234040" y="5810400"/>
            <a:ext cx="1238040" cy="752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"/>
          <p:cNvPicPr/>
          <p:nvPr/>
        </p:nvPicPr>
        <p:blipFill>
          <a:blip r:embed="rId10"/>
          <a:stretch/>
        </p:blipFill>
        <p:spPr>
          <a:xfrm>
            <a:off x="6638760" y="5819760"/>
            <a:ext cx="1238400" cy="752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11"/>
          <a:stretch/>
        </p:blipFill>
        <p:spPr>
          <a:xfrm>
            <a:off x="5400720" y="4518000"/>
            <a:ext cx="1238040" cy="752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12"/>
          <a:stretch/>
        </p:blipFill>
        <p:spPr>
          <a:xfrm>
            <a:off x="5211720" y="5273640"/>
            <a:ext cx="1238400" cy="752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13"/>
          <a:stretch/>
        </p:blipFill>
        <p:spPr>
          <a:xfrm>
            <a:off x="1352520" y="4495680"/>
            <a:ext cx="1238400" cy="752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"/>
          <p:cNvPicPr/>
          <p:nvPr/>
        </p:nvPicPr>
        <p:blipFill>
          <a:blip r:embed="rId14"/>
          <a:stretch/>
        </p:blipFill>
        <p:spPr>
          <a:xfrm>
            <a:off x="1455840" y="5089680"/>
            <a:ext cx="1238040" cy="752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" descr=""/>
          <p:cNvPicPr/>
          <p:nvPr/>
        </p:nvPicPr>
        <p:blipFill>
          <a:blip r:embed="rId15"/>
          <a:stretch/>
        </p:blipFill>
        <p:spPr>
          <a:xfrm>
            <a:off x="1519200" y="5810400"/>
            <a:ext cx="1238400" cy="752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"/>
          <p:cNvPicPr/>
          <p:nvPr/>
        </p:nvPicPr>
        <p:blipFill>
          <a:blip r:embed="rId16"/>
          <a:stretch/>
        </p:blipFill>
        <p:spPr>
          <a:xfrm>
            <a:off x="2590920" y="5810400"/>
            <a:ext cx="1239840" cy="752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"/>
          <p:cNvPicPr/>
          <p:nvPr/>
        </p:nvPicPr>
        <p:blipFill>
          <a:blip r:embed="rId17"/>
          <a:stretch/>
        </p:blipFill>
        <p:spPr>
          <a:xfrm>
            <a:off x="6948360" y="5111640"/>
            <a:ext cx="1238400" cy="752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18"/>
          <a:stretch/>
        </p:blipFill>
        <p:spPr>
          <a:xfrm>
            <a:off x="7888320" y="5229360"/>
            <a:ext cx="1238040" cy="752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"/>
          <p:cNvPicPr/>
          <p:nvPr/>
        </p:nvPicPr>
        <p:blipFill>
          <a:blip r:embed="rId19"/>
          <a:stretch/>
        </p:blipFill>
        <p:spPr>
          <a:xfrm>
            <a:off x="8175600" y="4562640"/>
            <a:ext cx="1238400" cy="752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0"/>
          <a:stretch/>
        </p:blipFill>
        <p:spPr>
          <a:xfrm>
            <a:off x="2798640" y="5122800"/>
            <a:ext cx="1238400" cy="752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6" descr=""/>
          <p:cNvPicPr/>
          <p:nvPr/>
        </p:nvPicPr>
        <p:blipFill>
          <a:blip r:embed="rId21"/>
          <a:stretch/>
        </p:blipFill>
        <p:spPr>
          <a:xfrm>
            <a:off x="3836880" y="5154480"/>
            <a:ext cx="123984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100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rno Bakker (arno@cs.vu.nl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indent="0" algn="ctr">
              <a:lnSpc>
                <a:spcPct val="13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iccardo Petrocco &lt;r.petrocco@gmail.com&gt;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indent="0" algn="ctr">
              <a:lnSpc>
                <a:spcPct val="13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Johan Pouwelse (peer2peer@gmail.com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Transport protocols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wift over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UDP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wift as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RTP prof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harter hint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5" descr="C:\Users\arno\AppData\Local\Microsoft\Windows\Temporary Internet Files\Content.IE5\C5CV3WIS\MC900234298[1].wmf"/>
          <p:cNvPicPr/>
          <p:nvPr/>
        </p:nvPicPr>
        <p:blipFill>
          <a:blip r:embed="rId1"/>
          <a:stretch/>
        </p:blipFill>
        <p:spPr>
          <a:xfrm>
            <a:off x="6588000" y="4797360"/>
            <a:ext cx="18417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Changes in -02 (cont’d)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esolved #12: Added a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CANCEL message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to cancel REQUESTs for the same data that were sent to multiple peers at the same time in time-critical situations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54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wift over UDP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25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371600"/>
            <a:ext cx="82026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199080" indent="-199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atagram consists of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channel ID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ple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message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451080" indent="-16272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hannels allow different swarms on single UDP port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199080" indent="-199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Message is fixed length, first byte message ID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199080" indent="-199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IETF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LEDBAT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congestion contro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199080" indent="-199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imple NAT traversal via protocol itself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199080" indent="-199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395280" y="3807000"/>
            <a:ext cx="3552840" cy="2663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2"/>
          <a:stretch/>
        </p:blipFill>
        <p:spPr>
          <a:xfrm>
            <a:off x="4932360" y="3995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Content Placeholder 2"/>
          <p:cNvSpPr/>
          <p:nvPr/>
        </p:nvSpPr>
        <p:spPr>
          <a:xfrm>
            <a:off x="45720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f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cure Real-time Transport Protocol (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RT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layer residing between RTP app and transport lay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hunk = RTP pack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wift as RTP profile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33440" y="3038400"/>
          <a:ext cx="8202600" cy="2863800"/>
        </p:xfrm>
        <a:graphic>
          <a:graphicData uri="http://schemas.openxmlformats.org/drawingml/2006/table">
            <a:tbl>
              <a:tblPr/>
              <a:tblGrid>
                <a:gridCol w="4102200"/>
                <a:gridCol w="410040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  P X CC    M 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quenc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stam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SRC Identif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nsion 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nsion header 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NT+HAVE+HA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 of swift messa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232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wift as RTP profile (cont’d)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TP header protected against malicious modification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Merkle tree can handle variable-sized chunks (if req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dvantages of UDP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Group 50"/>
          <p:cNvGrpSpPr/>
          <p:nvPr/>
        </p:nvGrpSpPr>
        <p:grpSpPr>
          <a:xfrm>
            <a:off x="2106720" y="2960640"/>
            <a:ext cx="4176720" cy="2087640"/>
            <a:chOff x="2106720" y="2960640"/>
            <a:chExt cx="4176720" cy="2087640"/>
          </a:xfrm>
        </p:grpSpPr>
        <p:sp>
          <p:nvSpPr>
            <p:cNvPr id="237" name="AutoShape 9"/>
            <p:cNvSpPr/>
            <p:nvPr/>
          </p:nvSpPr>
          <p:spPr>
            <a:xfrm>
              <a:off x="2106720" y="447300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AutoShape 9"/>
            <p:cNvSpPr/>
            <p:nvPr/>
          </p:nvSpPr>
          <p:spPr>
            <a:xfrm>
              <a:off x="2610720" y="447300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>
              <a:off x="2322720" y="3968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Straight Connector 13"/>
            <p:cNvSpPr/>
            <p:nvPr/>
          </p:nvSpPr>
          <p:spPr>
            <a:xfrm flipH="1">
              <a:off x="2322720" y="4184280"/>
              <a:ext cx="216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Straight Connector 15"/>
            <p:cNvSpPr/>
            <p:nvPr/>
          </p:nvSpPr>
          <p:spPr>
            <a:xfrm>
              <a:off x="3042720" y="367992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AutoShape 9"/>
            <p:cNvSpPr/>
            <p:nvPr/>
          </p:nvSpPr>
          <p:spPr>
            <a:xfrm>
              <a:off x="3186720" y="447300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AutoShape 9"/>
            <p:cNvSpPr/>
            <p:nvPr/>
          </p:nvSpPr>
          <p:spPr>
            <a:xfrm>
              <a:off x="3690720" y="447300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AutoShape 9"/>
            <p:cNvSpPr/>
            <p:nvPr/>
          </p:nvSpPr>
          <p:spPr>
            <a:xfrm>
              <a:off x="3402720" y="3968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Straight Connector 19"/>
            <p:cNvSpPr/>
            <p:nvPr/>
          </p:nvSpPr>
          <p:spPr>
            <a:xfrm flipH="1">
              <a:off x="3403080" y="4184280"/>
              <a:ext cx="216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Straight Connector 20"/>
            <p:cNvSpPr/>
            <p:nvPr/>
          </p:nvSpPr>
          <p:spPr>
            <a:xfrm>
              <a:off x="3619080" y="4184280"/>
              <a:ext cx="288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AutoShape 9"/>
            <p:cNvSpPr/>
            <p:nvPr/>
          </p:nvSpPr>
          <p:spPr>
            <a:xfrm>
              <a:off x="2826720" y="3464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Straight Connector 22"/>
            <p:cNvSpPr/>
            <p:nvPr/>
          </p:nvSpPr>
          <p:spPr>
            <a:xfrm>
              <a:off x="2538720" y="4184640"/>
              <a:ext cx="288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Straight Connector 25"/>
            <p:cNvSpPr/>
            <p:nvPr/>
          </p:nvSpPr>
          <p:spPr>
            <a:xfrm flipH="1">
              <a:off x="2538720" y="3679920"/>
              <a:ext cx="504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4267080" y="4473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AutoShape 9"/>
            <p:cNvSpPr/>
            <p:nvPr/>
          </p:nvSpPr>
          <p:spPr>
            <a:xfrm>
              <a:off x="4771080" y="4473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AutoShape 9"/>
            <p:cNvSpPr/>
            <p:nvPr/>
          </p:nvSpPr>
          <p:spPr>
            <a:xfrm>
              <a:off x="4483080" y="3969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Straight Connector 29"/>
            <p:cNvSpPr/>
            <p:nvPr/>
          </p:nvSpPr>
          <p:spPr>
            <a:xfrm flipH="1">
              <a:off x="4483080" y="4184640"/>
              <a:ext cx="216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Straight Connector 30"/>
            <p:cNvSpPr/>
            <p:nvPr/>
          </p:nvSpPr>
          <p:spPr>
            <a:xfrm>
              <a:off x="5203080" y="368064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AutoShape 9"/>
            <p:cNvSpPr/>
            <p:nvPr/>
          </p:nvSpPr>
          <p:spPr>
            <a:xfrm>
              <a:off x="5347080" y="4473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AutoShape 9"/>
            <p:cNvSpPr/>
            <p:nvPr/>
          </p:nvSpPr>
          <p:spPr>
            <a:xfrm>
              <a:off x="5851440" y="4473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AutoShape 9"/>
            <p:cNvSpPr/>
            <p:nvPr/>
          </p:nvSpPr>
          <p:spPr>
            <a:xfrm>
              <a:off x="5563080" y="3969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Straight Connector 34"/>
            <p:cNvSpPr/>
            <p:nvPr/>
          </p:nvSpPr>
          <p:spPr>
            <a:xfrm flipH="1">
              <a:off x="5563440" y="4184640"/>
              <a:ext cx="216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Straight Connector 35"/>
            <p:cNvSpPr/>
            <p:nvPr/>
          </p:nvSpPr>
          <p:spPr>
            <a:xfrm>
              <a:off x="5779440" y="4184640"/>
              <a:ext cx="288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AutoShape 9"/>
            <p:cNvSpPr/>
            <p:nvPr/>
          </p:nvSpPr>
          <p:spPr>
            <a:xfrm>
              <a:off x="4987080" y="346500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Straight Connector 37"/>
            <p:cNvSpPr/>
            <p:nvPr/>
          </p:nvSpPr>
          <p:spPr>
            <a:xfrm>
              <a:off x="4699080" y="4185360"/>
              <a:ext cx="288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Straight Connector 38"/>
            <p:cNvSpPr/>
            <p:nvPr/>
          </p:nvSpPr>
          <p:spPr>
            <a:xfrm flipH="1">
              <a:off x="4699080" y="3680640"/>
              <a:ext cx="504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AutoShape 9"/>
            <p:cNvSpPr/>
            <p:nvPr/>
          </p:nvSpPr>
          <p:spPr>
            <a:xfrm>
              <a:off x="3907080" y="2960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Straight Connector 40"/>
            <p:cNvSpPr/>
            <p:nvPr/>
          </p:nvSpPr>
          <p:spPr>
            <a:xfrm>
              <a:off x="4123080" y="3175920"/>
              <a:ext cx="100800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Straight Connector 42"/>
            <p:cNvSpPr/>
            <p:nvPr/>
          </p:nvSpPr>
          <p:spPr>
            <a:xfrm flipV="1">
              <a:off x="3042720" y="3175560"/>
              <a:ext cx="1080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utoShape 9"/>
            <p:cNvSpPr/>
            <p:nvPr/>
          </p:nvSpPr>
          <p:spPr>
            <a:xfrm>
              <a:off x="2106720" y="4833000"/>
              <a:ext cx="143280" cy="215280"/>
            </a:xfrm>
            <a:custGeom>
              <a:avLst/>
              <a:gdLst/>
              <a:ahLst/>
              <a:rect l="l" t="t" r="r" b="b"/>
              <a:pathLst>
                <a:path w="21600" h="32427">
                  <a:moveTo>
                    <a:pt x="47" y="0"/>
                  </a:moveTo>
                  <a:arcTo wR="47" hR="47" stAng="16200000" swAng="-5400000"/>
                  <a:lnTo>
                    <a:pt x="0" y="32380"/>
                  </a:lnTo>
                  <a:arcTo wR="47" hR="47" stAng="10800000" swAng="-5400000"/>
                  <a:lnTo>
                    <a:pt x="21553" y="32427"/>
                  </a:lnTo>
                  <a:arcTo wR="47" hR="47" stAng="5400000" swAng="-5400000"/>
                  <a:lnTo>
                    <a:pt x="21600" y="47"/>
                  </a:lnTo>
                  <a:arcTo wR="47" hR="47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AutoShape 9"/>
            <p:cNvSpPr/>
            <p:nvPr/>
          </p:nvSpPr>
          <p:spPr>
            <a:xfrm>
              <a:off x="2610720" y="483300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AutoShape 9"/>
            <p:cNvSpPr/>
            <p:nvPr/>
          </p:nvSpPr>
          <p:spPr>
            <a:xfrm>
              <a:off x="3186720" y="4833000"/>
              <a:ext cx="216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AutoShape 9"/>
            <p:cNvSpPr/>
            <p:nvPr/>
          </p:nvSpPr>
          <p:spPr>
            <a:xfrm>
              <a:off x="3690720" y="4833000"/>
              <a:ext cx="35928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AutoShape 9"/>
            <p:cNvSpPr/>
            <p:nvPr/>
          </p:nvSpPr>
          <p:spPr>
            <a:xfrm>
              <a:off x="4267080" y="4833000"/>
              <a:ext cx="21564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4771080" y="4833000"/>
              <a:ext cx="35964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AutoShape 9"/>
            <p:cNvSpPr/>
            <p:nvPr/>
          </p:nvSpPr>
          <p:spPr>
            <a:xfrm>
              <a:off x="5347080" y="4833000"/>
              <a:ext cx="143640" cy="215280"/>
            </a:xfrm>
            <a:custGeom>
              <a:avLst/>
              <a:gdLst/>
              <a:ahLst/>
              <a:rect l="l" t="t" r="r" b="b"/>
              <a:pathLst>
                <a:path w="21600" h="32346">
                  <a:moveTo>
                    <a:pt x="47" y="0"/>
                  </a:moveTo>
                  <a:arcTo wR="47" hR="47" stAng="16200000" swAng="-5400000"/>
                  <a:lnTo>
                    <a:pt x="0" y="32299"/>
                  </a:lnTo>
                  <a:arcTo wR="47" hR="47" stAng="10800000" swAng="-5400000"/>
                  <a:lnTo>
                    <a:pt x="21553" y="32346"/>
                  </a:lnTo>
                  <a:arcTo wR="47" hR="47" stAng="5400000" swAng="-5400000"/>
                  <a:lnTo>
                    <a:pt x="21600" y="47"/>
                  </a:lnTo>
                  <a:arcTo wR="47" hR="47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AutoShape 9"/>
            <p:cNvSpPr/>
            <p:nvPr/>
          </p:nvSpPr>
          <p:spPr>
            <a:xfrm>
              <a:off x="5851440" y="483300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IEEE P2P’12 Performance Measurements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Two scenarios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Flash crowd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(1 seeder, all peers joins at once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Steady state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(1 seeder, one peer joins per second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Metrics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ompletion time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tartup delay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2" marL="1143000" indent="-228600">
              <a:lnSpc>
                <a:spcPct val="134000"/>
              </a:lnSpc>
              <a:spcBef>
                <a:spcPts val="400"/>
              </a:spcBef>
              <a:buClr>
                <a:srgbClr val="210000"/>
              </a:buClr>
              <a:buFont typeface="Verdana"/>
              <a:buChar char="−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210000"/>
                </a:solidFill>
                <a:latin typeface="Verdana"/>
              </a:rPr>
              <a:t>prebuffering 10 seconds of 14 mbps content</a:t>
            </a:r>
            <a:endParaRPr b="0" lang="en-US" sz="16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Completion time during Flash Crowd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59" name="Footer Placeholder 2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2" descr="C:\Users\arno\Documents\Delft\IETF-PPSP\IETF84-Vancouver\complete.eps"/>
          <p:cNvPicPr/>
          <p:nvPr/>
        </p:nvPicPr>
        <p:blipFill>
          <a:blip r:embed="rId1"/>
          <a:stretch/>
        </p:blipFill>
        <p:spPr>
          <a:xfrm>
            <a:off x="119160" y="1125360"/>
            <a:ext cx="9013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tartup delay during Flash Crowd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62" name="Footer Placeholder 2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2" descr="C:\Users\arno\Documents\Delft\IETF-PPSP\IETF84-Vancouver\startC.eps"/>
          <p:cNvPicPr/>
          <p:nvPr/>
        </p:nvPicPr>
        <p:blipFill>
          <a:blip r:embed="rId1"/>
          <a:stretch/>
        </p:blipFill>
        <p:spPr>
          <a:xfrm>
            <a:off x="171360" y="1557360"/>
            <a:ext cx="89614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Completion time in steady state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65" name="Footer Placeholder 2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2" descr="C:\Users\arno\Documents\Delft\IETF-PPSP\IETF84-Vancouver\complete_wl.eps"/>
          <p:cNvPicPr/>
          <p:nvPr/>
        </p:nvPicPr>
        <p:blipFill>
          <a:blip r:embed="rId1"/>
          <a:stretch/>
        </p:blipFill>
        <p:spPr>
          <a:xfrm>
            <a:off x="96840" y="1197000"/>
            <a:ext cx="90471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tartup delay in steady state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68" name="Footer Placeholder 2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Delft University of Technology, IETF 84 PPSP WG  01.08.2012, Vancou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2" descr="C:\Users\arno\Documents\Delft\IETF-PPSP\IETF84-Vancouver\startC_wl.eps"/>
          <p:cNvPicPr/>
          <p:nvPr/>
        </p:nvPicPr>
        <p:blipFill>
          <a:blip r:embed="rId1"/>
          <a:stretch/>
        </p:blipFill>
        <p:spPr>
          <a:xfrm>
            <a:off x="-92160" y="1557360"/>
            <a:ext cx="92361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o</dc:creator>
  <dc:description/>
  <dc:language>en-US</dc:language>
  <cp:lastModifiedBy>Arno Bakker</cp:lastModifiedBy>
  <dcterms:modified xsi:type="dcterms:W3CDTF">2012-07-25T10:55:53Z</dcterms:modified>
  <cp:revision>389</cp:revision>
  <dc:subject/>
  <dc:title>PowerPoint Presentation</dc:title>
</cp:coreProperties>
</file>