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FA3-1411-4A9F-B7C1-F508AB8B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D78E-7B0A-43C9-9A77-F8C98196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C6A-FED3-4C5E-9CDB-8539BA6D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1CBA-88F8-40AE-B620-7D36939C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FA5-9D7C-49B1-B696-71CB6190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7984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840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7128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7984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840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4AA3-52B5-428E-91CD-0A6AE1EF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8616-3255-4FAA-BC27-F405E2D7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E5BF-F009-4771-8496-A11D04E4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2D33-0AA2-4AA1-B07C-D5079A40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90DE-F141-4964-ABCA-91C9F20C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79E-3FAD-4F2A-8999-AE00227E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09BA-F10D-4FCA-8991-8A719587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E7E4-1E83-414C-9FE9-BBFA8EC9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E7C9-C474-49C1-B7B0-F10835BB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BA08-1A62-4F2C-B95F-5EB26F6F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AD72-7421-4ECE-B67F-4E8BC8E6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E40C-48ED-4E88-950F-F049A236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7984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88400" y="112536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97128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7984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88400" y="3682800"/>
            <a:ext cx="2484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DD80-10AA-483D-8D29-92A28505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7599-7584-4F5E-B6CE-551006B9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A332-CEED-4602-8475-534C98E4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729C-280D-4FD5-8825-7204881A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BA0-A0F4-4182-BF08-BC6C1654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68280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05D-6A50-4FDD-B28C-376F50B8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125360"/>
            <a:ext cx="37648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682800"/>
            <a:ext cx="7715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062-8901-4C05-9C84-859E9690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79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093000"/>
            <a:ext cx="21337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092640"/>
            <a:ext cx="28954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92640"/>
            <a:ext cx="213372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2FE5-3D49-4AF1-8B20-9E2DF0D5C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1-content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79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71280" y="112536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137C-382B-411C-8A75-54548D100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611280" y="620640"/>
            <a:ext cx="82058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CCP extension for the MSP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835280" y="2060640"/>
            <a:ext cx="640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ft-hao-pwe3-iccp-extension-for-msp-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1763640" y="3068640"/>
            <a:ext cx="423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E3      IETF 84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979640" y="4941720"/>
            <a:ext cx="496872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gjie Hao     Weiqiang Ch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uxia Ma            Daniel C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500040" y="2268360"/>
            <a:ext cx="807264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s to version 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o-auth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qiang Cheng (China Mob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iel Cohn (Orckit-Corri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edited text  for purpose of clear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571680" y="1125360"/>
            <a:ext cx="8229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79e"/>
                </a:solidFill>
                <a:latin typeface="Times New Roman"/>
                <a:ea typeface="黑体"/>
              </a:rPr>
              <a:t>Updates 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383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e"/>
                </a:solidFill>
                <a:latin typeface="Times New Roman"/>
                <a:ea typeface="Times New Roman"/>
              </a:rPr>
              <a:t>Updates (2)  </a:t>
            </a:r>
            <a:endParaRPr b="1" lang="en-US" sz="32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00040" y="2363760"/>
            <a:ext cx="831996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clause 5  “PE Node Failur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orking PE node fails, protection PE node sends SF-W over K1 and follows normal MSP procedure for this con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Error in this clause in -03 will be fixed in next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8510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e"/>
                </a:solidFill>
                <a:latin typeface="Times New Roman"/>
                <a:ea typeface="Times New Roman"/>
              </a:rPr>
              <a:t>Updates (3)</a:t>
            </a:r>
            <a:endParaRPr b="1" lang="en-US" sz="32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00040" y="2076480"/>
            <a:ext cx="831996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 the principles of op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 PE node calculates state machine output and sends it to working PE n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SONET APS (only semantic changes in introdu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r changes to TL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79e"/>
                </a:solidFill>
                <a:latin typeface="Times New Roman"/>
                <a:ea typeface="Times New Roman"/>
              </a:rPr>
              <a:t>Updates (4) </a:t>
            </a:r>
            <a:endParaRPr b="1" lang="en-US" sz="3200" spc="-1" strike="noStrike">
              <a:solidFill>
                <a:srgbClr val="16579e"/>
              </a:solidFill>
              <a:latin typeface="Arial"/>
            </a:endParaRPr>
          </a:p>
        </p:txBody>
      </p:sp>
      <p:sp>
        <p:nvSpPr>
          <p:cNvPr id="130" name="直接连接符 41"/>
          <p:cNvSpPr/>
          <p:nvPr/>
        </p:nvSpPr>
        <p:spPr>
          <a:xfrm>
            <a:off x="2556000" y="4257720"/>
            <a:ext cx="2447640" cy="0"/>
          </a:xfrm>
          <a:prstGeom prst="line">
            <a:avLst/>
          </a:prstGeom>
          <a:ln w="1908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42"/>
          <p:cNvSpPr/>
          <p:nvPr/>
        </p:nvSpPr>
        <p:spPr>
          <a:xfrm>
            <a:off x="2556000" y="4437000"/>
            <a:ext cx="2447640" cy="1008000"/>
          </a:xfrm>
          <a:prstGeom prst="line">
            <a:avLst/>
          </a:prstGeom>
          <a:ln w="1908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4"/>
          <p:cNvSpPr/>
          <p:nvPr/>
        </p:nvSpPr>
        <p:spPr>
          <a:xfrm>
            <a:off x="5435640" y="4581360"/>
            <a:ext cx="0" cy="719280"/>
          </a:xfrm>
          <a:prstGeom prst="line">
            <a:avLst/>
          </a:prstGeom>
          <a:ln w="190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7"/>
          <p:cNvSpPr/>
          <p:nvPr/>
        </p:nvSpPr>
        <p:spPr>
          <a:xfrm>
            <a:off x="2527200" y="564192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E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8"/>
          <p:cNvSpPr/>
          <p:nvPr/>
        </p:nvSpPr>
        <p:spPr>
          <a:xfrm>
            <a:off x="250920" y="1341360"/>
            <a:ext cx="820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3G access nodes that typically connect to the network using Ethernet interfaces coexist with 2G access nodes that typically connect to the network using SDH inte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/>
          <p:cNvSpPr/>
          <p:nvPr/>
        </p:nvSpPr>
        <p:spPr>
          <a:xfrm>
            <a:off x="5003640" y="3933720"/>
            <a:ext cx="863640" cy="647640"/>
          </a:xfrm>
          <a:prstGeom prst="rect">
            <a:avLst/>
          </a:prstGeom>
          <a:solidFill>
            <a:srgbClr val="6699ff"/>
          </a:solidFill>
          <a:ln w="25560">
            <a:solidFill>
              <a:srgbClr val="00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/>
          <p:cNvSpPr/>
          <p:nvPr/>
        </p:nvSpPr>
        <p:spPr>
          <a:xfrm>
            <a:off x="5022720" y="5300640"/>
            <a:ext cx="865440" cy="649440"/>
          </a:xfrm>
          <a:prstGeom prst="rect">
            <a:avLst/>
          </a:prstGeom>
          <a:solidFill>
            <a:srgbClr val="6699ff"/>
          </a:solidFill>
          <a:ln w="25560">
            <a:solidFill>
              <a:srgbClr val="00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9"/>
          <p:cNvSpPr/>
          <p:nvPr/>
        </p:nvSpPr>
        <p:spPr>
          <a:xfrm>
            <a:off x="2050920" y="3789360"/>
            <a:ext cx="505080" cy="934920"/>
          </a:xfrm>
          <a:prstGeom prst="rect">
            <a:avLst/>
          </a:prstGeom>
          <a:solidFill>
            <a:srgbClr val="bed0f5"/>
          </a:solidFill>
          <a:ln w="25560">
            <a:solidFill>
              <a:srgbClr val="00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0"/>
          <p:cNvSpPr/>
          <p:nvPr/>
        </p:nvSpPr>
        <p:spPr>
          <a:xfrm>
            <a:off x="2050920" y="5516640"/>
            <a:ext cx="505080" cy="936720"/>
          </a:xfrm>
          <a:prstGeom prst="rect">
            <a:avLst/>
          </a:prstGeom>
          <a:solidFill>
            <a:srgbClr val="bed0f5"/>
          </a:solidFill>
          <a:ln w="25560">
            <a:solidFill>
              <a:srgbClr val="00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71"/>
          <p:cNvSpPr/>
          <p:nvPr/>
        </p:nvSpPr>
        <p:spPr>
          <a:xfrm flipV="1">
            <a:off x="2556000" y="4436640"/>
            <a:ext cx="2447640" cy="1295640"/>
          </a:xfrm>
          <a:prstGeom prst="line">
            <a:avLst/>
          </a:prstGeom>
          <a:ln w="1908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73"/>
          <p:cNvSpPr/>
          <p:nvPr/>
        </p:nvSpPr>
        <p:spPr>
          <a:xfrm flipV="1">
            <a:off x="2556000" y="5624640"/>
            <a:ext cx="2466720" cy="396720"/>
          </a:xfrm>
          <a:prstGeom prst="line">
            <a:avLst/>
          </a:prstGeom>
          <a:ln w="1908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3"/>
          <p:cNvSpPr/>
          <p:nvPr/>
        </p:nvSpPr>
        <p:spPr>
          <a:xfrm>
            <a:off x="7236000" y="3916440"/>
            <a:ext cx="865080" cy="649080"/>
          </a:xfrm>
          <a:prstGeom prst="rect">
            <a:avLst/>
          </a:prstGeom>
          <a:solidFill>
            <a:srgbClr val="6699ff"/>
          </a:solidFill>
          <a:ln w="25560">
            <a:solidFill>
              <a:srgbClr val="00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"/>
          <p:cNvSpPr/>
          <p:nvPr/>
        </p:nvSpPr>
        <p:spPr>
          <a:xfrm>
            <a:off x="7236000" y="5283360"/>
            <a:ext cx="865080" cy="649080"/>
          </a:xfrm>
          <a:prstGeom prst="rect">
            <a:avLst/>
          </a:prstGeom>
          <a:solidFill>
            <a:srgbClr val="6699ff"/>
          </a:solidFill>
          <a:ln w="25560">
            <a:solidFill>
              <a:srgbClr val="00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5"/>
          <p:cNvSpPr/>
          <p:nvPr/>
        </p:nvSpPr>
        <p:spPr>
          <a:xfrm flipV="1">
            <a:off x="5867280" y="4241880"/>
            <a:ext cx="1368720" cy="15840"/>
          </a:xfrm>
          <a:prstGeom prst="line">
            <a:avLst/>
          </a:prstGeom>
          <a:ln w="19080">
            <a:solidFill>
              <a:srgbClr val="40404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6"/>
          <p:cNvSpPr/>
          <p:nvPr/>
        </p:nvSpPr>
        <p:spPr>
          <a:xfrm>
            <a:off x="7667640" y="4581360"/>
            <a:ext cx="0" cy="719280"/>
          </a:xfrm>
          <a:prstGeom prst="line">
            <a:avLst/>
          </a:prstGeom>
          <a:ln w="190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7"/>
          <p:cNvSpPr/>
          <p:nvPr/>
        </p:nvSpPr>
        <p:spPr>
          <a:xfrm flipV="1">
            <a:off x="5867280" y="5589720"/>
            <a:ext cx="1368720" cy="15840"/>
          </a:xfrm>
          <a:prstGeom prst="line">
            <a:avLst/>
          </a:prstGeom>
          <a:ln w="19080">
            <a:solidFill>
              <a:srgbClr val="404040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18"/>
          <p:cNvSpPr/>
          <p:nvPr/>
        </p:nvSpPr>
        <p:spPr>
          <a:xfrm>
            <a:off x="3238560" y="3699000"/>
            <a:ext cx="431640" cy="1368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8"/>
          <p:cNvSpPr/>
          <p:nvPr/>
        </p:nvSpPr>
        <p:spPr>
          <a:xfrm>
            <a:off x="3564000" y="3716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M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20"/>
          <p:cNvSpPr/>
          <p:nvPr/>
        </p:nvSpPr>
        <p:spPr>
          <a:xfrm>
            <a:off x="3060720" y="5157720"/>
            <a:ext cx="431640" cy="1366920"/>
          </a:xfrm>
          <a:prstGeom prst="ellipse">
            <a:avLst/>
          </a:prstGeom>
          <a:noFill/>
          <a:ln w="25560">
            <a:solidFill>
              <a:srgbClr val="92d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48"/>
          <p:cNvSpPr/>
          <p:nvPr/>
        </p:nvSpPr>
        <p:spPr>
          <a:xfrm>
            <a:off x="3419640" y="6237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48"/>
          <p:cNvSpPr/>
          <p:nvPr/>
        </p:nvSpPr>
        <p:spPr>
          <a:xfrm>
            <a:off x="2627280" y="42926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S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857160" y="2781360"/>
            <a:ext cx="6600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more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980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79e"/>
                </a:solidFill>
                <a:latin typeface="Times New Roman"/>
                <a:ea typeface="Times New Roman"/>
              </a:rPr>
              <a:t>Next step</a:t>
            </a:r>
            <a:endParaRPr b="1" lang="en-US" sz="3000" spc="-1" strike="noStrike">
              <a:solidFill>
                <a:srgbClr val="16579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10"/>
          <p:cNvSpPr txBox="1"/>
          <p:nvPr/>
        </p:nvSpPr>
        <p:spPr>
          <a:xfrm>
            <a:off x="3348000" y="2781360"/>
            <a:ext cx="2735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Thank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2:00:26Z</dcterms:created>
  <dc:creator>sony</dc:creator>
  <dc:description/>
  <dc:language>en-US</dc:language>
  <cp:lastModifiedBy>myx</cp:lastModifiedBy>
  <dcterms:modified xsi:type="dcterms:W3CDTF">2012-07-25T08:33:27Z</dcterms:modified>
  <cp:revision>89</cp:revision>
  <dc:subject/>
  <dc:title>ICCP extension for the MSP application</dc:title>
</cp:coreProperties>
</file>