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03A-3F9B-43F2-8FE4-D747A56F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F09-8EA2-4B63-87F6-D31594A9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693-876C-4A33-B7C4-8DE43457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9D7-4494-43C3-AF6E-0476383C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E06-5B02-4923-B711-9C59EC8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E9F7-0DCA-4C7A-8473-C44410E6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CB5D-954F-4902-B556-AD9DE7A4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D455-C877-4598-A8E5-66DBBAEB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3453-207F-4CE3-87C8-CF9B339A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90C0-C96E-484A-B0EF-1F95D367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037-D449-4A42-B6BC-1E28A99E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2F32-7A9C-4417-AAA4-CFAF4DA0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89F2-4525-41B1-9D0C-95C913B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744E-4978-416A-B95D-CFFAD4A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64BA-4ACE-4135-BBBB-B1A7BCBC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D3A-D759-45F6-8C0D-D1A00DF3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2619-F3B5-42DA-928E-AF5765A5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1CA8-3C73-4179-8542-AAACC61C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7C5-B133-4379-B81D-B3ABD9A7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7A5-01FA-487E-B58F-A1F3EF37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19F-77D1-4498-8A6A-6C252E51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984-4B5E-4B6E-91D9-7BD91305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148-34F5-4A07-89D3-527FC56E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AC3-3A74-45D2-B5F5-852F3890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093000"/>
            <a:ext cx="2133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092640"/>
            <a:ext cx="28954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2640"/>
            <a:ext cx="21337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6A9A-E866-4DA3-928A-D23282F6B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-content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4064-4371-4B0B-A2F2-7F0578C96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611280" y="620640"/>
            <a:ext cx="82058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CCP extension for the MSP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835280" y="206064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ft-hao-pwe3-iccp-extension-for-msp-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763640" y="3068640"/>
            <a:ext cx="423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E3      IETF 8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979640" y="4941720"/>
            <a:ext cx="49687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gjie Hao     Weiqiang Ch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xia Ma            Daniel 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500040" y="2268360"/>
            <a:ext cx="80726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s to version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-auth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qiang Cheng (China Mob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Cohn (Orckit-Corri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edited text  for purpose of clear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571680" y="112536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黑体"/>
              </a:rPr>
              <a:t>Updates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38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(2)  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2363760"/>
            <a:ext cx="831996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lause 5  “PE Node Failur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orking PE node fails, protection PE node sends SF-W over K1 and follows normal MSP procedure for this con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Error in this clause in -03 will be fixed in next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510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(3)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00040" y="2076480"/>
            <a:ext cx="831996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principles of op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PE node calculates state machine output and sends it to working PE n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ONET APS (only semantic changes in introd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changes to TL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(4) 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30" name="直接连接符 41"/>
          <p:cNvSpPr/>
          <p:nvPr/>
        </p:nvSpPr>
        <p:spPr>
          <a:xfrm>
            <a:off x="2556000" y="4257720"/>
            <a:ext cx="2447640" cy="0"/>
          </a:xfrm>
          <a:prstGeom prst="line">
            <a:avLst/>
          </a:prstGeom>
          <a:ln w="1908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42"/>
          <p:cNvSpPr/>
          <p:nvPr/>
        </p:nvSpPr>
        <p:spPr>
          <a:xfrm>
            <a:off x="2556000" y="4437000"/>
            <a:ext cx="2447640" cy="1008000"/>
          </a:xfrm>
          <a:prstGeom prst="line">
            <a:avLst/>
          </a:prstGeom>
          <a:ln w="1908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"/>
          <p:cNvSpPr/>
          <p:nvPr/>
        </p:nvSpPr>
        <p:spPr>
          <a:xfrm>
            <a:off x="5435640" y="4581360"/>
            <a:ext cx="0" cy="71928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7"/>
          <p:cNvSpPr/>
          <p:nvPr/>
        </p:nvSpPr>
        <p:spPr>
          <a:xfrm>
            <a:off x="2527200" y="564192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E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8"/>
          <p:cNvSpPr/>
          <p:nvPr/>
        </p:nvSpPr>
        <p:spPr>
          <a:xfrm>
            <a:off x="250920" y="1341360"/>
            <a:ext cx="820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3G access nodes that typically connect to the network using Ethernet interfaces coexist with 2G access nodes that typically connect to the network using SDH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5003640" y="3933720"/>
            <a:ext cx="863640" cy="647640"/>
          </a:xfrm>
          <a:prstGeom prst="rect">
            <a:avLst/>
          </a:prstGeom>
          <a:solidFill>
            <a:srgbClr val="6699ff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5022720" y="5300640"/>
            <a:ext cx="865440" cy="649440"/>
          </a:xfrm>
          <a:prstGeom prst="rect">
            <a:avLst/>
          </a:prstGeom>
          <a:solidFill>
            <a:srgbClr val="6699ff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2050920" y="3789360"/>
            <a:ext cx="505080" cy="934920"/>
          </a:xfrm>
          <a:prstGeom prst="rect">
            <a:avLst/>
          </a:prstGeom>
          <a:solidFill>
            <a:srgbClr val="bed0f5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2050920" y="5516640"/>
            <a:ext cx="505080" cy="936720"/>
          </a:xfrm>
          <a:prstGeom prst="rect">
            <a:avLst/>
          </a:prstGeom>
          <a:solidFill>
            <a:srgbClr val="bed0f5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71"/>
          <p:cNvSpPr/>
          <p:nvPr/>
        </p:nvSpPr>
        <p:spPr>
          <a:xfrm flipV="1">
            <a:off x="2556000" y="4436640"/>
            <a:ext cx="2447640" cy="1295640"/>
          </a:xfrm>
          <a:prstGeom prst="line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73"/>
          <p:cNvSpPr/>
          <p:nvPr/>
        </p:nvSpPr>
        <p:spPr>
          <a:xfrm flipV="1">
            <a:off x="2556000" y="5624640"/>
            <a:ext cx="2466720" cy="396720"/>
          </a:xfrm>
          <a:prstGeom prst="line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7236000" y="3916440"/>
            <a:ext cx="865080" cy="6490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7236000" y="5283360"/>
            <a:ext cx="865080" cy="6490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5"/>
          <p:cNvSpPr/>
          <p:nvPr/>
        </p:nvSpPr>
        <p:spPr>
          <a:xfrm flipV="1">
            <a:off x="5867280" y="4241880"/>
            <a:ext cx="1368720" cy="15840"/>
          </a:xfrm>
          <a:prstGeom prst="line">
            <a:avLst/>
          </a:prstGeom>
          <a:ln w="19080">
            <a:solidFill>
              <a:srgbClr val="40404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6"/>
          <p:cNvSpPr/>
          <p:nvPr/>
        </p:nvSpPr>
        <p:spPr>
          <a:xfrm>
            <a:off x="7667640" y="4581360"/>
            <a:ext cx="0" cy="71928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 flipV="1">
            <a:off x="5867280" y="5589720"/>
            <a:ext cx="1368720" cy="15840"/>
          </a:xfrm>
          <a:prstGeom prst="line">
            <a:avLst/>
          </a:prstGeom>
          <a:ln w="19080">
            <a:solidFill>
              <a:srgbClr val="40404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8"/>
          <p:cNvSpPr/>
          <p:nvPr/>
        </p:nvSpPr>
        <p:spPr>
          <a:xfrm>
            <a:off x="3238560" y="3699000"/>
            <a:ext cx="431640" cy="1368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8"/>
          <p:cNvSpPr/>
          <p:nvPr/>
        </p:nvSpPr>
        <p:spPr>
          <a:xfrm>
            <a:off x="3564000" y="3716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M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20"/>
          <p:cNvSpPr/>
          <p:nvPr/>
        </p:nvSpPr>
        <p:spPr>
          <a:xfrm>
            <a:off x="3060720" y="5157720"/>
            <a:ext cx="431640" cy="1366920"/>
          </a:xfrm>
          <a:prstGeom prst="ellipse">
            <a:avLst/>
          </a:prstGeom>
          <a:noFill/>
          <a:ln w="2556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8"/>
          <p:cNvSpPr/>
          <p:nvPr/>
        </p:nvSpPr>
        <p:spPr>
          <a:xfrm>
            <a:off x="3419640" y="623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8"/>
          <p:cNvSpPr/>
          <p:nvPr/>
        </p:nvSpPr>
        <p:spPr>
          <a:xfrm>
            <a:off x="2627280" y="4292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57160" y="2781360"/>
            <a:ext cx="6600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more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980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Next step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10"/>
          <p:cNvSpPr txBox="1"/>
          <p:nvPr/>
        </p:nvSpPr>
        <p:spPr>
          <a:xfrm>
            <a:off x="3348000" y="2781360"/>
            <a:ext cx="2735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Thank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2:00:26Z</dcterms:created>
  <dc:creator>sony</dc:creator>
  <dc:description/>
  <dc:language>en-US</dc:language>
  <cp:lastModifiedBy>myx</cp:lastModifiedBy>
  <dcterms:modified xsi:type="dcterms:W3CDTF">2012-07-25T08:33:27Z</dcterms:modified>
  <cp:revision>89</cp:revision>
  <dc:subject/>
  <dc:title>ICCP extension for the MSP application</dc:title>
</cp:coreProperties>
</file>