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9D6-530D-4F5A-9257-E47D2B13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810-CD54-4BA2-B8ED-9349BCBC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A38-7F28-417C-8543-1244E6E8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BEF-8F8E-4061-A64A-106B6C2F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AF4-5B58-468D-A941-C2D37F35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B98-BB74-40A2-8F5B-252645B9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5FE-5BB2-442E-8EF7-E84D9BC1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912-CB53-4E1A-84E7-712EFCEB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3BE-3200-455E-9B6C-306F2C9E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CCA-896B-437C-9C5B-5161E1B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97F-38ED-422F-A147-77A65AF1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288-9753-4EFF-9C30-A511FC73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fld id="{A955ABE1-EABA-4828-84A6-53D25C69B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476000"/>
            <a:ext cx="8605800" cy="24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84 – Vancouver, Canada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t SDH/SONET over Pack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raft-manhoudt-pwe3-tsop-00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68360" y="4282560"/>
            <a:ext cx="741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. Manhoud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gmanhoudt@aimvalley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. Roul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tephan.roullot@alcatel-luc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Robe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peter.roberts@alcatel-luc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eudowire mechanism for STM-N/OC-M transport is needed,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integration in small NID or SF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inimal network management impact, an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ransparent for STM-N (incl. Section OH &amp; Syn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’s solution RFC 4842 (CE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ull STM-N termination in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s VCs in different PWs (to different destin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s STM-N management path (D-bytes), APS channel (K-bytes) and Section PM (B2, M1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 not transparent to SDH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solution: TS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oP carries STM-N transparently over MP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ly comparable to STM-N over OT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to-1 relation between STM-N client and TSoP P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oP is modeled after SAToP (RFC 45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Control Word and RTP Header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M-N overhead 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 STM-N bitstream in equal sized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lient signal bitrate is rele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oP supports SDH (STM-N) and SONET (OC-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oP 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11640" y="2685960"/>
            <a:ext cx="3456000" cy="1944720"/>
          </a:xfrm>
          <a:prstGeom prst="cloudCallout">
            <a:avLst>
              <a:gd name="adj1" fmla="val -3513"/>
              <a:gd name="adj2" fmla="val 208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8720" y="3044880"/>
            <a:ext cx="1008000" cy="122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08360" y="3046320"/>
            <a:ext cx="1008000" cy="122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000" y="3046320"/>
            <a:ext cx="865440" cy="122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D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67640" y="3046320"/>
            <a:ext cx="865440" cy="122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D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655640" y="34066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55640" y="39117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200720" y="34066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1080" y="39117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60720" y="3335400"/>
            <a:ext cx="14292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28720" y="4316400"/>
            <a:ext cx="1056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M-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32000" y="39830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1800" y="3335400"/>
            <a:ext cx="1425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89800" y="4343400"/>
            <a:ext cx="1056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M-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93080" y="39830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96000" y="3335400"/>
            <a:ext cx="1443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76720" y="4675320"/>
            <a:ext cx="1584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oP P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68720" y="39830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808000" y="255600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08360" y="2398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16720" y="2398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09760" y="2195640"/>
            <a:ext cx="2006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oP Pseudo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03000" y="5292720"/>
            <a:ext cx="1843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-bound I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TSoP 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024360" y="3838680"/>
            <a:ext cx="57600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00360" y="39117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1640" y="40543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024360" y="3335400"/>
            <a:ext cx="57600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600000" y="34066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624000" y="3838680"/>
            <a:ext cx="57636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624000" y="3335400"/>
            <a:ext cx="57636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12000" y="40543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72400" y="5278320"/>
            <a:ext cx="1843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N-bound I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SoP 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655280" y="205092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569440" y="1895400"/>
            <a:ext cx="0" cy="1092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73200" y="1692360"/>
            <a:ext cx="3480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M-N/OC-M (multiplex)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55640" y="1908000"/>
            <a:ext cx="0" cy="1092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: Timing transpar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oP sender MUST insert RTP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oP receiver MU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STM-N bit-count (using SQ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 G.825/GR-253 jitter and wander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20 ppm G-AIS during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oP receiver implementation is not pre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, differential or other scheme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” of TSoP receiver clock not further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with design considerations can b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IP/UDP transport option from draf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comments from pwe3 list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n appendix on timing transparency in relation to RFC 4197 synchronization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ise to ITU-T SG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meeting: September 10-21, 2012, Gen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adoption as WG draft after inclusion of ITU-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7:15:16Z</dcterms:created>
  <dc:creator>Gert Manhoudt</dc:creator>
  <dc:description/>
  <dc:language>en-US</dc:language>
  <cp:lastModifiedBy>Gert Manhoudt</cp:lastModifiedBy>
  <dcterms:modified xsi:type="dcterms:W3CDTF">2012-07-24T15:35:40Z</dcterms:modified>
  <cp:revision>23</cp:revision>
  <dc:subject/>
  <dc:title>Transparent SDH/SONET over Packet (draft-manhoudt-pwe3-tsop-00)  </dc:title>
</cp:coreProperties>
</file>