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891-6B1D-4FE8-AE3F-4226F9DD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8D7-DBBF-4AD2-B5D5-F91AB796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5C5-6BDA-4E03-B7A6-516A1D4A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83D-4900-49CE-95E5-7D0D3C60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F6D-6982-43B3-97F0-ADEC80B7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41B-27F2-47AC-9A8A-F1BF2866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C8D-9787-45DF-BE86-2656820A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542-B09A-42DB-BEFB-49DAA700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B53-1983-4B0D-8137-EA0FC52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630-E526-401C-829A-D9A4A3A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53F-70FD-45E6-B108-37AB52C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A01-7A83-42F3-A5A7-4800FE3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fld id="{8700F29B-6872-4C68-A5E5-CFBCFFD21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476000"/>
            <a:ext cx="860580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4 – Vancouver, Canad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SDH/SONET over Pack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aft-manhoudt-pwe3-tsop-00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8360" y="4282560"/>
            <a:ext cx="741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 Manhou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gmanhoudt@aimvalley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 Roul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ephan.roullot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Robe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eter.roberts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eudowire mechanism for STM-N/OC-M transport is needed,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integration in small NID or SF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inimal network management impact, 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ansparent for STM-N (incl. Section OH &amp; Syn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solution RFC 4842 (CE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ull STM-N termination in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VCs in different PWs (to different destin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STM-N management path (D-bytes), APS channel (K-bytes) and Section PM (B2, M1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not transparent to SDH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olution: TS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carries STM-N transparently over MP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ly comparable to STM-N over OT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to-1 relation between STM-N client and TSoP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is modeled after SAToP (RFC 45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ontrol Word and RTP Heade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M-N overhead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 STM-N bitstream in equal siz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lient signal bitrate is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oP supports SDH (STM-N) and SONET (OC-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oP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11640" y="2685960"/>
            <a:ext cx="3456000" cy="1944720"/>
          </a:xfrm>
          <a:prstGeom prst="cloudCallout">
            <a:avLst>
              <a:gd name="adj1" fmla="val -3513"/>
              <a:gd name="adj2" fmla="val 208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8720" y="3044880"/>
            <a:ext cx="1008000" cy="122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08360" y="3046320"/>
            <a:ext cx="1008000" cy="12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3046320"/>
            <a:ext cx="865440" cy="12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67640" y="3046320"/>
            <a:ext cx="865440" cy="12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55640" y="34066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5640" y="39117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200720" y="34066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39117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720" y="3335400"/>
            <a:ext cx="1429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8720" y="4316400"/>
            <a:ext cx="1056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M-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2000" y="39830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1800" y="3335400"/>
            <a:ext cx="1425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89800" y="4343400"/>
            <a:ext cx="1056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M-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93080" y="39830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3335400"/>
            <a:ext cx="144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4675320"/>
            <a:ext cx="1584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oP P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8720" y="39830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808000" y="2556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08360" y="2398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16720" y="2398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09760" y="2195640"/>
            <a:ext cx="2006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oP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03000" y="5292720"/>
            <a:ext cx="1843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-bound I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TSoP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24360" y="3838680"/>
            <a:ext cx="57600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00360" y="39117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1640" y="40543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24360" y="3335400"/>
            <a:ext cx="57600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00000" y="34066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624000" y="3838680"/>
            <a:ext cx="576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24000" y="3335400"/>
            <a:ext cx="576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12000" y="40543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72400" y="5278320"/>
            <a:ext cx="1843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N-bound I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SoP 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55280" y="20509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69440" y="1895400"/>
            <a:ext cx="0" cy="109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73200" y="1692360"/>
            <a:ext cx="348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M-N/OC-M (multiplex)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5640" y="1908000"/>
            <a:ext cx="0" cy="109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 Timing transpar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sender MUST insert RTP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receiver MU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TM-N bit-count (using SQ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G.825/GR-253 jitter and wand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20 ppm G-AIS during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P receiver implementation is not pr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, differential or other scheme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” of TSoP receiver clock not further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with design considerations can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IP/UDP transport option from dra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mments from pwe3 list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n appendix on timing transparency in relation to RFC 4197 synchronizati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e to ITU-T SG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: September 10-21, 2012,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adoption as WG draft after inclusion of ITU-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7:15:16Z</dcterms:created>
  <dc:creator>Gert Manhoudt</dc:creator>
  <dc:description/>
  <dc:language>en-US</dc:language>
  <cp:lastModifiedBy>Gert Manhoudt</cp:lastModifiedBy>
  <dcterms:modified xsi:type="dcterms:W3CDTF">2012-07-24T15:35:40Z</dcterms:modified>
  <cp:revision>23</cp:revision>
  <dc:subject/>
  <dc:title>Transparent SDH/SONET over Packet (draft-manhoudt-pwe3-tsop-00)  </dc:title>
</cp:coreProperties>
</file>