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A0AD-ED30-4169-84E7-5C0E38AF418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6DFE-DFDD-4729-9BA0-8CD2D6C5E8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FE5-6819-43C7-9966-00551562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CFE-396F-40AE-8543-2CAC9550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FAB81-1C3F-4FDA-B040-956915F8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38308-EE6E-4868-8782-1146DAE6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F29F9-7D43-40EA-9F13-6FD05112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0241C-36A2-4EE3-B68B-5B1C440E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AA08C-223B-4F14-841F-54B1F44D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D7087-DD52-452B-B865-C6785FE4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320E3-A14D-454F-97B0-FFF9EF2C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166D1-80E3-424D-B1B4-38C46C0C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C7BFC-7A99-480F-9AB5-96914FAB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B55A9-284C-4E5B-BF1B-59CD44A6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C8E-316A-4E45-80F0-405540E2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C7937-F528-4F15-A210-8B82D2FF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85822-ABE8-4749-9E20-AD61CA32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C114F-FEB7-455F-BAF0-630C07A2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1C103-0B1E-46B9-967D-C67BCEDF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39A17-F9BC-49D7-9FCF-2B0400FB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830B7-4101-4569-9814-A544AAD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56FEA-DE97-46A2-BCF0-E1C29F86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02561-1242-4F49-8C46-F341FB9E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FAA68-9CDC-4921-9369-FC9EA3B9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F0729-8A9E-4C0F-BB74-F437AA51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F5A-FB9E-4997-AD62-EC22126A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0CA5E-9AFD-49AE-BE08-EF24F714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20641-8196-4CFF-A5C2-FFBF7D19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374F2-C7D1-4FE7-89C5-6E23F39E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D80D4-00C7-4AE4-AE4C-52EE3436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A8CB1-CD4D-4244-935A-33986C4B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F5BDC-4A8F-409A-AA1D-BCD4B6C6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6E93C-5ABD-4213-90A5-9C2A456D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8EA58-D935-4049-B19A-F5C0CA62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B34A3-B57A-4666-9D82-52F0DCEE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7E21C-5A7F-4050-8388-DD30888F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15DF-D361-415D-8118-4D4D6189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0BF7C-40C9-4367-8F03-BD779457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23367-5B7C-421A-8B11-41B0E229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FCB62-209B-4D69-9530-399848E5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00D5F-DE1A-4D8F-BBDE-A555BCD4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BDF56-B06F-43EC-A777-9676EC81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DADEC-CE8D-40F2-878F-E00C8BC2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24120-059D-4E69-8A06-543B0361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A6881-506D-402D-B2A6-8C35D38A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79362-69ED-4D06-B3F4-8873A805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28B5A-3BCF-4F3C-BF98-F22C1779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8EE7-66CB-4E74-9230-8AB76F3F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D9181-CCC6-47E0-BD57-707A627F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1377F-93DA-4042-98C9-BD50E427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C2062-93C3-4BAD-B558-B5858996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A1EA2-6691-40A1-948D-9DE274F3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7CA98-B201-446E-A39E-E30B773D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1AB6-EE90-433B-816C-B1975DF8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9C4F-4510-485B-8102-48A00392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D3C1-AB85-4C80-A7E5-93321D3C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330B-7588-4899-BD51-8CE27AD7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A690-8DA3-4706-97C1-8D520368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485-CBB2-4287-B0AF-168A05B6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F74A-271C-46AE-A212-9AAD6F70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1521-50AB-4C02-8726-1FC4B894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381E-E548-4B61-8414-25858103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A0F2-92B6-4CD5-9674-AA846A57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2799-682A-4E49-B49C-565B7D44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6848-6841-4F26-A166-477C5829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458E0-3C28-4901-A7E5-BD321C9C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5B91D-437D-40FB-A0AF-11DD6160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62103-0367-4266-954F-F60F68FC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1B419-208C-4371-9B1A-C1BD5F4A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D3B-3139-44C8-90F4-E500B730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3A448-5576-4583-9C6A-19B33820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101C-1BB2-4E0F-95C0-9F188D6A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A40D0-034C-4287-B9FE-DB363696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7BFE7-670C-498A-AB89-B36CCC9A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28C8-C16C-4B96-810C-9D909370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88CA8-64BA-4CB4-A7CE-8BCA6514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47602-22D7-4298-9393-16F8A808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21B1E-D787-4875-AD94-FDEFA1E0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E5B18-D46A-4AF8-A8CC-9B52CE0E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1ABFF-3596-48AA-9F05-13B3BBBA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228-AE49-40D3-833B-FA621D82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B24E3-4DB5-4D04-85F0-2DC1B57F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E2919-500D-4A2B-BF63-481E32DC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A713C-BBC7-4F77-8CB3-E0159D02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A9AFD-D7E1-4764-8833-054AD573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1FAF8-333A-41B9-87FD-E8DD0719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ADA6A-3AE5-4516-B0A0-CD2B02FD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26909-D7FC-4FD9-A5D6-9C007AAE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BBF46-8BED-4D80-87F8-9FAE651E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F2BD4-5679-42B2-8C85-84C71533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B6B32-2E14-474B-82AB-C28D307D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2CA-418B-4BC2-B4D8-E396C96C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3B9D7-79AF-47B7-84C4-679DCEFF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DFE5B-00E2-4F61-A826-B70C4EA1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59254-B7C3-45BB-8328-53A2D06D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F90A4-243C-4253-8686-D32D2A59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BD984-8CBF-4C22-90E7-0B073F64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90AE7-E16F-46A6-9818-93992843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3560B-6646-4D2A-A6DF-D6745A28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DE0E8-FCCD-47BC-81E5-E330B7E8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0587B-47CC-4A46-9870-50140949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03434-43CF-4946-82BD-0BCE13BC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079-69AB-446E-9843-BABAFC7A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B2DDB-DAEC-48EA-B951-3DED6A79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7875D-98FC-4248-9EF4-3A462ED6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CF5E8-C14D-43DF-A515-9B63AFF4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2E1A9-5623-40C5-B93A-29485E84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81280-DA53-4320-9021-C6542DD0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61296-77F5-42DD-BD68-77310EC3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DB4E0-A310-4027-BFC4-D8D25184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71F6B-3C5B-408A-BB4D-EC32EC68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003EA-F5D5-43C3-BA2A-97E1A0E4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66556-CC2B-4FB8-8E97-041853CA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0C1-B823-4841-9026-D1F6F371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82CC5-55CB-4AF7-905E-00E97A83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FB284-5655-4AA2-9529-8D141FED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52199-F0F5-4021-BB61-72C549F5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52B55-8A37-481E-B9D7-EFB6E8AF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0DC0B-6618-4473-BF25-BF726ADA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E5C45-3D03-407F-BAEF-5F78668F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EC4A7-CC55-4021-A11B-B2FA9317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6AB5F-6482-43B6-94E5-EC9BF5BB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24EE2-9DB7-42C5-9895-1430033D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83A8D-E93C-4327-85B0-D89797BA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248-2B8B-4694-9577-8ABB9AF7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66FDD-3C35-4DF5-8271-5D158E08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F517E-9F31-40ED-848D-E0BDE5AF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AD695-2968-4C2D-B17A-1A2D1C9B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DC8F1-DDFE-415E-9F6E-4B5CBA19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4CCDC-A4AE-4F76-878F-73949C90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062BB-BC9B-4052-B92E-E4BE3F56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AA0EC-FB19-429C-A6CC-7E665E3D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4DE83-5307-48CA-BFD6-36CB969E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C6CAE-D29D-49B7-A90E-2A718CC9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FEA18-EAC1-478C-A821-D6C78512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F72-EDD4-43B6-8F14-2199EE07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ED781-7522-4693-A1CF-6B4C9CDF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E885B-0427-4321-82FA-C44ABA4D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762B4-B06B-4F17-930F-F7D5DC5F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B66D2-D798-46CE-A5A6-2219D188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25482-B854-49D2-8822-CD6176BD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85D7F-3541-45B9-884B-0536B581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B1098-46FE-4DE7-9676-37155BD0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36497-B827-4918-93D3-5F0CECD3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A0341-4484-4050-A04E-2358DDF5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DFA1C-F367-476F-8A51-F2C42806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2BB8-4D54-4C84-A8EB-7421B8BF7AD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5544-C213-44BF-8CD7-26036258C06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F5CA-7E6A-450A-854A-52EE03E7E2A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7D8E-CFCA-4B93-BD0E-1413635C36B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489D-14A4-4FDE-BEB4-06D2C890A24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98FC-300A-4E58-B7D8-C09C08FFE04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8B83-4620-48D7-9533-3A7AE4BEC62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9FB6-9DF3-4A92-B078-66BD8311C8C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23FB-BC78-4F71-8F88-42F6E3CDF60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B509-2BD4-4C49-9B6F-A24ADC1DC7F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7FD7-B4AD-4436-B5DF-D420BC42BF4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4315-30B3-4160-9D21-E2C6C64079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280" y="1142640"/>
            <a:ext cx="88394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rtual Circuit Connectivity Verification version 2 (VCCV2)</a:t>
            </a:r>
            <a:br>
              <a:rPr sz="36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nadeau-pwe3-vccv2-00.txt</a:t>
            </a:r>
            <a:br>
              <a:rPr sz="20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2590560" y="44956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omas Nade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Yaakov Ste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rlos Pignata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4 - Vancou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C1A2-D16E-4D20-8B94-9CDADF14503D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tual Circuit Connectivity Verification (VCCV), the pseudowire OAM mechanism is described in RFC5085, RFC5885, and ietf-pwe3-vccv-for-ga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echanism has been widely implemented and deployed, but it has been reported [I-D.ietf-pwe3-vccv-impl-survey-results] that the large number of VCCV options has led to interoperability iss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7EEF-8A7A-4CEF-8A6D-CDBF4FB5A15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 CC State of Affa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FC5085 together with ietf-pwe3-vccv-for-gal define four Control Channel (CC) types for MPLS PW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1  using the control word (CW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2  using the Router Alert label (label=1) above the PW labe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3  using TTL expir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4  using G-ACh Label (label=13 [RFC5586] below the PW lab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054A-A080-4B50-97A2-84E48AFADF1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cement of the RA and G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hould understand that we are obsoleting the "label above the PW label” in favor of the "label below the PW label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DE76-BBCA-4EF4-8DB4-EF9B4FE530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s for CC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 down to 2 CC 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re giving (or going to give) guidelines for when to use whi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D660-3CFC-41BE-81CC-22941B81A4E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Documen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is draft is supposed to be short and sweet of a rewrite of VCCV with all the details in one pl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ort document that obsoletes RA on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–bis version that consolidates all of the existing RFCs/drafts including MPLS-TP? This would normatively redefine all CC Typ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2 as obsolete, type 1 as mandatory for CW, type 4 as mandatory for non-CW, and a variation of type 3 (manipulating TTL) as for multi-segment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-</a:t>
            </a:r>
            <a:fld id="{4930372C-BEC6-4EDF-8670-54CC580DA36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ETF 84</dc:creator>
  <dc:description/>
  <dc:language>en-US</dc:language>
  <cp:lastModifiedBy>Thomas Nadeau</cp:lastModifiedBy>
  <dcterms:modified xsi:type="dcterms:W3CDTF">2012-07-31T16:34:10Z</dcterms:modified>
  <cp:revision>531</cp:revision>
  <dc:subject/>
  <dc:title>draft-zjns-mpls-lsp-ping-relay-reply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9119092</vt:lpwstr>
  </property>
</Properties>
</file>