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22BE-6F71-4110-8789-3A1826753DD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87E7-BB70-4D44-A80D-534BB4D43C2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EBA5-8B54-4F92-A106-F9B5A80C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6E8D-8564-42C3-938B-91EA5EC1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BE9EE2-CA68-41AC-9B04-D5522202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7A6DF-5D17-482A-90D3-9BD86C7E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ABC91-292D-4240-8B6B-20694E56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1F745-ED0D-4FD3-878F-F4767D48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5FA7E-70BD-4464-95C3-D58ACD96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0438A-496D-443D-A6F5-97E75D0E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AE2E6-E1AE-4B70-A09B-3C58501E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0B948-B2C3-48A1-BC39-88AE03E4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17FC8-CBE6-4644-BE03-4CA29A57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EA40D-330C-475E-9197-B4803431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CF94-F40B-47A9-8D45-8C3A696A5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C002E-3BA3-4ABF-82C5-E0848B92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07EFB-9AE4-479F-A0CA-CF338AB5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1483B-3FFA-47CF-9822-D6B06523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898E7-8C87-4C98-96AE-058FE204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A2F0C-7309-4C14-9A16-8F336FE8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C9C339-8A4C-4FC5-807D-D76D30B2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1E4145-B6B8-430F-8575-BB74BCFB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455EC-7193-4079-B09E-D8FAFA5C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0B544-DA1A-4BA6-A485-608ADA20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E0B39-364B-4BDB-9EF3-425E8C2E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F3D9-F2D8-465A-B962-6F5F36BAF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FDB48-F95C-488F-9E65-0DD7CCB5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0FB12-04EF-4C64-A1DD-CB2FEDCC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D4E6C-C09A-4549-B550-929EA91D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00DB7-C2FD-4B19-96B0-98DDC3AD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5035C-E355-40FA-881A-4F70FB6A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E6D58-7A1D-4777-91C4-6277586C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6CC61-CC90-4C4D-A615-C886DDC2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4A8F8-77BB-4FA2-9F36-09BEEF8C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3AAC4-1065-4541-A004-874C20ED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B96F1-FAC1-43AF-BDA7-1C5441B1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AECB-A72F-4C69-9D52-EF4826DBF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25178-7F8E-4058-B709-7650FFF7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4C6D4-86FE-47B1-B971-39D9D8169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EC160-B312-489E-A660-687E68877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6E37D-0A14-461D-8C3D-3E08B158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3817F-1B79-43FF-BB47-C1389CF7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F60425-80A2-4D9E-82B8-667D9B65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8611AF-644E-49D4-8F97-0644A60C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271554-A937-47D5-9D90-691A97DC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CD60AE-52BF-49DA-BC5D-07764D2C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43F584-090D-4DBE-8A00-A92EDADE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ADF4-24AF-49A1-A201-9232BE6D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CEE50-95B7-4AA5-9062-018DAC85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BF382-DB72-4E48-8019-015A1F67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8B9F3-08D5-4856-9B35-892A2871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14C4C-77EE-4C90-9417-00CE798ED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099C50-1930-4822-8548-0D75333B4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FF2D-991B-4428-A106-FEF97AA3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A203-2687-4A44-A396-7FE50290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B925-752C-45E9-972C-855C7AB4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98C1-1C09-4421-BA80-2BBF3F12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F3C9-0365-4DF1-9D04-87CDB8A2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66AB-6ED5-461E-9A9A-EDEEEC3C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D75C-C346-4659-9B93-A3C1CBC2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4CBA-1D04-44D9-A476-0E1E1466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F3F2-4224-4A21-BF2B-3CC23498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2C31-A3A5-4FBA-94B0-6C56E4DC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C4A2-61B8-471D-A925-60DCA2EA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145E4-BD67-4E94-8E3E-6B56665F3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492C6-2A90-405A-99BC-09B1B00A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1DE9E-9B2B-41B7-99AC-0F2C6039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7FD5E-5FD6-4D5F-B832-9AEED01B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5F0BB-DE2E-4D33-B3B9-9BCC6A8A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0B6F-7E9E-4804-8F7C-0B6ADD48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583B6-A00D-4B83-A2FA-D267C6E9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ED7E1-9542-4F8A-AF19-6FF9ECC8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76652-ED3B-4203-AB92-E6685BF8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CB8BE-16B3-447D-A355-C9AFE8E4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F3A26-6807-4A2E-9E66-29C91822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7F80F-E913-4929-AFF6-526DDF98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A0A91-6FA2-4CDC-9FC9-3074179C5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9FF6B-ECD2-449C-B3F7-0A3395168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F2743-E326-4689-96B3-3A118D99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674C1-0F0C-40EA-B80F-165534AF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8571-1A08-4607-9089-BCE2E004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5231C-58CC-4017-A140-A5DF941B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4052F-973F-47DB-AAAE-690A6FCA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814BE-20D6-4DC1-B8B4-70AA033C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2B1E7-743D-41CC-AC88-79C91ABD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74141-CE31-4797-AEB7-E66BA410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F0A48-B58E-4295-A2BE-8B1FAFEE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B8FD7-BA6F-4E38-BA75-AFA39C8A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6D188-3920-4BE5-9001-7B38B7996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3BDE7-250C-4BF4-A9B4-1A92BDBC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32523-0D6E-4F9A-8160-47CB4AEF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E080-F9FC-4540-B66D-1EC9724C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05578-4870-49AC-B150-7B6A59BF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E37B7-8EEA-4AC5-A9C7-D2626B2B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F904C-DAD4-419B-9189-C2B062C5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E6EB9-ACE4-4E24-B845-B1E026EF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18E77-8284-4C26-84BE-B5B57E0D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8D3AE-547E-4BF7-9D7D-FC07BD37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E3874-91E1-4A94-AFA3-8FBBF20E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8096F-F08D-4298-8CE8-15E2F98E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FCDDF-7EA7-4764-A216-D3CF8907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88656-83D1-44B1-A485-FC2B6551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3A50-A2FA-4A12-913C-F733E728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783AB-6F14-449C-B179-11B1B48F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D2AEC-B66B-43EB-96DC-B14527F79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C86BA-07A4-4E5C-BBBA-FA9C32E6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C6121-BF66-44C2-B5DC-7E320269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7030B-D7A8-403F-8982-097E58A3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4644A-FE73-41B7-B62E-73BDDB3A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842D9-B825-4741-A5E5-DB3BB043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29FA9-0268-488E-99FF-58443C80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94D18-A1BB-47C7-9DBF-371FE552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12E14-F21A-40F9-AFE4-715FE8CA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A753-5EB9-41F5-86E5-7A60ECE9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468CA-5CDC-4695-AB26-A3B59E58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1607F-CF29-4F0A-9DDD-0CEFEA5A6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835D7-A28F-42B3-9922-D0A4AFF05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D952B-3050-4483-A221-8CA5AD41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CAE20-68DE-486A-86C7-77700D74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2F3AD-1A09-46D7-A94D-5D32013D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89035-ADB9-4789-90E2-A20B88A0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4E782-C91C-4494-8E04-8AC0A167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B087C-8B2E-496C-AAA4-C08CDEF3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09F87-1D64-450C-8D1B-AF46542E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E253-7DC0-40EF-9B2D-386D5444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E8C48-3127-41D8-BE4B-0E1543E9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24656-F37C-4111-8031-755FEF72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DA422-6A59-4701-A50B-B28A3C53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D8BE1-B69B-436C-8A4B-B39E5161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348BC-87DD-4781-97DD-4FFDC2274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50F67-6B45-4257-B8C3-E4066750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3D878-F32D-4100-8279-84A0840C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AE34C-2189-4036-BF16-6704B660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AFF5A-307E-4844-AF8A-279CF743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9C1BB-E93A-47BB-BAB0-3B935F7A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D49F-9B5F-4F1A-8315-A1BFD228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2C3E8-DCE6-4B21-A52E-946805BD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9F39F-3A56-487B-B164-67F55164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AE7D7-4251-46D1-BF46-EBABDC84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4C828-DB6E-473B-BCD9-C2F53336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449BE-A261-432C-8875-9798AFA5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DFE3D-2E25-4E33-AC99-324D03113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1289E-0122-4913-BAE2-87D748AD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994D0-AF8C-4BFB-BD54-053E280A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934AB-27DD-4CAF-913D-6B8D7FD8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B334B-87F0-4C43-BEF3-74174C4A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1AB4-09E8-4D1B-BF4E-C4F204F44C6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13CD-8356-4978-9B58-A13CC48F9D3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C3FB-85FD-4099-9000-66DDFEB4239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378F-C468-4D29-9DB7-0E5E3684678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D7C6-746D-40FD-8B28-7AFAF5AA461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BB25-9EE9-442B-AA22-C98F4DB49F5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7C51-1D64-415D-810B-01AEFD1ABB6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D6DA-E961-4AB3-9908-A31BDAC4AB5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3602-104D-4BE5-8DDD-156C7E37924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BC85-E121-4A32-81F3-0C6BEE77978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AEB5-4893-4C45-BD30-F6FB1125D6E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FF2E-FB1C-4BC4-B7C5-F8C75AA29A0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2280" y="1142640"/>
            <a:ext cx="88394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irtual Circuit Connectivity Verification version 2 (VCCV2)</a:t>
            </a:r>
            <a:br>
              <a:rPr sz="3600"/>
            </a:b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-nadeau-pwe3-vccv2-00.txt</a:t>
            </a:r>
            <a:br>
              <a:rPr sz="20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2590560" y="4495680"/>
            <a:ext cx="38862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omas Nadea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Yaakov Ste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rlos Pignata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Footer Placeholder 4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84 - Vancou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24F3-0AA3-4AC4-BE82-696C398D1216}" type="slidenum"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tual Circuit Connectivity Verification (VCCV), the pseudowire OAM mechanism is described in RFC5085, RFC5885, and ietf-pwe3-vccv-for-gal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echanism has been widely implemented and deployed, but it has been reported [I-D.ietf-pwe3-vccv-impl-survey-results] that the large number of VCCV options has led to interoperability issu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9C0E-F793-45A3-864F-DA91549DFE8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 CC State of Affai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FC5085 together with ietf-pwe3-vccv-for-gal define four Control Channel (CC) types for MPLS PW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 1  using the control word (CW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 2  using the Router Alert label (label=1) above the PW label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 3  using TTL expir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 4  using G-ACh Label (label=13 [RFC5586] below the PW lab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A5FC-08C0-4332-8CEA-97FA69AA5E5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cement of the RA and G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should understand that we are obsoleting the "label above the PW label” in favor of the "label below the PW label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0143-7B89-450D-AFB2-B5A42C1044B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s for CC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e down to 2 CC ty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are giving (or going to give) guidelines for when to use whi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5BC1-37F2-429B-A1E0-CF4C6A626B8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al Document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is draft is supposed to be short and sweet of a rewrite of VCCV with all the details in one pla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hort document that obsoletes RA onl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–bis version that consolidates all of the existing RFCs/drafts including MPLS-TP? This would normatively redefine all CC Typ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e 2 as obsolete, type 1 as mandatory for CW, type 4 as mandatory for non-CW, and a variation of type 3 (manipulating TTL) as for multi-segment o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-</a:t>
            </a:r>
            <a:fld id="{3863FFB3-B05A-44D1-9DF6-569904034C7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ETF 84</dc:creator>
  <dc:description/>
  <dc:language>en-US</dc:language>
  <cp:lastModifiedBy>Thomas Nadeau</cp:lastModifiedBy>
  <dcterms:modified xsi:type="dcterms:W3CDTF">2012-07-31T16:34:10Z</dcterms:modified>
  <cp:revision>531</cp:revision>
  <dc:subject/>
  <dc:title>draft-zjns-mpls-lsp-ping-relay-reply-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89119092</vt:lpwstr>
  </property>
</Properties>
</file>