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B18D-696B-42AB-8190-9B0C8AD1D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2809-BCD7-4E5A-A628-39D664A8F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B2E-E2B7-443F-A8F6-CCFD8A67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F9E-C576-4D04-B036-B1A04DD3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78B2-AFDE-4B79-BACF-DFABE3C2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5C7-5D8D-4087-92AF-F15FD7BA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9BA-AC94-4F29-86ED-10D1C630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1B3-F5E6-42CC-B867-BE43127A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D17-236A-4E79-B72B-1B365CA4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35B-5D18-4E84-AFBF-EE10D8EF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96E-393F-48B8-80DC-A0212B56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CB1-E14A-45EF-93C3-DF8CFA23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424-F3CB-4E05-930D-73777FD5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5CC-CF7E-4D4F-B75E-80184E7E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114C-4BF6-4D50-945B-7F421E646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pseudowire configuration checking using Generic Associated Channel (G-ACh) Advertisemen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9080" y="4140360"/>
            <a:ext cx="226692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zhong J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 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i Bou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iganesh K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562E-8C08-40CD-9BCE-F3882DCD3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3492360" y="29242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394000" y="3029040"/>
            <a:ext cx="44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jc-pwe3-static-config-check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5460840" y="4095720"/>
            <a:ext cx="226728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i Bou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84, Jul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upd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-jc-pwe3-mpls-tp-static-checking-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presented at IETF83 Paris meeting, and received comments from meeting and mailing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-jc-pwe3-static-config-check-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updated version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-jc-pwe3-mpls-tp-static-checking-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static PW checking for both MPLS-TP and Non-T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Static PW FEC Element TLV is defined, instead of using Generalized ID FE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X/RX Sequence number is used to ensure message delivery, instead of using local and remote PW e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word configuration checking upd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7637-1BFD-4117-8FF3-DDE176BAE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 to G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P is defined in draft-ietf-mpls-gach-adv-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ensions to GAP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GAP application "static PW" is def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ata Block (ADB) for "static PW" application is defined with “Static PW FEC Element TLV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static PW suppress TLV to suppress static PW FEC element transmi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9C89-1CAB-4481-B30D-9287530CE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4CD9-60E8-4C60-AA3B-1120B22DB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771560" y="0"/>
            <a:ext cx="5867640" cy="692136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0" y="2406600"/>
            <a:ext cx="181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of Static PW FEC Element TL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ding PW application Element T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PW is configured, the PE MUST send its local PW configuration information using the GAP over the PSN tu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TX sequence number to a non-zero va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X sequence number MUST be set to the previously received   TX sequence number, otherwise set to ze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96D3-1484-42E2-B3DA-C134BDA97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iving PW application Element T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E has local PW configuration and previously sent GAP, it MUST che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X seq#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X seq#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previously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qual, send GAP message with static PW suppress TL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do not send GAP message with static PW suppress TL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local PW configuration, the receiving PE MUST retain the remote static PW FEC Element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7649-C9C4-4823-9119-10A45C9B5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sag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3"/>
          <p:cNvSpPr/>
          <p:nvPr/>
        </p:nvSpPr>
        <p:spPr>
          <a:xfrm>
            <a:off x="65721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2CB1-6D05-4AF4-AFE0-AE2A36E87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2171880" y="1600200"/>
            <a:ext cx="102204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727600" y="1555920"/>
            <a:ext cx="1022400" cy="622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9"/>
          <p:cNvSpPr/>
          <p:nvPr/>
        </p:nvSpPr>
        <p:spPr>
          <a:xfrm>
            <a:off x="6238800" y="2178000"/>
            <a:ext cx="22320" cy="418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3064680" y="240660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P Message with TX seq_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直接箭头连接符 14"/>
          <p:cNvCxnSpPr/>
          <p:nvPr/>
        </p:nvCxnSpPr>
        <p:spPr>
          <a:xfrm flipH="1" flipV="1">
            <a:off x="2837880" y="3472560"/>
            <a:ext cx="3290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TextBox 15"/>
          <p:cNvSpPr/>
          <p:nvPr/>
        </p:nvSpPr>
        <p:spPr>
          <a:xfrm>
            <a:off x="3020040" y="3200400"/>
            <a:ext cx="25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P Message with TX seq_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with RX seq_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3154320" y="38736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ress message for 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接箭头连接符 18"/>
          <p:cNvCxnSpPr/>
          <p:nvPr/>
        </p:nvCxnSpPr>
        <p:spPr>
          <a:xfrm flipH="1">
            <a:off x="2793600" y="5845680"/>
            <a:ext cx="3378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TextBox 19"/>
          <p:cNvSpPr/>
          <p:nvPr/>
        </p:nvSpPr>
        <p:spPr>
          <a:xfrm>
            <a:off x="3154320" y="5535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ress message for 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393840" y="2540160"/>
            <a:ext cx="22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 local PW info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3"/>
          <p:cNvSpPr/>
          <p:nvPr/>
        </p:nvSpPr>
        <p:spPr>
          <a:xfrm>
            <a:off x="6261120" y="3251160"/>
            <a:ext cx="25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 local PW info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5"/>
          <p:cNvSpPr/>
          <p:nvPr/>
        </p:nvSpPr>
        <p:spPr>
          <a:xfrm>
            <a:off x="6261120" y="4902120"/>
            <a:ext cx="2489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TX&amp;RX seq#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has received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has received 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 peer to not s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3"/>
          <p:cNvSpPr/>
          <p:nvPr/>
        </p:nvSpPr>
        <p:spPr>
          <a:xfrm>
            <a:off x="304920" y="3162240"/>
            <a:ext cx="2355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TX&amp;RX seq#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has received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has received B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 peer to not s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直接箭头连接符 11"/>
          <p:cNvCxnSpPr/>
          <p:nvPr/>
        </p:nvCxnSpPr>
        <p:spPr>
          <a:xfrm>
            <a:off x="2793960" y="5135040"/>
            <a:ext cx="3378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TextBox 15"/>
          <p:cNvSpPr/>
          <p:nvPr/>
        </p:nvSpPr>
        <p:spPr>
          <a:xfrm>
            <a:off x="3108960" y="4869000"/>
            <a:ext cx="25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P Message with TX seq_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with RX seq_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直接箭头连接符 35"/>
          <p:cNvCxnSpPr/>
          <p:nvPr/>
        </p:nvCxnSpPr>
        <p:spPr>
          <a:xfrm>
            <a:off x="2838600" y="2717280"/>
            <a:ext cx="3334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直接箭头连接符 36"/>
          <p:cNvCxnSpPr/>
          <p:nvPr/>
        </p:nvCxnSpPr>
        <p:spPr>
          <a:xfrm>
            <a:off x="2793600" y="4140360"/>
            <a:ext cx="3334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TextBox 23"/>
          <p:cNvSpPr/>
          <p:nvPr/>
        </p:nvSpPr>
        <p:spPr>
          <a:xfrm>
            <a:off x="6261120" y="2557440"/>
            <a:ext cx="25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remote PW info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3"/>
          <p:cNvSpPr/>
          <p:nvPr/>
        </p:nvSpPr>
        <p:spPr>
          <a:xfrm>
            <a:off x="6261120" y="3944880"/>
            <a:ext cx="25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p se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6"/>
          <p:cNvSpPr/>
          <p:nvPr/>
        </p:nvSpPr>
        <p:spPr>
          <a:xfrm flipH="1">
            <a:off x="2660400" y="2222640"/>
            <a:ext cx="21960" cy="41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3"/>
          <p:cNvSpPr/>
          <p:nvPr/>
        </p:nvSpPr>
        <p:spPr>
          <a:xfrm>
            <a:off x="793800" y="5668920"/>
            <a:ext cx="18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p se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349200" y="495792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se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check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control word, MUST do logical operation "AND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PW type and negotiate interface parameters as specified in [RFC4447]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ncoming and outgoing static PW lab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 Label Adverti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ceived incoming label from GAP could be used by the remote PE as the outgoing label for the P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9126-D4A0-4416-A16F-BDD3F310F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ore comments are appreci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y for WG ad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95280" y="38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2F3C-6B68-4DB9-AC63-63FFF3A9F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3:20:18Z</dcterms:created>
  <dc:creator>Zhihua Liu</dc:creator>
  <dc:description/>
  <cp:keywords>draft</cp:keywords>
  <dc:language>en-US</dc:language>
  <cp:lastModifiedBy>Lizhong Jin</cp:lastModifiedBy>
  <dcterms:modified xsi:type="dcterms:W3CDTF">2012-07-24T07:26:55Z</dcterms:modified>
  <cp:revision>223</cp:revision>
  <dc:subject/>
  <dc:title>draft-liu-l2vpn-vpls-inter-domain-redundancy</dc:title>
</cp:coreProperties>
</file>