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C49-F236-46CC-9A54-C7A06361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5168-7F7C-4845-AB56-90F3B362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860-6640-45E7-A640-942425E1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A6E-E277-415F-8F1B-57227925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7F4-16B3-4BF5-A1C0-B3C41820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648-79D6-4220-99B2-5746D390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EFB-3BDF-454B-9721-57744819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AD4-A63C-41DF-AB33-E316A2A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AE4-0950-422D-818A-2EA118B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0D-9F2F-4D94-B595-7A2AC4F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2A9-9B87-44B2-B878-917989A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388-08DC-4427-B752-AC706E6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41A-BA4A-4637-8CC9-60F40BB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F52-C47B-419A-99C0-AF24307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1D6-4FD9-47EB-AFC0-488877D2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pseudowire configuration checking using Generic Associated Channel (G-ACh) Advertisemen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9080" y="4140360"/>
            <a:ext cx="22669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ganesh K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CAAC-0C67-446B-8786-0DD43EDE9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492360" y="2924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394000" y="302904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c-pwe3-static-config-check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460840" y="4095720"/>
            <a:ext cx="2267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84, 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upd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mpls-tp-static-checking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presented at IETF83 Paris meeting, and received comments from meeting and mailing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static-config-check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updated vers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jc-pwe3-mpls-tp-static-checking-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static PW checking for both MPLS-TP and Non-T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tatic PW FEC Element TLV is defined, instead of using Generalized ID F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/RX Sequence number is used to ensure message delivery, instead of using local and remote PW e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word configuration checking up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067B-9842-451B-A3E5-385AF9A05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 to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is defined in draft-ietf-mpls-gach-adv-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sions to GAP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GAP application "static PW" is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Block (ADB) for "static PW" application is defined with “Static PW FEC Element TLV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tatic PW suppress TLV to suppress static PW FEC element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EB93-68B1-43AC-A017-D7C1B4143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7147-3F4A-4F65-B19F-74AF162B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71560" y="0"/>
            <a:ext cx="5867640" cy="6921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0" y="2406600"/>
            <a:ext cx="181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of Static PW FEC Element TL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ding PW application Element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W is configured, the PE MUST send its local PW configuration information using the GAP over the PSN tu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X sequence number to a non-zero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sequence number MUST be set to the previously received   TX sequence number, otherwise set to z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A9FE-6CD9-49CA-AB74-57435271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ing PW application Element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E has local PW configuration and previously sent GAP, it MUST che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X seq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X seq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eviously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, send GAP message with static PW suppress T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do not send GAP message with static PW suppress TL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local PW configuration, the receiving PE MUST retain the remote static PW FEC Eleme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EED-A0FB-46F8-8DDD-48A5BE96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65721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2745-E3A6-40B2-8A29-070A65AE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2171880" y="1600200"/>
            <a:ext cx="102204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727600" y="1555920"/>
            <a:ext cx="1022400" cy="62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6238800" y="2178000"/>
            <a:ext cx="22320" cy="41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3064680" y="240660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箭头连接符 14"/>
          <p:cNvCxnSpPr/>
          <p:nvPr/>
        </p:nvCxnSpPr>
        <p:spPr>
          <a:xfrm flipH="1" flipV="1">
            <a:off x="2837880" y="3472560"/>
            <a:ext cx="3290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5"/>
          <p:cNvSpPr/>
          <p:nvPr/>
        </p:nvSpPr>
        <p:spPr>
          <a:xfrm>
            <a:off x="3020040" y="3200400"/>
            <a:ext cx="25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ith R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3154320" y="38736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 message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箭头连接符 18"/>
          <p:cNvCxnSpPr/>
          <p:nvPr/>
        </p:nvCxnSpPr>
        <p:spPr>
          <a:xfrm flipH="1">
            <a:off x="2793600" y="5845680"/>
            <a:ext cx="33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9"/>
          <p:cNvSpPr/>
          <p:nvPr/>
        </p:nvSpPr>
        <p:spPr>
          <a:xfrm>
            <a:off x="3154320" y="553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 message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393840" y="2540160"/>
            <a:ext cx="22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local PW inf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6261120" y="325116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local PW info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6261120" y="4902120"/>
            <a:ext cx="2489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X&amp;RX seq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s received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has received 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eer to not s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304920" y="3162240"/>
            <a:ext cx="235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TX&amp;RX seq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has received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s received B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eer to not s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箭头连接符 11"/>
          <p:cNvCxnSpPr/>
          <p:nvPr/>
        </p:nvCxnSpPr>
        <p:spPr>
          <a:xfrm>
            <a:off x="2793960" y="5135040"/>
            <a:ext cx="33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5"/>
          <p:cNvSpPr/>
          <p:nvPr/>
        </p:nvSpPr>
        <p:spPr>
          <a:xfrm>
            <a:off x="3108960" y="4869000"/>
            <a:ext cx="25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Message with TX seq_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ith RX seq_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35"/>
          <p:cNvCxnSpPr/>
          <p:nvPr/>
        </p:nvCxnSpPr>
        <p:spPr>
          <a:xfrm>
            <a:off x="2838600" y="2717280"/>
            <a:ext cx="3334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直接箭头连接符 36"/>
          <p:cNvCxnSpPr/>
          <p:nvPr/>
        </p:nvCxnSpPr>
        <p:spPr>
          <a:xfrm>
            <a:off x="2793600" y="4140360"/>
            <a:ext cx="3334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23"/>
          <p:cNvSpPr/>
          <p:nvPr/>
        </p:nvSpPr>
        <p:spPr>
          <a:xfrm>
            <a:off x="6261120" y="255744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remote PW inf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6261120" y="394488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6"/>
          <p:cNvSpPr/>
          <p:nvPr/>
        </p:nvSpPr>
        <p:spPr>
          <a:xfrm flipH="1">
            <a:off x="2660400" y="2222640"/>
            <a:ext cx="21960" cy="41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793800" y="5668920"/>
            <a:ext cx="18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349200" y="49579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se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check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ntrol word, MUST do logical operation "AND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PW type and negotiate interface parameters as specified in [RFC4447]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ncoming and outgoing static PW lab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abel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eived incoming label from GAP could be used by the remote PE as the outgoing label for the P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E142-2074-4E40-8C9B-201A8549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ore comments ar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A470-114D-4514-A08B-9A600364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Zhihua Liu</dc:creator>
  <dc:description/>
  <cp:keywords>draft</cp:keywords>
  <dc:language>en-US</dc:language>
  <cp:lastModifiedBy>Lizhong Jin</cp:lastModifiedBy>
  <dcterms:modified xsi:type="dcterms:W3CDTF">2012-07-24T07:26:55Z</dcterms:modified>
  <cp:revision>223</cp:revision>
  <dc:subject/>
  <dc:title>draft-liu-l2vpn-vpls-inter-domain-redundancy</dc:title>
</cp:coreProperties>
</file>