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53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88840" y="4039200"/>
            <a:ext cx="7353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88840" y="403920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6600" y="403920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75000" y="194292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1160" y="194292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88840" y="403920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75000" y="403920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1160" y="403920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88840" y="1942920"/>
            <a:ext cx="735336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5336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88840" y="177840"/>
            <a:ext cx="735336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88840" y="403920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88840" y="1942920"/>
            <a:ext cx="735336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6600" y="403920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88840" y="4039200"/>
            <a:ext cx="7353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53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88840" y="4039200"/>
            <a:ext cx="7353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88840" y="403920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6600" y="403920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75000" y="194292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61160" y="194292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88840" y="403920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75000" y="403920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61160" y="4039200"/>
            <a:ext cx="2367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5336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88840" y="177840"/>
            <a:ext cx="735336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88840" y="403920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6600" y="403920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6600" y="1942920"/>
            <a:ext cx="35881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88840" y="4039200"/>
            <a:ext cx="735336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155600"/>
            <a:ext cx="7353360" cy="23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530160"/>
            <a:ext cx="735336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chin"/>
            </a:endParaRPr>
          </a:p>
          <a:p>
            <a:pPr lvl="1" algn="ctr">
              <a:spcBef>
                <a:spcPts val="99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chin"/>
            </a:endParaRPr>
          </a:p>
          <a:p>
            <a:pPr lvl="2" algn="ctr">
              <a:spcBef>
                <a:spcPts val="99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chin"/>
            </a:endParaRPr>
          </a:p>
          <a:p>
            <a:pPr lvl="3" algn="ctr">
              <a:spcBef>
                <a:spcPts val="99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chin"/>
            </a:endParaRPr>
          </a:p>
          <a:p>
            <a:pPr lvl="4" algn="ctr">
              <a:spcBef>
                <a:spcPts val="99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chin"/>
            </a:endParaRPr>
          </a:p>
          <a:p>
            <a:pPr lvl="5" algn="ctr">
              <a:spcBef>
                <a:spcPts val="99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chin"/>
            </a:endParaRPr>
          </a:p>
          <a:p>
            <a:pPr lvl="6" algn="ctr">
              <a:spcBef>
                <a:spcPts val="99"/>
              </a:spcBef>
              <a:buClr>
                <a:srgbClr val="00000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ochin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888840" y="1942920"/>
            <a:ext cx="735336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847440" indent="-610200"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lvl="1" marL="1254600" indent="-610200"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lvl="2" marL="1650240" indent="-610200"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lvl="3" marL="2045520" indent="-610200"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lvl="4" marL="2452320" indent="-610200"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lvl="5" marL="2452320" indent="-610200"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lvl="6" marL="2452320" indent="-610200"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aland@freeradius.org" TargetMode="External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88840" y="1155600"/>
            <a:ext cx="7353360" cy="23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ochin"/>
              </a:rPr>
              <a:t>Protocol Extensions</a:t>
            </a: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88840" y="3530160"/>
            <a:ext cx="735336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RADEXT - IETF 84</a:t>
            </a:r>
            <a:endParaRPr b="0" lang="en-US" sz="2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ochin"/>
              </a:rPr>
              <a:t>Status</a:t>
            </a: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5336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003320" indent="-6858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WG Last call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Extended Type with Flag” to “long Extended Type”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Miscellaneous word smithing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marL="1003320" indent="-6858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Feedback from Reviewers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ochin"/>
              </a:rPr>
              <a:t>Implementations</a:t>
            </a: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5336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942840" indent="-6444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FreeRADIUS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marL="942840" indent="-6444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IEA Software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marL="942840" indent="-6444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BSD licensed encoder/decoder early 2012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lvl="1" marL="1372680" indent="-6444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Email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Cochin"/>
                <a:hlinkClick r:id="rId1"/>
              </a:rPr>
              <a:t>aland@freeradius.org</a:t>
            </a: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 for details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marL="942840" indent="-6444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Document includes test vectors</a:t>
            </a:r>
            <a:endParaRPr b="0" lang="en-US" sz="2800" spc="-1" strike="noStrike">
              <a:solidFill>
                <a:srgbClr val="000000"/>
              </a:solidFill>
              <a:latin typeface="Cochin"/>
            </a:endParaRPr>
          </a:p>
          <a:p>
            <a:pPr lvl="1" marL="1372680" indent="-6444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Cochin"/>
              <a:buChar char="•"/>
              <a:tabLst>
                <a:tab algn="l" pos="11556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Implementors should use them!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ochin"/>
              </a:rPr>
              <a:t>Discussion?</a:t>
            </a:r>
            <a:endParaRPr b="0" lang="en-US" sz="58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NEA Working Group Slides</dc:title>
</cp:coreProperties>
</file>