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500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116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500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116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5336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500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116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500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116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5336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5336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5336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84744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25460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2" marL="165024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3" marL="20455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4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5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6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5336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CoA Proxying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88840" y="3530160"/>
            <a:ext cx="735336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RADEXT - IETF 84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Problem Statemen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oA proxying in a roaming environment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User-Name doesn’t work, we need “originating realm”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Packets need to get to visited network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Solution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Use Operator-Name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1’ + realm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Gets packet to visited network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Problem Statemen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We need to get the packet to the NA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NAS-IP-Address doesn’t work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Private IPs, it can be re-written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Solution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963000" indent="-658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Define new Operator-NAS-Identifier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401840" indent="-658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opaque token meaningful only to operator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Gets packet to NA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963000" indent="-658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an be there, but does not need to be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401840" indent="-658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ome systems may track user sessions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Implementations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reeRADIU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Only Operator-Name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1" marL="14605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ems to work.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Discussion?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EA Working Group Slides</dc:title>
</cp:coreProperties>
</file>