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500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116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500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116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5336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7500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116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8884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7500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116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5336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5336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5336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84744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25460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2" marL="165024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3" marL="20455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4" marL="24523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5" marL="24523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6" marL="24523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5336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DTLS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88840" y="3530160"/>
            <a:ext cx="735336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RADEXT - IETF 84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Status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Miscellaneous word smithing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larify terminology using same techniques as “extensions” review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Documents existing implementation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Needs final pass for typos / x-ref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Anything else?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Implementations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radsecproxy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jradiu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reeRADIUS (2012 / 2013?)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Discussion?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EA Working Group Slides</dc:title>
</cp:coreProperties>
</file>