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627-EEEC-4D5A-AB92-5BE5642F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CA2-A49D-46A0-8DE0-A82DA130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8CF-3197-4192-A6A9-0C2AAE81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2D9D-5747-4076-8B9B-AEC728C0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31C6-7B45-4185-917B-9A47622B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0F58-36B1-4EE8-968E-84C481A4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A2D0-517C-4BB2-8681-7427258C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E9A0-FB23-4037-A099-C9ACD4AB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64D9-D75E-443F-932A-88B16383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62BE-88CE-44AA-AB40-56FDC467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2B60-429D-4A93-9C54-9A7E939B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69D-DDBC-4B90-A1C3-C5CCE4F7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6157-FD43-4260-844B-4E8ECF37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C2B4-CBDE-46E9-BC86-08A15C57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5919-12C5-4374-87D7-7E2C5F75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422F-0000-438E-8893-F83983BB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1FCA-8661-402C-9AA7-5372D10C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6FE-9EB3-4499-9960-A343C9A4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4D1-6EEE-4F2E-95C4-9C4118C1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7A5-F917-40D5-A4EA-77A1F406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960-C90A-468A-A0AB-D63921A2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349-3415-4803-B710-AA3AA88F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BFB-A62C-4917-ADD5-494FBB3A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04E-391B-4A8A-8DBF-42C4B5E5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8ABC-BE6B-47E5-B123-0C4D4A648D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ED8F-AD3B-403E-B23B-8F17143CA0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ADEXT W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3047760"/>
            <a:ext cx="6858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-ietf-radext-ieee802ext-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nard Abo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gust 3,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ETF 84, Vancou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209680" y="57913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join the Jabber ro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ext@jabber.ietf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cument Stat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G Last Call Comple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ly open issu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9:  Reason C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sue 109 (Reason Code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trac.tools.ietf.org/wg/radext/trac/ticket/1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proposal was to create a WLAN-Reason-Code attribute to contain information on the reason for authorization failure subsequent to a mobile device’s authentication request towards a Wi-Fi acces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Section 2.14 adds values to Acct-Terminate-C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 discu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etf.org/mail-archive/web/radext/current/msg0767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etf.org/mail-archive/web/radext/current/msg07674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etf.org/mail-archive/web/radext/current/msg0767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e01496_"/>
          <p:cNvPicPr/>
          <p:nvPr/>
        </p:nvPicPr>
        <p:blipFill>
          <a:blip r:embed="rId1"/>
          <a:stretch/>
        </p:blipFill>
        <p:spPr>
          <a:xfrm>
            <a:off x="2944800" y="194148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881800" y="838080"/>
            <a:ext cx="294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Feedba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2:41:14Z</dcterms:created>
  <dc:creator>EAP Keying</dc:creator>
  <dc:description/>
  <dc:language>en-US</dc:language>
  <cp:lastModifiedBy>bernarda</cp:lastModifiedBy>
  <dcterms:modified xsi:type="dcterms:W3CDTF">2012-08-03T17:13:00Z</dcterms:modified>
  <cp:revision>329</cp:revision>
  <dc:subject/>
  <dc:title>EAP WG</dc:title>
</cp:coreProperties>
</file>