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8901-18D9-4A01-B113-49B0B12C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E200-B158-467D-82C3-083B2BA9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FF6A-D7D0-4365-B647-91A1FF4D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89D9-6DAD-455D-9AD7-520C77A50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BE6B-2DC0-4018-92C0-241691BC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66B5-ED62-4562-BDC9-4068AF0E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424A-3F4F-4128-B2B2-517A02D4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A026-282E-486B-B639-54BC426C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F4D3-FCAB-46FB-94E8-68F7A9AA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1B55-9646-4FC0-8676-A6D8B638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05F2-A51D-47A5-89F6-97A459D7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4105-B733-4E4C-8051-70C679FC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73A8-471D-4EA5-81D8-F77FE81A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F4C2-5A21-4A77-B275-CF945FA8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A12F-E627-4B2B-8377-0A5E378F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673F-07EB-4261-B5D1-C9FA70FF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B39B-56BD-47DA-84F8-C77001459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2C3F-B176-4D6B-B6CE-F86EF146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47BE-E7EA-4819-B7E5-212DDD5F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1685-5514-4E6E-AE9F-F661A892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6BC5-D28A-4651-9CE8-9D36AA40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BF8D-6403-4C44-9E7C-366F9E5E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8067-742E-4E19-B323-35E7731F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ADB7-A94A-48ED-A2BC-6ACD82C0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BE12-0205-42D5-8952-871E59137F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40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1" descr="ietflogo"/>
          <p:cNvPicPr/>
          <p:nvPr/>
        </p:nvPicPr>
        <p:blipFill>
          <a:blip r:embed="rId2"/>
          <a:stretch/>
        </p:blipFill>
        <p:spPr>
          <a:xfrm>
            <a:off x="7391520" y="29718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C938-7D9F-4292-AFA3-555E3BBB10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RADEXT W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3047760"/>
            <a:ext cx="6858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ft-ietf-radext-ieee802ext-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rnard Abo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gust 3, 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ETF 84, Vancou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2209680" y="579132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join the Jabber ro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ext@jabber.ietf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ocument Statu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G Last Call Comple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rrently open issu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9:  Reason C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ssue 109 (Reason Codes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trac.tools.ietf.org/wg/radext/trac/ticket/1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proposal was to create a WLAN-Reason-Code attribute to contain information on the reason for authorization failure subsequent to a mobile device’s authentication request towards a Wi-Fi access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Section 2.14 adds values to Acct-Terminate-Ca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ing list discu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ietf.org/mail-archive/web/radext/current/msg07673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ietf.org/mail-archive/web/radext/current/msg07674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ietf.org/mail-archive/web/radext/current/msg07676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pe01496_"/>
          <p:cNvPicPr/>
          <p:nvPr/>
        </p:nvPicPr>
        <p:blipFill>
          <a:blip r:embed="rId1"/>
          <a:stretch/>
        </p:blipFill>
        <p:spPr>
          <a:xfrm>
            <a:off x="2944800" y="1941480"/>
            <a:ext cx="2922480" cy="34686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2881800" y="838080"/>
            <a:ext cx="294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66"/>
                </a:solidFill>
                <a:latin typeface="Arial"/>
              </a:rPr>
              <a:t>Feedbac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02:41:14Z</dcterms:created>
  <dc:creator>EAP Keying</dc:creator>
  <dc:description/>
  <dc:language>en-US</dc:language>
  <cp:lastModifiedBy>bernarda</cp:lastModifiedBy>
  <dcterms:modified xsi:type="dcterms:W3CDTF">2012-08-03T17:13:00Z</dcterms:modified>
  <cp:revision>329</cp:revision>
  <dc:subject/>
  <dc:title>EAP WG</dc:title>
</cp:coreProperties>
</file>