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CA06-5492-48C9-BA19-0FE03CA6D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B9CC-39C6-495A-99AF-4BA3CF19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1C464-ADBF-4288-9597-D72F5D7AE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F4103-88CA-488B-B416-F6D339A70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998C1-D67F-4BC4-A551-64C4CC2B7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6FE97-0F24-4FFC-9947-E6C27F438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B4A9E-BEEB-44BA-B824-4FDA0DAB4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B38F8-F1BF-43AA-BECA-E1ABA203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E2A07-F21A-4588-9FDE-C85313B75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8AEEA-67C2-4E9F-8345-6923CB507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3749E-0FC3-4727-94E8-4F7020089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BB42F-2BEA-43FA-BCDF-CCC1C44E0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62AA-6A20-433C-B3B3-67DB3691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E5F5A-37F5-4A56-B2D2-0BA56C4DE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A1065-DA0C-4BF9-85C9-4023722E5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F927C-C241-444E-9389-3DEF5C8D4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D81C9-A862-4DD4-937F-8AB467CD5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06A9-48F0-4AED-A8B9-A7EF4A3D0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4C46-09D6-4A0A-810D-4FD507456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1649-F3D1-497A-AF0D-D94C90A53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4E26-49CB-4E40-9A2E-45FFE93D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E972-F02B-476D-AEB5-4EB2F746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450E-428A-4984-88FF-312A64F5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C398-5EF4-4505-88DF-18836C57B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581A-6719-4F1A-A133-45AD133647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0AB0-661B-4682-915D-B5C0A6585A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TCWEB WG</a:t>
            </a:r>
            <a:endParaRPr b="1" lang="en-US" sz="4800" spc="-1" strike="noStrike">
              <a:solidFill>
                <a:srgbClr val="330066"/>
              </a:solidFill>
              <a:latin typeface="Arial"/>
            </a:endParaRPr>
          </a:p>
        </p:txBody>
      </p:sp>
      <p:sp>
        <p:nvSpPr>
          <p:cNvPr id="88"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aboba-rtcweb-ecrit-00</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Abob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Thoms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12</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4, Vancouver</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3"/>
          <p:cNvSpPr/>
          <p:nvPr/>
        </p:nvSpPr>
        <p:spPr>
          <a:xfrm>
            <a:off x="2209680" y="57913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join the Jabber 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cweb@jabber.ietf.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the Document</a:t>
            </a:r>
            <a:endParaRPr b="1" lang="en-US" sz="3900" spc="-1" strike="noStrike">
              <a:solidFill>
                <a:srgbClr val="330066"/>
              </a:solidFill>
              <a:latin typeface="Arial"/>
            </a:endParaRPr>
          </a:p>
        </p:txBody>
      </p:sp>
      <p:sp>
        <p:nvSpPr>
          <p:cNvPr id="91" name=""/>
          <p:cNvSpPr txBox="1"/>
          <p:nvPr/>
        </p:nvSpPr>
        <p:spPr>
          <a:xfrm>
            <a:off x="228600" y="1523520"/>
            <a:ext cx="8686800" cy="4411800"/>
          </a:xfrm>
          <a:prstGeom prst="rect">
            <a:avLst/>
          </a:prstGeom>
          <a:noFill/>
          <a:ln w="0">
            <a:noFill/>
          </a:ln>
        </p:spPr>
        <p:txBody>
          <a:bodyPr anchor="t">
            <a:normAutofit fontScale="86000"/>
          </a:bodyPr>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xplore how emergency services functionality can be implemented within the WebRTC framework, including:</a:t>
            </a:r>
            <a:endParaRPr b="0" lang="en-US" sz="30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routing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bility (Section 4)</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operability with PSAPs implementing next generation emergency services</a:t>
            </a:r>
            <a:endParaRPr b="0" lang="en-US" sz="2600" spc="-1" strike="noStrike">
              <a:solidFill>
                <a:srgbClr val="000000"/>
              </a:solidFill>
              <a:latin typeface="Arial"/>
            </a:endParaRPr>
          </a:p>
          <a:p>
            <a:pPr lvl="2" marL="848880" indent="-2523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 (Section 3)</a:t>
            </a:r>
            <a:endParaRPr b="0" lang="en-US" sz="23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nt will evolve based on implementation experience. </a:t>
            </a:r>
            <a:endParaRPr b="0" lang="en-US" sz="30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veats</a:t>
            </a:r>
            <a:endParaRPr b="1" lang="en-US" sz="3900" spc="-1" strike="noStrike">
              <a:solidFill>
                <a:srgbClr val="330066"/>
              </a:solidFill>
              <a:latin typeface="Arial"/>
            </a:endParaRPr>
          </a:p>
        </p:txBody>
      </p:sp>
      <p:sp>
        <p:nvSpPr>
          <p:cNvPr id="93"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provides no guidance as to whether a given WebRTC application or service will be subject to emergency service obligations. </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caveat in [PhoneBCP] Section 4</a:t>
            </a:r>
            <a:endParaRPr b="0" lang="en-US" sz="24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does not advocate use of IP-based communications in all circumstances.</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ccurate location is unavailable (or the device does not have access to the Internet) alternatives may be preferable</a:t>
            </a:r>
            <a:endParaRPr b="0" lang="en-US" sz="2400" spc="-1" strike="noStrike">
              <a:solidFill>
                <a:srgbClr val="000000"/>
              </a:solidFill>
              <a:latin typeface="Arial"/>
            </a:endParaRPr>
          </a:p>
          <a:p>
            <a:pPr lvl="2" marL="937800" indent="-2790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Could use WebAPI/WebTelephony API to access underlying (cellular) telephony plat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ext</a:t>
            </a:r>
            <a:endParaRPr b="1" lang="en-US" sz="3900" spc="-1" strike="noStrike">
              <a:solidFill>
                <a:srgbClr val="330066"/>
              </a:solidFill>
              <a:latin typeface="Arial"/>
            </a:endParaRPr>
          </a:p>
        </p:txBody>
      </p:sp>
      <p:sp>
        <p:nvSpPr>
          <p:cNvPr id="9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rts from requirements in [PhoneBCP], while recognizing that:  </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443 and [PhoneBCP] assume the use of SIP as the signaling mechanism for emergency calling.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 is out of scope for WebRTC.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related requirements do not necessarily apply to WebRTC implementations, applications and servi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the document is on requirements that are independent of the signaling mechanism.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ocation and Call Routing</a:t>
            </a:r>
            <a:endParaRPr b="1" lang="en-US" sz="3900" spc="-1" strike="noStrike">
              <a:solidFill>
                <a:srgbClr val="330066"/>
              </a:solidFill>
              <a:latin typeface="Arial"/>
            </a:endParaRPr>
          </a:p>
        </p:txBody>
      </p:sp>
      <p:sp>
        <p:nvSpPr>
          <p:cNvPr id="97" name=""/>
          <p:cNvSpPr txBox="1"/>
          <p:nvPr/>
        </p:nvSpPr>
        <p:spPr>
          <a:xfrm>
            <a:off x="0" y="1295280"/>
            <a:ext cx="9144000" cy="5105520"/>
          </a:xfrm>
          <a:prstGeom prst="rect">
            <a:avLst/>
          </a:prstGeom>
          <a:noFill/>
          <a:ln w="0">
            <a:noFill/>
          </a:ln>
        </p:spPr>
        <p:txBody>
          <a:bodyPr anchor="t">
            <a:normAutofit fontScale="94000"/>
          </a:bodyPr>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 obtaining location suitable for emergency use is highly desirable for WebRTC emergency applications.  Potential approaches:</a:t>
            </a:r>
            <a:endParaRPr b="0" lang="en-US" sz="24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in Javascript</a:t>
            </a:r>
            <a:endParaRPr b="0" lang="en-US" sz="20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HELD [RFC5985] and LoST [RFC5222] are implementable in JS</a:t>
            </a:r>
            <a:endParaRPr b="0" lang="en-US" sz="18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st challenge is server location:</a:t>
            </a:r>
            <a:endParaRPr b="0" lang="en-US" sz="18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sms described in [RFC5986] and [RFC5223] based on DHCP option typically not retrievable by a browser application. </a:t>
            </a:r>
            <a:endParaRPr b="0" lang="en-US" sz="14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ietf-geopriv-res-gw-lis-discovery can potentially provide the domain for LIS discovery (DNS queries handled on server-side)</a:t>
            </a:r>
            <a:endParaRPr b="0" lang="en-US" sz="14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server could be provided by the emergency services application.</a:t>
            </a:r>
            <a:endParaRPr b="0" lang="en-US" sz="14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Location API</a:t>
            </a:r>
            <a:endParaRPr b="0" lang="en-US" sz="20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eveloped with emergency uses in mind.</a:t>
            </a:r>
            <a:endParaRPr b="0" lang="en-US" sz="1800" spc="-1" strike="noStrike">
              <a:solidFill>
                <a:srgbClr val="000000"/>
              </a:solidFill>
              <a:latin typeface="Arial"/>
            </a:endParaRPr>
          </a:p>
          <a:p>
            <a:pPr lvl="3" marL="1204200" indent="-274680">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ource of the location information not provided, and can be difficult to infer. </a:t>
            </a:r>
            <a:endParaRPr b="0" lang="en-US" sz="16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underlying services disclaim applicability for emergency uses, and do not consistently provide the required accuracy.  </a:t>
            </a:r>
            <a:endParaRPr b="0" lang="en-US" sz="18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API/WebTelephony API</a:t>
            </a:r>
            <a:endParaRPr b="0" lang="en-US" sz="20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essibility</a:t>
            </a:r>
            <a:endParaRPr b="1" lang="en-US" sz="3900" spc="-1" strike="noStrike">
              <a:solidFill>
                <a:srgbClr val="330066"/>
              </a:solidFill>
              <a:latin typeface="Arial"/>
            </a:endParaRPr>
          </a:p>
        </p:txBody>
      </p:sp>
      <p:sp>
        <p:nvSpPr>
          <p:cNvPr id="99" name=""/>
          <p:cNvSpPr txBox="1"/>
          <p:nvPr/>
        </p:nvSpPr>
        <p:spPr>
          <a:xfrm>
            <a:off x="61920" y="1447920"/>
            <a:ext cx="9067680" cy="4411440"/>
          </a:xfrm>
          <a:prstGeom prst="rect">
            <a:avLst/>
          </a:prstGeom>
          <a:noFill/>
          <a:ln w="0">
            <a:noFill/>
          </a:ln>
        </p:spPr>
        <p:txBody>
          <a:bodyPr anchor="t">
            <a:normAutofit fontScale="99000"/>
          </a:bodyPr>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RTC-based emergency services SHOULD conform to the Web Content Accessibility Guidelines (WCAG) v2.0.</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ext communications</a:t>
            </a:r>
            <a:endParaRPr b="0" lang="en-US" sz="24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3C developing proposed charter for the Timed Text Working Group, which may produce a second edition of TTML v1.0 as well as TTML v1.1. </a:t>
            </a:r>
            <a:endParaRPr b="0" lang="en-US" sz="20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5] Instant Messaging requirement can be met in Javascript</a:t>
            </a:r>
            <a:endParaRPr b="0" lang="en-US" sz="20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MESSAGE [RFC3428]</a:t>
            </a:r>
            <a:endParaRPr b="0" lang="en-US" sz="16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PP [RFC6121]</a:t>
            </a:r>
            <a:endParaRPr b="0" lang="en-US" sz="16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6] requirement for Realtime Text (RFC 4103) not applicable to WebRTC</a:t>
            </a:r>
            <a:endParaRPr b="0" lang="en-US" sz="20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103 typically implemented along with SIP signaling [RFC5194].</a:t>
            </a:r>
            <a:endParaRPr b="0" lang="en-US" sz="16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P-0301 implementable in JS with adequate performance, can support realtime text in both point-to-point and multi-user-chat [XEP-045] scenarios. </a:t>
            </a:r>
            <a:endParaRPr b="0" lang="en-US" sz="1600" spc="-1" strike="noStrike">
              <a:solidFill>
                <a:srgbClr val="000000"/>
              </a:solidFill>
              <a:latin typeface="Arial"/>
            </a:endParaRPr>
          </a:p>
          <a:p>
            <a:pPr lvl="1" marL="685080" indent="-3441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Requirements</a:t>
            </a:r>
            <a:endParaRPr b="1" lang="en-US" sz="3900" spc="-1" strike="noStrike">
              <a:solidFill>
                <a:srgbClr val="330066"/>
              </a:solidFill>
              <a:latin typeface="Arial"/>
            </a:endParaRPr>
          </a:p>
        </p:txBody>
      </p:sp>
      <p:sp>
        <p:nvSpPr>
          <p:cNvPr id="101" name=""/>
          <p:cNvSpPr txBox="1"/>
          <p:nvPr/>
        </p:nvSpPr>
        <p:spPr>
          <a:xfrm>
            <a:off x="228600" y="1447920"/>
            <a:ext cx="8686800" cy="4411440"/>
          </a:xfrm>
          <a:prstGeom prst="rect">
            <a:avLst/>
          </a:prstGeom>
          <a:noFill/>
          <a:ln w="0">
            <a:noFill/>
          </a:ln>
        </p:spPr>
        <p:txBody>
          <a:bodyPr anchor="t">
            <a:normAutofit fontScale="91000"/>
          </a:bodyPr>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suppression [ED-74], RTP [ED-71] requirements met by WebRTC implementations conforming to the RTP usage profile. </a:t>
            </a:r>
            <a:endParaRPr b="0" lang="en-US" sz="24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position of [ED-77] requirement unclear:</a:t>
            </a:r>
            <a:endParaRPr b="0" lang="en-US" sz="24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mergency services, requirements need not be symmetric on the browser and the PSAP. PSAP can support multiple codecs, and browser then only needs to support one of them to enable interoperability. </a:t>
            </a:r>
            <a:endParaRPr b="0" lang="en-US" sz="20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ervices should leverage mainstream capabilities rather than attempting to drive mainstream acceptance based on regulations. </a:t>
            </a:r>
            <a:endParaRPr b="0" lang="en-US" sz="20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ED-73] does not require G.711 support if the service supports transcoding but G.711 support is desirable for PSTN interop, so recommend making G.711 mandatory-to-impl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pe01496_"/>
          <p:cNvPicPr/>
          <p:nvPr/>
        </p:nvPicPr>
        <p:blipFill>
          <a:blip r:embed="rId1"/>
          <a:stretch/>
        </p:blipFill>
        <p:spPr>
          <a:xfrm>
            <a:off x="2944800" y="1941480"/>
            <a:ext cx="2922480" cy="3468600"/>
          </a:xfrm>
          <a:prstGeom prst="rect">
            <a:avLst/>
          </a:prstGeom>
          <a:ln w="0">
            <a:noFill/>
          </a:ln>
        </p:spPr>
      </p:pic>
      <p:sp>
        <p:nvSpPr>
          <p:cNvPr id="103" name="Rectangle 3"/>
          <p:cNvSpPr/>
          <p:nvPr/>
        </p:nvSpPr>
        <p:spPr>
          <a:xfrm>
            <a:off x="288180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66"/>
                </a:solidFill>
                <a:latin typeface="Arial"/>
              </a:rPr>
              <a:t>Feedback?</a:t>
            </a:r>
            <a:endParaRPr b="0" lang="en-US" sz="4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a</cp:lastModifiedBy>
  <dcterms:modified xsi:type="dcterms:W3CDTF">2012-07-30T17:15:45Z</dcterms:modified>
  <cp:revision>340</cp:revision>
  <dc:subject/>
  <dc:title>EAP WG</dc:title>
</cp:coreProperties>
</file>