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EE55A-1070-4E3A-808F-3D9AE07CC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EEE32-80CD-4402-97D9-30B4F382B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BB415A-3796-427D-9B78-E21A7A71EF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5D5E6F-9F75-439B-8379-75556B7A08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97D8A9-78B2-4F8A-8579-A15676C872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7E65E8-5BA6-49E3-8FDF-E95426E702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680C45-7C5D-4CAB-A6D5-48B3DA4285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C5B9E1-9549-453B-A560-4137C835F2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403228-25AA-4B89-82EE-FB02569BA7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4BE0B7-A370-4A86-B63B-74A640D1DA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130CA9-6ED6-4458-BFD6-F89930C2A8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0346B7E-3BB0-4373-92A6-628E96B2373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7235A-8409-469B-BFD5-249037E48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54572E-5E07-41C3-ACA7-C5729BDAEC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45144D-4601-4CFD-878B-8DE993F388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8FD447-0B66-4E28-B07C-9AD70EFBB4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CCCE78-4082-49E6-821F-A7B2AB25C2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D75901-FF15-4E42-B55F-BDC7E4F8C3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B9F182-5C7D-4A49-8E58-CEE04EEC7A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E8F56E-50EB-48F9-B849-0450CC3A5E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ABD2B8-EB46-42E9-AE76-A8B3299A7E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F480CA-3F11-4E42-A7F8-F11B0BAD4A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09515A2-5979-4742-BF93-E07C94D778F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02AF0-2CFF-462D-B4F3-421A27874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1494917-FEC7-4F52-BD65-2EAB3718E91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FF0B6AD-CB71-44B3-869B-0CDAC799ECC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466E87-0AC5-491C-A6CE-7222C4BBAC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F71971-8356-464E-968E-D7817CF16B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6CF123-E713-4205-AA0D-E70EB0B742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F3C1CE-E60B-49D5-85E2-98D4B15672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877549-AAE6-42CC-889A-5E92C80141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A17341-36AD-4041-AD67-3EBA2AAEE2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C6FF91-42B0-4AF7-A062-61AE93080B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5B228E-BB92-465A-96CC-EC034482BE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41996-7E43-4CB3-849F-0C2BBE624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F787C5-51E8-4870-BD67-4EE5A961CA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5EA30F5-38D8-4CF7-B469-EA4D15527B4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2196DC7-712D-4297-A57A-215D2A5B27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46DF4F6-0B92-44D4-B59E-78C86F7C3CB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FA795A-2D6E-4F34-86BF-5AF17BA207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D122AF-668E-4DF5-AA76-F5EBA6B6D0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C85E74-3B3F-414B-9BC8-FAC5FB3EBA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74F88B-5CC5-4607-B575-A491DAA90F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12AE67B-00D6-4CDD-AFED-54220E431A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E61313-226B-4E41-B77C-CE2922575A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A7598-193F-4BE2-8A7B-2D4A4D831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10941D-0A47-4E06-BB37-ACD4F862E5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17B0EC-30D8-49A6-A328-39AF7D47EC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BE36B6-13BB-4C95-A58F-0D54DAFEB09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18B9C00-B924-40A1-8AC3-D6862BB9979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F37497D-83A0-4DF1-9B60-91F000E85DA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F3E20-44EB-4811-86BB-DE077E79D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FB243-E66F-48CF-A2D2-EE6FC95E9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31B26-E0DB-48D5-A55C-80A892EA7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A2556-31CD-44AC-A670-30CBA9B93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30B01-884B-4308-8847-F0FC9C821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7D77C-E149-42EE-8872-2C6F2E533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32414-FE81-4516-99C4-AEE22ED1B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12DEA-D625-46D5-A323-387265288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69A38-45C2-48BD-8261-29A805356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BB0E73-EC7F-4C31-886F-0D6F47C671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6FE4EA-CE15-4051-99AD-6DD3BD53E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BF322B-9B4E-49B6-99DE-E173161844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553812-A7E3-4302-92F4-9BE971071A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24AA9A-0240-47AE-BE0C-78B7B73AF0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6CD2F9-8950-4AD2-A2CC-1AAB45AF23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6488BC-4107-4392-A3CC-7C00E285EA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F4F50-97BB-4DED-B58D-331EE2B81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561E50-CF92-48D1-A958-5A9905C666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759754-2B7E-4E9F-A7C3-DDCD236FA2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22679B-C188-4889-874F-BE56F3B3DE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BF22BC-3334-4364-A164-DFA6289B8E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A25552-075C-45A6-9C0D-BBA036F52E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C40329-E743-49DA-962A-168D205D93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BAFCEC-334A-4132-AD36-F8B19AF915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0431DB-9B7D-48C9-AF19-CD45539BD3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657D60-372F-49A7-961F-E63B9A47FE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F8725D-2487-4E5B-A4D1-717672DEE7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5B935-563F-402F-8E80-2D9687943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91638E-53C1-4635-B9E7-DAC748C656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8EA97E-4DAB-4840-B717-7AA79CFCF0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DE94CB-1A63-42DD-8E8F-5EAF1BF818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C66497-7048-4876-A7BA-A8115EC8D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CB05C4-5F52-458A-A15C-F29670D756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03C5B6-CEDE-46D7-873B-010ED61C7F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D4D69E-889F-4A6A-9711-3E7FD8F5CE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C5CF24-CE03-4438-ACB9-F8D845EBA7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996A2A-D47D-42AF-8581-1BA4D17DD4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C49FF4-9D18-4A3D-A8FC-8F9440955D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C7E93-7DDA-4240-A9C8-EC91C5C0E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4BAE6C-E24D-468B-813D-6DEB552748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8DCF36-EFBC-489F-B59E-AFDA28F6D5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9E4EC0-F35D-4FD8-B239-A75C032F99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3C0A0E-9EF5-4C23-A090-4DAD4D08EF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A6F843-C063-4222-B390-2401682ADF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BB1E27-5905-429E-8985-C9073D584E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EE91B6-6F8C-48F4-A997-A3E83C22E5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D7E042-E2A0-4D4B-969F-BF452E55BB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A753D3-3833-40DC-9B51-12F2A40906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86F7C5-8ADE-405D-ACF8-FE215D0C81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69BCC-EFA4-4701-9081-E305279F9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469E32-9620-40F6-81F8-C89EBD62CE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2B00BA-A67A-4631-B222-391C1A5237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DC788F-B63E-4CEA-BF53-02F4146F36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E56C9A-3BAF-4542-B5B1-F2D426FE7D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004E9B-341C-48D7-AB91-4EF83875F1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45E44D-2F20-484F-873B-5676216A8E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E5CF48-349B-48E8-9FAF-D58D171BA9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491F04-F1F0-425B-8B62-DE5BE7740C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EF77E8-6893-4E7B-80E4-445738C1DA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80FFE9-D2DA-40D5-BDCB-6FFE42B1A7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9EC3A-A504-4651-9A65-EC4F1D048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5A8F18-FE6C-4422-9034-8253D92E13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E5602A-D6EA-461A-A402-3873216B55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4BC6AF-C2DF-4A38-B741-33617A215D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69D344-94F7-4DCF-82BC-ED7324EB20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2A9A75-3B74-4FEA-AE66-ED444AD71C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205DF9-9346-4B0D-9611-831BE3539B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1965C3-5A3A-45B7-9221-5B3C03237A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5E5024-57E1-44CC-A84F-FEC6C4D059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62571E-A77B-4340-B7E5-26A46A0514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D55D97-2F52-443A-8D02-23AF4C9ECB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2536F-C18B-4E83-98C7-CB941FE36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4B0D7B-6ED3-4984-A59E-7BD36B655D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7AF7FF-F17A-4949-9426-78D8120B69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2FFDD4-B0FB-4812-8144-538DD0D4BD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ED1365-AE6E-459D-8C0F-CA1C510883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FE11F2-6CCF-43B1-8148-8E860D9087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6B8152-8AD0-4FB1-AF41-521C48B62F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BA65A9-9E96-48C4-B343-3AA6B5782E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C6F979-DB50-45FC-BAD4-496DD51BEE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080457-A273-4BEC-8694-17838D6699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088C06-1807-4310-9BB7-453ED1F874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10BCA-91DA-40C3-85D1-E715F39AE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CD420D-987F-48E3-A0CD-858E73C040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93190F-B80D-4A44-941F-29E63817ED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A87272-5148-4CAD-BCD5-B4B179F149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160A74-76FC-42C3-9898-BA89DA70DE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5315C0-807C-4666-879D-5400026D93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0D0C91-65EB-47C7-9AEA-0A8F6A6C7D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6D938B-21D5-462D-9669-562594ED40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BEF8D8-7885-4FEE-B829-37A8B6FAD0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85B8AA-8CC8-4D2A-901D-FC7C402C0D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104A77-6598-44BE-A357-D5EF3682FD3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C5D2D7B6-4E9F-4FDA-86DB-AD1E86C4AAF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713F5-E974-49E1-B58A-BFA30C16D0E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F2B1-651D-4CE7-9472-1504F11C63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5C40-9186-4DC2-B97D-38413122B6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2E8ED-FB25-4CC2-9E3D-4813C9B2FE0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E4283-467D-48DA-AC06-095D7041AA0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DD12-E2D9-40C9-A6F9-1C7567E9EF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022A-E18A-4372-A999-1EF77B0DDC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EAC23-44E5-4305-B52C-2832F0198E1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E56E0-5322-40CA-8F53-9DBBC771615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FEA7-5895-450A-99BE-9977481C6C3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9D04-F4F0-4630-9EE2-C8C6BFF43C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556F-16E7-4469-98F4-9FD9161411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3597-469B-41BA-8245-F7CFE71F661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5911-D10D-4160-9B65-9BFE94C92A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94920" y="2130120"/>
            <a:ext cx="8497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outing Area Open Meeting</a:t>
            </a:r>
            <a:br>
              <a:rPr sz="4000"/>
            </a:br>
            <a:r>
              <a:rPr b="0" lang="en-GB" sz="4000" spc="-1" strike="noStrike">
                <a:solidFill>
                  <a:srgbClr val="000000"/>
                </a:solidFill>
                <a:latin typeface="Arial"/>
              </a:rPr>
              <a:t>Vancouver, July/August 2012</a:t>
            </a:r>
            <a:endParaRPr b="0" lang="en-US" sz="4000" spc="-1" strike="noStrike">
              <a:solidFill>
                <a:srgbClr val="000000"/>
              </a:solidFill>
              <a:latin typeface="Arial"/>
            </a:endParaRPr>
          </a:p>
        </p:txBody>
      </p:sp>
      <p:sp>
        <p:nvSpPr>
          <p:cNvPr id="493" name="PlaceHolder 2"/>
          <p:cNvSpPr>
            <a:spLocks noGrp="1"/>
          </p:cNvSpPr>
          <p:nvPr>
            <p:ph type="subTitle"/>
          </p:nvPr>
        </p:nvSpPr>
        <p:spPr>
          <a:xfrm>
            <a:off x="611280" y="3886200"/>
            <a:ext cx="8137440" cy="1752480"/>
          </a:xfrm>
          <a:prstGeom prst="rect">
            <a:avLst/>
          </a:prstGeom>
          <a:noFill/>
          <a:ln w="0">
            <a:noFill/>
          </a:ln>
        </p:spPr>
        <p:txBody>
          <a:bodyPr anchor="t">
            <a:noAutofit/>
          </a:bodyPr>
          <a:p>
            <a:pPr lvl="1"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ttp://tools.ietf.org/agenda/84/</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a Director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rian Farrel &lt;adrian@olddog.co.uk&gt;</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ewart Bryant &lt;stbryant@cisco.com&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155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ote Well</a:t>
            </a:r>
            <a:endParaRPr b="0" lang="en-US" sz="4000" spc="-1" strike="noStrike">
              <a:solidFill>
                <a:srgbClr val="000000"/>
              </a:solidFill>
              <a:latin typeface="Arial"/>
            </a:endParaRPr>
          </a:p>
        </p:txBody>
      </p:sp>
      <p:sp>
        <p:nvSpPr>
          <p:cNvPr id="495" name="PlaceHolder 2"/>
          <p:cNvSpPr>
            <a:spLocks noGrp="1"/>
          </p:cNvSpPr>
          <p:nvPr>
            <p:ph/>
          </p:nvPr>
        </p:nvSpPr>
        <p:spPr>
          <a:xfrm>
            <a:off x="457200" y="765000"/>
            <a:ext cx="8229600" cy="5904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ETF plenary sessio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ESG, or any member thereof on behalf of the IESG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IETF mailing list, including the IETF list itself, any working group or design team list, or any other list functioning under IETF auspice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IETF working group or portion thereof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AB or any member thereof on behalf of the IAB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FC Editor or the Internet-Drafts function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IETF Contributions are subject to the rules of RFC 5378 and RFC 3979 (updated by RFC 4879).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ease consult RFC 5378 and RFC 3979 for detai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articipant in any IETF activity is deemed to accept all IETF rules of process, as documented in Best Current Practices RFCs and IESG State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articipant in any IETF activity acknowledges that written, audio and video records of meetings may be made and may be available to the publi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d You Note Well?</a:t>
            </a:r>
            <a:endParaRPr b="0" lang="en-US" sz="4400" spc="-1" strike="noStrike">
              <a:solidFill>
                <a:srgbClr val="000000"/>
              </a:solidFill>
              <a:latin typeface="Arial"/>
            </a:endParaRPr>
          </a:p>
        </p:txBody>
      </p:sp>
      <p:sp>
        <p:nvSpPr>
          <p:cNvPr id="497" name=""/>
          <p:cNvSpPr txBox="1"/>
          <p:nvPr/>
        </p:nvSpPr>
        <p:spPr>
          <a:xfrm>
            <a:off x="468360" y="907560"/>
            <a:ext cx="8229600" cy="5002200"/>
          </a:xfrm>
          <a:prstGeom prst="rect">
            <a:avLst/>
          </a:prstGeom>
          <a:noFill/>
          <a:ln w="0">
            <a:noFill/>
          </a:ln>
        </p:spPr>
        <p:txBody>
          <a:bodyPr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viduals who participates are “Contributors”</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participate if you:</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dit a draft</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uthor a draft</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nt at a meeting</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ak at the microphone</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nd an email to an IETF list</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bber in an IESG jabber room</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ak at a virtual interim meeting</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c.</a:t>
            </a:r>
            <a:endParaRPr b="0" lang="en-US" sz="20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ponsibilities are your own personal responsibilities</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cannot hide behind your company or their processes</a:t>
            </a:r>
            <a:endParaRPr b="0" lang="en-US" sz="20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you know of your IPR or you company’s IPR that is material to a WG’s work either ensure a timely disclosure </a:t>
            </a:r>
            <a:r>
              <a:rPr b="1" lang="en-GB" sz="2400" spc="-1" strike="noStrike">
                <a:solidFill>
                  <a:srgbClr val="ff0000"/>
                </a:solidFill>
                <a:latin typeface="Arial"/>
              </a:rPr>
              <a:t>or</a:t>
            </a:r>
            <a:r>
              <a:rPr b="0" lang="en-GB" sz="2400" spc="-1" strike="noStrike">
                <a:solidFill>
                  <a:srgbClr val="000000"/>
                </a:solidFill>
                <a:latin typeface="Arial"/>
              </a:rPr>
              <a:t> don’t participate.</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d RFC 3979 and ask an AD</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WG chairs are checking about IPR at key times</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te Also…</a:t>
            </a:r>
            <a:endParaRPr b="0" lang="en-US" sz="4400" spc="-1" strike="noStrike">
              <a:solidFill>
                <a:srgbClr val="000000"/>
              </a:solidFill>
              <a:latin typeface="Arial"/>
            </a:endParaRPr>
          </a:p>
        </p:txBody>
      </p:sp>
      <p:sp>
        <p:nvSpPr>
          <p:cNvPr id="499" name="PlaceHolder 2"/>
          <p:cNvSpPr>
            <a:spLocks noGrp="1"/>
          </p:cNvSpPr>
          <p:nvPr>
            <p:ph/>
          </p:nvPr>
        </p:nvSpPr>
        <p:spPr>
          <a:xfrm>
            <a:off x="468360" y="1268280"/>
            <a:ext cx="8229600" cy="4525920"/>
          </a:xfrm>
          <a:prstGeom prst="rect">
            <a:avLst/>
          </a:prstGeom>
          <a:noFill/>
          <a:ln w="0">
            <a:noFill/>
          </a:ln>
        </p:spPr>
        <p:txBody>
          <a:bodyPr anchor="t">
            <a:normAutofit fontScale="86000"/>
          </a:bodyPr>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ease state your name clearly before speaking at the microphone</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dio streams and jabber </a:t>
            </a:r>
            <a:endParaRPr b="0" lang="en-US" sz="24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tools.ietf.org/agenda/84/</a:t>
            </a:r>
            <a:endParaRPr b="0" lang="en-US" sz="20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eting at rtgarea@jabber.ietf.org</a:t>
            </a:r>
            <a:endParaRPr b="0" lang="en-US" sz="20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ting Area mailing list</a:t>
            </a:r>
            <a:endParaRPr b="0" lang="en-US" sz="24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ing-discussion@ietf.org</a:t>
            </a:r>
            <a:endParaRPr b="0" lang="en-US" sz="20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ting Area wiki</a:t>
            </a:r>
            <a:endParaRPr b="0" lang="en-US" sz="24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trac.tools.ietf.org/area/rtg/trac/wiki/WikiStart</a:t>
            </a:r>
            <a:endParaRPr b="0" lang="en-US" sz="20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ting Directorate</a:t>
            </a:r>
            <a:endParaRPr b="0" lang="en-US" sz="24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ietf.org/iesg/directorate/routing.html</a:t>
            </a:r>
            <a:endParaRPr b="0" lang="en-US" sz="20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ue Sheets</a:t>
            </a:r>
            <a:endParaRPr b="0" lang="en-US" sz="24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l now be scanned and published</a:t>
            </a:r>
            <a:endParaRPr b="0" lang="en-US" sz="20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n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mCom Volunteers</a:t>
            </a:r>
            <a:endParaRPr b="0" lang="en-US" sz="4400" spc="-1" strike="noStrike">
              <a:solidFill>
                <a:srgbClr val="000000"/>
              </a:solidFill>
              <a:latin typeface="Arial"/>
            </a:endParaRPr>
          </a:p>
        </p:txBody>
      </p:sp>
      <p:sp>
        <p:nvSpPr>
          <p:cNvPr id="5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mCom is a vital part of the IETF proc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s://www.ietf.org/nomco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ll for volunteers is op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s://datatracker.ietf.org/ann/nomcom/49851</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ease consider voluntee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tended 3 out of 5 last IETF meet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15920"/>
            <a:ext cx="8229600" cy="86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oday’s Agenda</a:t>
            </a:r>
            <a:endParaRPr b="0" lang="en-US" sz="4400" spc="-1" strike="noStrike">
              <a:solidFill>
                <a:srgbClr val="000000"/>
              </a:solidFill>
              <a:latin typeface="Arial"/>
            </a:endParaRPr>
          </a:p>
        </p:txBody>
      </p:sp>
      <p:sp>
        <p:nvSpPr>
          <p:cNvPr id="503" name="PlaceHolder 2"/>
          <p:cNvSpPr>
            <a:spLocks noGrp="1"/>
          </p:cNvSpPr>
          <p:nvPr>
            <p:ph/>
          </p:nvPr>
        </p:nvSpPr>
        <p:spPr>
          <a:xfrm>
            <a:off x="250920" y="981000"/>
            <a:ext cx="86421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ivi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ing Group Re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rtualization &amp; OUI Tier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enn Parsons IEEE Registration Authorit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ing Routers Using Netmo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dislav Lhotk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face to the Routing System (I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ve Ward, Alia Atlas, Tom Nadeau</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en Discussion / Any Other Busi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orking Group Reports</a:t>
            </a:r>
            <a:endParaRPr b="0" lang="en-US" sz="4400" spc="-1" strike="noStrike">
              <a:solidFill>
                <a:srgbClr val="000000"/>
              </a:solidFill>
              <a:latin typeface="Arial"/>
            </a:endParaRPr>
          </a:p>
        </p:txBody>
      </p:sp>
      <p:sp>
        <p:nvSpPr>
          <p:cNvPr id="505" name="PlaceHolder 2"/>
          <p:cNvSpPr>
            <a:spLocks noGrp="1"/>
          </p:cNvSpPr>
          <p:nvPr>
            <p:ph/>
          </p:nvPr>
        </p:nvSpPr>
        <p:spPr>
          <a:xfrm>
            <a:off x="457200" y="981000"/>
            <a:ext cx="3898800" cy="4525920"/>
          </a:xfrm>
          <a:prstGeom prst="rect">
            <a:avLst/>
          </a:prstGeom>
          <a:noFill/>
          <a:ln w="0">
            <a:noFill/>
          </a:ln>
        </p:spPr>
        <p:txBody>
          <a:bodyPr anchor="t">
            <a:normAutofit fontScale="83000"/>
          </a:bodyPr>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FD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CAMP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R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IS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P</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2VPN</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3VPN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ET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PLS</a:t>
            </a:r>
            <a:endParaRPr b="0" lang="en-US" sz="3200" spc="-1" strike="noStrike">
              <a:solidFill>
                <a:srgbClr val="000000"/>
              </a:solidFill>
              <a:latin typeface="Arial"/>
            </a:endParaRPr>
          </a:p>
        </p:txBody>
      </p:sp>
      <p:sp>
        <p:nvSpPr>
          <p:cNvPr id="506" name="Rectangle 4"/>
          <p:cNvSpPr/>
          <p:nvPr/>
        </p:nvSpPr>
        <p:spPr>
          <a:xfrm>
            <a:off x="4788000" y="1135080"/>
            <a:ext cx="36097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VO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P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WE3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TGW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5T13:00:00Z</dcterms:created>
  <dc:creator>Adrian Farrel</dc:creator>
  <dc:description/>
  <dc:language>en-US</dc:language>
  <cp:lastModifiedBy>Adrian Farrel</cp:lastModifiedBy>
  <dcterms:modified xsi:type="dcterms:W3CDTF">2012-07-31T01:39:49Z</dcterms:modified>
  <cp:revision>97</cp:revision>
  <dc:subject/>
  <dc:title>RoutingAreaOpenMeeting</dc:title>
</cp:coreProperties>
</file>