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7D92F-B778-456C-9294-7972BF1DA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7405C-31CE-4E2F-ADCF-040EAEEA4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32B73A-5A56-4FFC-9FDA-445A7966B0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DC3CC0-0F4A-42E4-AF34-814669268F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E7FAAB-EE64-4583-829C-0BE4E90C1E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6F2572-8424-4E7A-BF8A-A19A838B50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24016E-C512-46B4-9DB1-BDDA641F48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7A7360-0765-4F1C-B91E-1243B98C7B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4DC98C-D399-4FD8-B010-F35C002A93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0CA322-D59B-4331-9E9A-F3B1DEFAA7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2096BE-12F4-4CD7-985D-D10970F76C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536B84-9101-4CAE-817A-B44ACDB070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B25A6-F361-467E-B8C1-B020062BF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620AFD-A817-4482-98FD-994D96F0D9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8B5B43-473D-4CE8-A95D-DA7B36DBD0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A632B5-17C2-4C67-9AF3-4969739ECA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C5527A-D1B7-4014-8D0C-DAA7ABC0D6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A4BE25-A661-4B53-81A9-1CC2168B28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93E2FD-4884-44AD-BD55-853918D42E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F2E8C8-6BE9-4F58-B96E-D9015EBD3B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DDDE2F-B6EA-4057-93DA-52F89B2981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C00EFE-458A-4505-8332-B47E4B8E6C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B43623-182A-41E2-BF76-BF1E246625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9A465-908F-4560-9C8C-E682B6AD9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5FC964-BAD3-4B7F-9C4D-049D366FD6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C7A053-00BD-44A3-9A97-52FDED2321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AD628D-1AC5-4C42-B954-3CD6F11E51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6F0EDC-66D5-455E-8E13-0BE386C5FA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BA31FF-073A-47AF-8B0C-BDE0487C3C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7FD5A9-BCF1-4364-BF79-AE33B86D0B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2CA897-0B9A-4951-8A76-8999FEC275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6BEB33-13A8-4FFF-A9B0-094177F23E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2E899E-680C-46B0-8C6F-2C92EB083F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30E52D-FCF0-4A5B-85A3-761E3F24AD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98090-5D22-476A-A172-E36EEA01B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327B0F-8C7C-4DD6-BCBB-2A2C559C1D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3AB579-0CE8-4F23-AAF8-40AA12B5F9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A3508C-23CA-4B68-9297-B80E5A0A5D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867C2B-69F5-4C6B-BE18-DAE20EAC4C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ABA7D5-F48E-4356-8071-10451A178C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697DD1-A21C-4624-A515-D43669D0CB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4BBE2F-BD39-4002-933E-19F8F97AAB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7FA71F-6C30-44F4-A247-74F85D804E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4A0F5B-A5BF-490E-A890-1141A1CEE3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F60837-C512-45A8-928B-ECBD1BD37B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028E3-46D9-4D93-ABAF-A393107C8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898F6D-EA2C-4560-AF08-79A9A9D973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A28A75-DFAB-4DA3-A973-AA76E37DA5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B41CE8-4691-42C2-A26C-C00494A67A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6E9C0C-93E6-4D27-B1E6-62B5F6EE2E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E0EE03-EF8C-45DB-A3A0-85139761AC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D65CE-7E7C-46D6-99D4-5A62A7D89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FF4B6-9303-4A10-B8FF-C8CFEB3A4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F547A-694D-41CF-9771-2DDF26746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733D2-5773-4EA6-98F5-0A06B7325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E34C9-7535-4706-837D-CF1A913A8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B38E1-6A46-4BDA-97B2-8A1D5A9D1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18324-4DCD-4362-99A9-62335CFB1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E675B-A792-43C1-B3F6-B024C2905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878EF-8CEA-4C8F-8A0F-60D3B720B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058A5-15FA-4F7E-9524-D742CB6E7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714F4-40D0-4E3B-A5EE-A97614AF3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F96FCB-3E10-4194-91BE-F82EFEB25B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241AD6-9417-4733-8A0B-5F81921DD5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97B9E7-204D-4AE5-A6EF-081381B67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A654AC-8043-4425-AB95-7FD834C36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CB869-4942-48E3-A36B-9ADD202AA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56D26-87D4-492A-B969-D1A287B7D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DF3F9-687D-4254-8556-7F869E983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B5228-1EFE-49C9-9D47-ECDA09640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6714B-6D48-4E00-9D80-F8BBFEC7B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6C816-E02B-4D18-8EB7-AAA68A4BF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0F77C-3E30-463E-B34C-0833399C4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5F8CF-2B2C-43A5-AE35-91A72831C1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D2E9A3-FAFC-4DC1-82D9-4F15D5B6C2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F877A1-3112-4854-BEB4-7C8BF1907D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F47C9D-8ECE-4A14-85CE-D86BEE488E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4E539C-E499-44E5-AF68-0E74940C76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D4BE7-C77D-48C2-B6C9-865D88AD2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B01F9-14D3-4F35-BAE1-579495B50A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5974F-49FE-44FB-9502-5B7DCFB293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C5C248-5F1E-466E-9DDE-AF2880ABF2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5BC40-FF79-43D1-A9CD-9F9432E93D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742F1-4358-4761-B2B6-FA6D4D579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FC112-8614-442B-A95C-0F6F44426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932EB-F42F-44A8-8F6A-71CAC95FFA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D8AE8F-2CBF-4A9F-94C4-B90D674AF3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AED797-9956-4A40-9B6E-3098F7CABB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8F86B4-7243-4EB2-A27E-BE6C3ED586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1EB3F-A4E3-487B-A36A-11E588019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C2C8A6-16F1-44EF-9536-C8BD966C93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DB394-F61F-4256-91EC-A3468055DB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68C3C-3BCA-46C1-B011-448A390AF1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63FD53-5FCF-4F7D-A019-94FCB3F12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F9BBA0-8397-4713-8417-8C61B075DC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6C366-A77B-495E-BC49-A8A249609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EBC18B-6128-4828-82D4-2469D870B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B423C3-EF4A-4470-9B04-CDF0CFBA02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34F94C-C3BA-4937-BB53-2BC8C695FA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0FF5F3-E8BE-4F18-B420-7D34C257B3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02ACC-1815-4CD8-A000-6C3DE3250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0AFC1A-52C6-42D2-B39D-4EEC37FB5C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A0994D-0DAE-435E-BBAC-CB62E91497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46FDD-381A-41CB-958F-491E8D6857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2C4A3C-4640-479F-8A4E-7F726FF7E0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135F4D-848F-4419-86D5-CD93B02BB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98C166-4AE9-4F7E-ADBC-E8311ECD2B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A1A48E-C43A-4842-831A-9E037E835A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979DEE-DC96-43DD-B8C9-C17BEB072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A57DCE-10C6-44D7-8D43-4196A2F4E1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A5F034-A5DC-4756-9FE5-CDE9E1FD0B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4315-3648-4809-8A7A-1E629E790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92B2BE-EFB5-4929-8590-BABC236D6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F067EB-D41F-4469-8F12-C4211E1373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95C312-EE00-4816-9AC9-DF3562D5CB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CBF42C-505D-4113-879C-4C4F7C4C86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F329DF-F26B-4DF8-9965-125CEA9FC4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F8C371-6FF2-4E9D-AF6D-643AB97555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0DFC2A-3CD7-4C16-90E8-4F9B8938F0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292DB9-6F04-436C-AB04-A2F7B0B4E9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EE2F72-0095-42B9-8715-14EC6C41C0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44AF0-7F15-4A12-A72C-F62172B61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EC30-42FB-4438-87B3-59C1B0A9F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E8D30-330C-41CF-9FDC-55429C4B4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07A885-A08B-41D6-B024-18248E072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808660-0855-4D2A-8F45-410AF4D80E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61E8CF-E6A1-4D13-8514-D7518D18AF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2D3BA9-F469-4352-A910-B7B4755312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9CF455-FB0A-4FB6-A5BF-3C1B70A600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A3E28F-DFAE-4BED-9255-C8619D0D71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46562A-B3E7-4B6D-B37C-170DBDF69F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60EA1C-8527-4DF4-8105-6A400D162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B36B97-D03C-4017-B22D-9FDD2DB3DC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6FF7E-C7B7-4A6C-BA29-BFFF3E7E8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968D1C-F753-4D3A-AAA6-96340C6075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D4C9ED-2AB9-4111-97AC-B51DA2B26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F14D5-CDE8-42E2-9B8F-308E2F929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87EBE-A27B-407E-87A4-5FF6ECDEEA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B4F57F-1C06-414D-9A09-4F5076B588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049965-6890-4E85-8F91-580CA139DE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F9F688-AC30-490C-B4A4-E6A7BA8263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784A82-6169-420A-B2E5-4F57EC571F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9B334F-CC3F-48E0-8C40-E6BD5E33D7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A9024A-0D68-4295-80B3-986839DB2A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7B7CD6CE-6B0D-40DD-899B-84C99F8CAA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D66F-B8B0-4C0B-8533-13F01D085D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CAC5-3317-4BC3-82C6-8D93A663F2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3CBC-20AD-4F06-BE6D-6FD62298263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58DC-6BFC-4FBD-BBAB-4BB4B3D4B0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7A1C-27A8-4EC7-BECE-8CB2E52441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F69E-4B9B-4C90-B67A-D8C628E83E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55A8-FD52-4BA9-9B0C-FA31534786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28A3-6EFA-4CD9-A858-8A839B6E29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A7A5-B796-4586-A942-3DF01D7FB9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A715-6B0D-46B2-97CE-5BE0D8AA65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BB1A-6090-49C4-848C-27AC21939B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EF01-ACDD-417F-8C96-31716A1050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3D07-BC14-410F-A443-5375126E40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2B2E-46D3-4F2E-A9FE-1815FADE68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94920" y="213012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outing Area Open Meeting</a:t>
            </a:r>
            <a:br>
              <a:rPr sz="4000"/>
            </a:br>
            <a:r>
              <a:rPr b="0" lang="en-GB" sz="4000" spc="-1" strike="noStrike">
                <a:solidFill>
                  <a:srgbClr val="000000"/>
                </a:solidFill>
                <a:latin typeface="Arial"/>
              </a:rPr>
              <a:t>Vancouver, July/August 2012</a:t>
            </a:r>
            <a:endParaRPr b="0" lang="en-US" sz="4000" spc="-1" strike="noStrike">
              <a:solidFill>
                <a:srgbClr val="000000"/>
              </a:solidFill>
              <a:latin typeface="Arial"/>
            </a:endParaRPr>
          </a:p>
        </p:txBody>
      </p:sp>
      <p:sp>
        <p:nvSpPr>
          <p:cNvPr id="493" name="PlaceHolder 2"/>
          <p:cNvSpPr>
            <a:spLocks noGrp="1"/>
          </p:cNvSpPr>
          <p:nvPr>
            <p:ph type="subTitle"/>
          </p:nvPr>
        </p:nvSpPr>
        <p:spPr>
          <a:xfrm>
            <a:off x="611280" y="3886200"/>
            <a:ext cx="8137440" cy="1752480"/>
          </a:xfrm>
          <a:prstGeom prst="rect">
            <a:avLst/>
          </a:prstGeom>
          <a:noFill/>
          <a:ln w="0">
            <a:noFill/>
          </a:ln>
        </p:spPr>
        <p:txBody>
          <a:bodyPr anchor="t">
            <a:noAutofit/>
          </a:bodyPr>
          <a:p>
            <a:pPr lvl="1"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tools.ietf.org/agenda/84/</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 Director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rian Farrel &lt;adrian@olddog.co.uk&gt;</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ewart Bryant &lt;stbryant@cisco.com&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55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te Well</a:t>
            </a:r>
            <a:endParaRPr b="0" lang="en-US" sz="4000" spc="-1" strike="noStrike">
              <a:solidFill>
                <a:srgbClr val="000000"/>
              </a:solidFill>
              <a:latin typeface="Arial"/>
            </a:endParaRPr>
          </a:p>
        </p:txBody>
      </p:sp>
      <p:sp>
        <p:nvSpPr>
          <p:cNvPr id="495"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TF plenary sess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SG, or any member thereof on behalf of the IESG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mailing list, including the IETF list itself, any working group or design team list, or any other list functioning under IETF auspic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working group or portion thereof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AB or any member thereof on behalf of the IAB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FC Editor or the Internet-Drafts functio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IETF Contributions are subject to the rules of RFC 5378 and RFC 3979 (updated by RFC 4879).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ease consult RFC 5378 and RFC 3979 for detai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is deemed to accept all IETF rules of process, as documented in Best Current Practices RFCs and IESG Stat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acknowledges that written, audio and video records of meetings may be made and may be available to the publi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d You Note Well?</a:t>
            </a:r>
            <a:endParaRPr b="0" lang="en-US" sz="4400" spc="-1" strike="noStrike">
              <a:solidFill>
                <a:srgbClr val="000000"/>
              </a:solidFill>
              <a:latin typeface="Arial"/>
            </a:endParaRPr>
          </a:p>
        </p:txBody>
      </p:sp>
      <p:sp>
        <p:nvSpPr>
          <p:cNvPr id="497" name=""/>
          <p:cNvSpPr txBox="1"/>
          <p:nvPr/>
        </p:nvSpPr>
        <p:spPr>
          <a:xfrm>
            <a:off x="468360" y="907560"/>
            <a:ext cx="8229600" cy="500220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viduals who participates are “Contributors”</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participate if you:</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it a draft</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uthor a draft</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 at a meeting</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ak at the microphone</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nd an email to an IETF list</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bber in an IESG jabber room</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ak at a virtual interim meeting</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c.</a:t>
            </a:r>
            <a:endParaRPr b="0" lang="en-US" sz="20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ponsibilities are your own personal responsibilities</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not hide behind your company or their processes</a:t>
            </a:r>
            <a:endParaRPr b="0" lang="en-US" sz="20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know of your IPR or you company’s IPR that is material to a WG’s work either ensure a timely disclosure </a:t>
            </a:r>
            <a:r>
              <a:rPr b="1" lang="en-GB" sz="2400" spc="-1" strike="noStrike">
                <a:solidFill>
                  <a:srgbClr val="ff0000"/>
                </a:solidFill>
                <a:latin typeface="Arial"/>
              </a:rPr>
              <a:t>or</a:t>
            </a:r>
            <a:r>
              <a:rPr b="0" lang="en-GB" sz="2400" spc="-1" strike="noStrike">
                <a:solidFill>
                  <a:srgbClr val="000000"/>
                </a:solidFill>
                <a:latin typeface="Arial"/>
              </a:rPr>
              <a:t> don’t participate.</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RFC 3979 and ask an AD</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WG chairs are checking about IPR at key times</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te Also…</a:t>
            </a:r>
            <a:endParaRPr b="0" lang="en-US" sz="4400" spc="-1" strike="noStrike">
              <a:solidFill>
                <a:srgbClr val="000000"/>
              </a:solidFill>
              <a:latin typeface="Arial"/>
            </a:endParaRPr>
          </a:p>
        </p:txBody>
      </p:sp>
      <p:sp>
        <p:nvSpPr>
          <p:cNvPr id="499" name="PlaceHolder 2"/>
          <p:cNvSpPr>
            <a:spLocks noGrp="1"/>
          </p:cNvSpPr>
          <p:nvPr>
            <p:ph/>
          </p:nvPr>
        </p:nvSpPr>
        <p:spPr>
          <a:xfrm>
            <a:off x="468360" y="1268280"/>
            <a:ext cx="8229600" cy="4525920"/>
          </a:xfrm>
          <a:prstGeom prst="rect">
            <a:avLst/>
          </a:prstGeom>
          <a:noFill/>
          <a:ln w="0">
            <a:noFill/>
          </a:ln>
        </p:spPr>
        <p:txBody>
          <a:bodyPr anchor="t">
            <a:normAutofit fontScale="86000"/>
          </a:bodyPr>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ease state your name clearly before speaking at the microphone</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o streams and jabber </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ools.ietf.org/agenda/84/</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eting at rtgarea@jabber.ietf.org</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mailing list</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ing-discussion@ietf.org</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wiki</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rac.tools.ietf.org/area/rtg/trac/wiki/WikiStart</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Directorate</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etf.org/iesg/directorate/routing.html</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 Sheets</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l now be scanned and published</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mCom Volunteers</a:t>
            </a:r>
            <a:endParaRPr b="0" lang="en-US" sz="4400" spc="-1" strike="noStrike">
              <a:solidFill>
                <a:srgbClr val="000000"/>
              </a:solidFill>
              <a:latin typeface="Arial"/>
            </a:endParaRPr>
          </a:p>
        </p:txBody>
      </p:sp>
      <p:sp>
        <p:nvSpPr>
          <p:cNvPr id="5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mCom is a vital part of the IETF 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s://www.ietf.org/nomco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l for volunteers is op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s://datatracker.ietf.org/ann/nomcom/49851</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e consider voluntee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nded 3 out of 5 last IETF mee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15920"/>
            <a:ext cx="8229600" cy="86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oday’s Agenda</a:t>
            </a:r>
            <a:endParaRPr b="0" lang="en-US" sz="4400" spc="-1" strike="noStrike">
              <a:solidFill>
                <a:srgbClr val="000000"/>
              </a:solidFill>
              <a:latin typeface="Arial"/>
            </a:endParaRPr>
          </a:p>
        </p:txBody>
      </p:sp>
      <p:sp>
        <p:nvSpPr>
          <p:cNvPr id="503" name="PlaceHolder 2"/>
          <p:cNvSpPr>
            <a:spLocks noGrp="1"/>
          </p:cNvSpPr>
          <p:nvPr>
            <p:ph/>
          </p:nvPr>
        </p:nvSpPr>
        <p:spPr>
          <a:xfrm>
            <a:off x="250920" y="981000"/>
            <a:ext cx="86421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ivi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ing Group Re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tualization &amp; OUI Tier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enn Parsons IEEE Registration Author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ing Routers Using Netmo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dislav Lhotk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face to the Routing System (I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ve Ward, Alia Atlas, Tom Nadeau</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n Discussion / Any Other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king Group Reports</a:t>
            </a:r>
            <a:endParaRPr b="0" lang="en-US" sz="4400" spc="-1" strike="noStrike">
              <a:solidFill>
                <a:srgbClr val="000000"/>
              </a:solidFill>
              <a:latin typeface="Arial"/>
            </a:endParaRPr>
          </a:p>
        </p:txBody>
      </p:sp>
      <p:sp>
        <p:nvSpPr>
          <p:cNvPr id="505" name="PlaceHolder 2"/>
          <p:cNvSpPr>
            <a:spLocks noGrp="1"/>
          </p:cNvSpPr>
          <p:nvPr>
            <p:ph/>
          </p:nvPr>
        </p:nvSpPr>
        <p:spPr>
          <a:xfrm>
            <a:off x="457200" y="981000"/>
            <a:ext cx="3898800" cy="4525920"/>
          </a:xfrm>
          <a:prstGeom prst="rect">
            <a:avLst/>
          </a:prstGeom>
          <a:noFill/>
          <a:ln w="0">
            <a:noFill/>
          </a:ln>
        </p:spPr>
        <p:txBody>
          <a:bodyPr anchor="t">
            <a:normAutofit fontScale="83000"/>
          </a:bodyPr>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D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AMP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R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IS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P</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VPN</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3VPN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ET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LS</a:t>
            </a:r>
            <a:endParaRPr b="0" lang="en-US" sz="3200" spc="-1" strike="noStrike">
              <a:solidFill>
                <a:srgbClr val="000000"/>
              </a:solidFill>
              <a:latin typeface="Arial"/>
            </a:endParaRPr>
          </a:p>
        </p:txBody>
      </p:sp>
      <p:sp>
        <p:nvSpPr>
          <p:cNvPr id="506" name="Rectangle 4"/>
          <p:cNvSpPr/>
          <p:nvPr/>
        </p:nvSpPr>
        <p:spPr>
          <a:xfrm>
            <a:off x="4788000" y="1135080"/>
            <a:ext cx="3609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VO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P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WE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GW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00:00Z</dcterms:created>
  <dc:creator>Adrian Farrel</dc:creator>
  <dc:description/>
  <dc:language>en-US</dc:language>
  <cp:lastModifiedBy>Adrian Farrel</cp:lastModifiedBy>
  <dcterms:modified xsi:type="dcterms:W3CDTF">2012-07-31T01:39:49Z</dcterms:modified>
  <cp:revision>97</cp:revision>
  <dc:subject/>
  <dc:title>RoutingAreaOpenMeeting</dc:title>
</cp:coreProperties>
</file>