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1C21C-6733-4AC8-8919-FFC4E7D5B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5450C-D0C1-4286-AC43-1AAFE372C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88C85-B6CE-4D52-82DE-9D3B4C375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7DFD0-2A1E-4FA1-92AF-9BCC9444F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1576B-ABA2-43F0-A021-B5F967132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1A16B-F5C3-4AD0-8635-F126EF7A1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0E13A-8B9B-4C7A-A695-5A8CB2D6E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A0100-EAA9-4370-955D-20E5AFBE4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B935F-0E61-4360-B4F4-BBE529806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6042-F7E9-4EA8-B899-379E953E5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B1A0-F749-40AB-B20E-3142805DB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A74A-6C44-4824-8204-D8FAA1D2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CB74-0577-4F2E-8243-467E419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1B52-5E87-4805-A310-5C2FC87DD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03D4-B103-4DC6-93A6-4E7195A3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C0FE-ADA0-48AF-BC4B-716D1684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06C5-1230-48E2-B117-F4A5E253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C870-D03E-4B40-976A-C0A640BB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304F-A4B2-46B6-BECE-C1D48C3B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4CF7-0086-49FF-B581-F5F057F0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E71A-9FC2-45F0-88A0-32E41E0E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6CB5-96D3-4783-AB6C-E8F05DF1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B5E3B-04DF-47BE-9E44-1BE532D37A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99360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mnibrok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lip Hallam-B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odo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nibroker  Current Stat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Query: newprotocol at exampl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Response: IP=10.1.2.3, TLS, cert=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dvertise &lt;service description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Broker performs DNS, Firewall, etc. conf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to P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Endpoints are user@domain rather than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developmen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preventing replay atta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okmark sha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ssword sto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Because humans cannot remember strong pass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hent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Get token for strong authentication protoc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E.g. SAML, Oauth, Open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i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Better than 2-factor authent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for inte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F in Atlan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Omnibr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is on GitH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Repositories are Godel, ProtoGen, Omnibr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MIT Licen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nibroker 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unnel OCSP queries over D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Use lightweight MAC for authent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itecture (c.f. Kerber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nection Server (JSON Web Servi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istributes authentication ti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Query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Returns certificate status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66760"/>
            <a:ext cx="8229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KI 2.0</a:t>
            </a:r>
            <a:br>
              <a:rPr sz="44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all about the Relying Par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Architectur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Perspectiv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verg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rtificate Transpa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Infrastruct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DNSSE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DA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ti-Virus Perspectiv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How do I give my customers access to the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Which will wi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Proprietary or Open Standar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+XKMS in JSON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K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What key should I use to access host X via protocol 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stbroker Connection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What IP address, port, transport protocol, key should I use to access host X via protocol 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295280"/>
            <a:ext cx="1218960" cy="83844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odo OC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124080"/>
            <a:ext cx="1219320" cy="838440"/>
          </a:xfrm>
          <a:prstGeom prst="rect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124080"/>
            <a:ext cx="1218960" cy="838440"/>
          </a:xfrm>
          <a:prstGeom prst="rect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286000"/>
            <a:ext cx="1218960" cy="83808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mantec OC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4267080"/>
            <a:ext cx="1219320" cy="83844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S r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5334120"/>
            <a:ext cx="1219320" cy="83808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S 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"/>
          <p:cNvCxnSpPr/>
          <p:nvPr/>
        </p:nvCxnSpPr>
        <p:spPr>
          <a:xfrm flipV="1">
            <a:off x="5334120" y="2207520"/>
            <a:ext cx="838800" cy="76284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 flipV="1">
            <a:off x="5486040" y="2742840"/>
            <a:ext cx="1143720" cy="53424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>
            <a:off x="5486040" y="3885840"/>
            <a:ext cx="1221480" cy="6865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5257440" y="4114440"/>
            <a:ext cx="764280" cy="11437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" name=""/>
          <p:cNvCxnSpPr>
            <a:stCxn id="61" idx="3"/>
            <a:endCxn id="60" idx="1"/>
          </p:cNvCxnSpPr>
          <p:nvPr/>
        </p:nvCxnSpPr>
        <p:spPr>
          <a:xfrm>
            <a:off x="2666880" y="3543480"/>
            <a:ext cx="1448640" cy="216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62120" y="3809880"/>
            <a:ext cx="914400" cy="76212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809880"/>
            <a:ext cx="381240" cy="228600"/>
          </a:xfrm>
          <a:prstGeom prst="flowChartPredefinedProcess">
            <a:avLst/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110120" y="1763640"/>
            <a:ext cx="1218960" cy="83844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"/>
          <p:cNvCxnSpPr>
            <a:stCxn id="60" idx="0"/>
            <a:endCxn id="72" idx="3"/>
          </p:cNvCxnSpPr>
          <p:nvPr/>
        </p:nvCxnSpPr>
        <p:spPr>
          <a:xfrm flipH="1" flipV="1">
            <a:off x="4718880" y="2601720"/>
            <a:ext cx="5400" cy="5227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iquitous Obje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oker can't be trusted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e decide whether code can run at 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Decouple consumption from ori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e web crawler to pre-popu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dd new data sources to old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Can implement any security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just the lowest common deno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on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ate device/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list of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ry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rvice Transport (Requir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Transport (fas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 Cr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ways to deal with a slippery slope, with crampons or with sk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nibroker uses rocket sk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 gateway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trust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246640" y="2895480"/>
            <a:ext cx="298296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971800" cy="2000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434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6:09:55Z</dcterms:created>
  <dc:creator>Phillip Hallam-Baker</dc:creator>
  <dc:description/>
  <dc:language>en-US</dc:language>
  <cp:lastModifiedBy>Phillip Hallam-Baker</cp:lastModifiedBy>
  <dcterms:modified xsi:type="dcterms:W3CDTF">2012-07-26T17:27:37Z</dcterms:modified>
  <cp:revision>9</cp:revision>
  <dc:subject/>
  <dc:title>Omnibroker Goedel Protogen</dc:title>
</cp:coreProperties>
</file>