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880C9-213D-4ACF-A2BC-E6FB0B0FD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87CCD-3A10-429A-9DA3-7A346295C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130E8-D940-4F91-9F81-18AC359A7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034D9-DA4D-4BEE-A0E2-EF3BF9E7F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6004C-63A4-4FF9-A971-03E551BFD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AAA03-B60C-4C5A-BC8A-D6F16E27C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6E229-1DEF-4ABA-B7A8-09E8D7F25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40D1E-9959-4890-B862-1BCC20533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6E29D-01EE-4337-870A-FAA692175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397A0-7DAD-4FA9-B1C7-13838B9C5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F7F1-C9C0-4B86-A762-D5C2C809BB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3042-6918-4A8D-83AF-05354A7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60F0-CAF4-4A08-8984-4D0A5B0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3D0D-0C36-4093-8E49-22C8629F9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03D3-49D2-4368-B86B-71D1E124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D848-E85E-44FC-9DED-C4EB3ECA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0B8C-2C73-4781-AD3E-30D254D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13BA-34EB-4337-B18E-0CEA090C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83CA-170F-46D3-8E3C-35A87C9C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8A99-B3D9-4D1A-84F6-001DD530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9127-76F2-4747-8060-25E22929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E4D5-5FA3-4B45-AB0A-742A68AF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A7097-FC8B-43AE-B017-A2B29DEE5A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99360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Omnibrok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hillip Hallam-Ba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modo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mnibroker  Current Statu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Query: newprotocol at exampl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Response: IP=10.1.2.3, TLS, cert=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dvertise &lt;service description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Broker performs DNS, Firewall, etc. conf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to P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Endpoints are user@domain rather than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developmen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rPr>
              <a:t>For preventing replay attac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okmark sha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ssword sto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rPr>
              <a:t>Because humans cannot remember strong passwo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thent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rPr>
              <a:t>Get token for strong authentication protoc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E.g. SAML, Oauth, Open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i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 Unicode MS"/>
              </a:rPr>
              <a:t>Better than 2-factor authent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for inte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F in Atlan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Omnibr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 is on GitH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Repositories are Godel, ProtoGen, Omnibr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MIT Licen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mnibroker 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al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unnel OCSP queries over D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Use lightweight MAC for authent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itecture (c.f. Kerber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nection Server (JSON Web Servi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istributes authentication ti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Query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Returns certificate status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66760"/>
            <a:ext cx="82296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KI 2.0</a:t>
            </a:r>
            <a:br>
              <a:rPr sz="44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all about the Relying Par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Architectur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Perspectiv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verg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rtificate Transpa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Infrastructu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DNSSE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DA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ti-Virus Perspectiv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How do I give my customers access to the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Which will wi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Proprietary or Open Standar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+XKMS in JSON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K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What key should I use to access host X via protocol 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stbroker Connection 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What IP address, port, transport protocol, key should I use to access host X via protocol 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1295280"/>
            <a:ext cx="1218960" cy="83844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odo OC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3124080"/>
            <a:ext cx="1219320" cy="838440"/>
          </a:xfrm>
          <a:prstGeom prst="rect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124080"/>
            <a:ext cx="1218960" cy="838440"/>
          </a:xfrm>
          <a:prstGeom prst="rect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286000"/>
            <a:ext cx="1218960" cy="83808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mantec OC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4267080"/>
            <a:ext cx="1219320" cy="83844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NS r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5334120"/>
            <a:ext cx="1219320" cy="83808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NS 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"/>
          <p:cNvCxnSpPr/>
          <p:nvPr/>
        </p:nvCxnSpPr>
        <p:spPr>
          <a:xfrm flipV="1">
            <a:off x="5334120" y="2207520"/>
            <a:ext cx="838800" cy="76284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 flipV="1">
            <a:off x="5486040" y="2742840"/>
            <a:ext cx="1143720" cy="53424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>
            <a:off x="5486040" y="3885840"/>
            <a:ext cx="1221480" cy="68652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>
            <a:off x="5257440" y="4114440"/>
            <a:ext cx="764280" cy="114372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" name=""/>
          <p:cNvCxnSpPr>
            <a:stCxn id="61" idx="3"/>
            <a:endCxn id="60" idx="1"/>
          </p:cNvCxnSpPr>
          <p:nvPr/>
        </p:nvCxnSpPr>
        <p:spPr>
          <a:xfrm>
            <a:off x="2666880" y="3543480"/>
            <a:ext cx="1448640" cy="216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62120" y="3809880"/>
            <a:ext cx="914400" cy="76212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809880"/>
            <a:ext cx="381240" cy="228600"/>
          </a:xfrm>
          <a:prstGeom prst="flowChartPredefinedProcess">
            <a:avLst/>
          </a:prstGeom>
          <a:solidFill>
            <a:srgbClr val="c6d9f1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110120" y="1763640"/>
            <a:ext cx="1218960" cy="838440"/>
          </a:xfrm>
          <a:prstGeom prst="can">
            <a:avLst>
              <a:gd name="adj" fmla="val 25000"/>
            </a:avLst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"/>
          <p:cNvCxnSpPr>
            <a:stCxn id="60" idx="0"/>
            <a:endCxn id="72" idx="3"/>
          </p:cNvCxnSpPr>
          <p:nvPr/>
        </p:nvCxnSpPr>
        <p:spPr>
          <a:xfrm flipH="1" flipV="1">
            <a:off x="4718880" y="2601720"/>
            <a:ext cx="5400" cy="52272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iquitous Objec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roker can't be trusted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e decide whether code can run at a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Decouple consumption from orig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e web crawler to pre-popu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add new data sources to old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Can implement any security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just the lowest common deno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on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ate device/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list of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ry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ervice Transport (Requir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Transport (fas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P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 Cr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ways to deal with a slippery slope, with crampons or with sk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nibroker uses rocket sk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 gateway 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trust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246640" y="2895480"/>
            <a:ext cx="298296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2971800" cy="2000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434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16:09:55Z</dcterms:created>
  <dc:creator>Phillip Hallam-Baker</dc:creator>
  <dc:description/>
  <dc:language>en-US</dc:language>
  <cp:lastModifiedBy>Phillip Hallam-Baker</cp:lastModifiedBy>
  <dcterms:modified xsi:type="dcterms:W3CDTF">2012-07-26T17:27:37Z</dcterms:modified>
  <cp:revision>9</cp:revision>
  <dc:subject/>
  <dc:title>Omnibroker Goedel Protogen</dc:title>
</cp:coreProperties>
</file>