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D66-D22A-4A3F-B147-02A43A3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8ED-8D4F-47C3-B9A5-F2B1A53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3A3-19CD-45D5-A8B2-24CFBEE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027-68DC-4E31-989D-880AE98E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AC1-A9C3-4F26-9FBC-F22B9F2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035-6734-45A1-B3E2-700FFDD8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1A2-A999-4E09-A158-A811C676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A6D-66BA-4F96-A6DE-7029E19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44B-E5C5-4674-A05F-D3BC701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DA1-4605-4393-B589-6C6DC6B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4D8-1E1D-45C7-9AAB-437D768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817-5701-49B0-B600-737D8A36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DA62-288F-485B-A4BF-1CF3551DA0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4400" y="2471760"/>
            <a:ext cx="6400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GPSEC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7240" y="335448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sidr-bgpsec-protocol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3200" y="507996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Lepins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8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9920" y="1660680"/>
            <a:ext cx="907092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-03 version was published in May based on discussions at the Par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-04 version was published in July based on discussions at the interi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-04 version does have a few places where editorial changes are required to improve the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of only one open technical issue in the -04 version of the doc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technical issues with this document, please raise them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GPSEC Attribut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41520" y="1884240"/>
            <a:ext cx="2286000" cy="4669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41520" y="2317680"/>
            <a:ext cx="2286000" cy="4669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41520" y="2749680"/>
            <a:ext cx="22860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gs (sig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1520" y="3218040"/>
            <a:ext cx="22860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889280"/>
            <a:ext cx="3592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Info (reserve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9520" y="418788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 Suite ID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9520" y="462132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520" y="595476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48640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05476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3160" y="418788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 Suite ID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3160" y="462132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3160" y="595476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3160" y="548640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3160" y="505476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8686800" cy="5715000"/>
          </a:xfrm>
          <a:prstGeom prst="roundRect">
            <a:avLst>
              <a:gd name="adj" fmla="val 28"/>
            </a:avLst>
          </a:pr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2370240"/>
            <a:ext cx="903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9960" y="5143680"/>
            <a:ext cx="928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516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9960" y="5143680"/>
            <a:ext cx="9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0552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uple Notes on the -04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515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” is a TLV with only one defined type, which is essentially a null type. At some later point this field could be used to add additional per-path sign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s” has 8 bits, one of which is used to mark confederations (see next slide). The other 7 bits could be used at some later point to add additional per-AS sign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iscussed in Paris, SKI is now a fixe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e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SEC uses the BGPSEC_Path_Signatures attribut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stead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_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_Path attribute is used to support confederations (RFC 50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GPSEC, the first bit of the flags field is set by the first router in the confederation when the path enters a confed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leaving a confederation, the last router removes all secure_path segments up to an including the one containing the entry fl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: Duplicate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signing the same data twice with the same key often does not produce the same signature 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gorithm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eceive an update from your peer and the only thing that's changed is the signature bits, you don't want to propagate thi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robably don't even want to go to the trouble of verifying this new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needs to be changed to specify behavior with regards to duplicat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pecification is finally becoming stable. Now would be a great time to read the document and raise any technical concerns you may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48:33Z</dcterms:created>
  <dc:creator>Matt Lepinski</dc:creator>
  <dc:description/>
  <dc:language>en-US</dc:language>
  <cp:lastModifiedBy/>
  <cp:revision>1</cp:revision>
  <dc:subject/>
  <dc:title/>
</cp:coreProperties>
</file>