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1FBD-7CC6-4F76-87B3-E791CE6A7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F8B5-8853-4C52-A7F2-74FEA6934D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63CE-1DAE-4B53-89D2-C64BAE0CD0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317E9-33D3-410C-9828-2395C2B8BD7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A1B82-3ABD-4650-A8EB-BD5D8E924BE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960FB-0240-4027-B218-B4DEE9048EB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6A7F-884C-446A-A44B-C1D10BFA0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8B64-019A-4ED8-90DB-1528584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3E29-0752-41CA-9EF5-06741B6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2B03-0CCF-461F-BEAA-56891322B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0F446-F361-449A-B360-9726503F5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2E2A5-BB59-40F7-874B-76A824EF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F86AE-1227-40DC-9FAD-75108A3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23E7F-07E8-46AE-A5E2-E12A569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026AC-AC62-4895-95DF-3D8765DB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98E4F-D5AB-4294-869F-097DB667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4D173-B4DB-40E0-9B28-ACC3AA6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9812-4FEE-49BC-8C4D-C441EEC6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F78D3-37AD-4656-9BA5-4C92C58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E50D-48B1-4855-AD33-CFF6C09E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78A4B-2773-498D-901A-21269466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31963-5475-4691-B241-A8B2E61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0F324-6EF1-4895-AFE2-BFD2EF9C2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1889-DC76-4E36-8579-B5A1AE4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1792-8541-47C4-B22F-55926890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D38C-08D8-4F40-A504-887DD286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01B7-8AB7-4E04-A5F1-859CAD27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3A91-DA0A-47F3-A789-31C9E935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7F09-4658-4D54-83F9-8DBE6369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1F0E-501E-478C-9969-F3FF0D5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803EE-BDBA-48CC-B3A9-82DEF5F9A8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7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10470-7316-48C7-B433-640D15D35C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0040" y="431640"/>
            <a:ext cx="858384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39400" y="1344600"/>
            <a:ext cx="85741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5440" y="907920"/>
            <a:ext cx="77724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PREC Archite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raft-ietf-siprec-architecture-05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00080" y="3176640"/>
            <a:ext cx="72151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August 3,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IETF 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Vanco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5516640"/>
            <a:ext cx="85723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uthors: A. Hutton, L. Portman, R. Jain, K. Re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ly -05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es from 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main open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es from -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4200" y="1000080"/>
            <a:ext cx="8747280" cy="61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igning definitions and terms with requirements and metadata drafts, figures fixes, updates to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xing  B2BUA honoring recording preferences 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2BUA/SRC is responsible for complying with requests from recording aware UAs or through some configured policies indicating that the communication session should not be record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xing terminology and spelling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hrasing in section 3.1.4, 3.2, 32.2., 3.2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NA reference to the protocol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s in the security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n item: SRS Initiated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ed text for SRS f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the session that is to be recorded.  The actual mechanism of the identification can be dependent on SRC policy or be defined by future SIPREC extens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n item: media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RS media mixing preferences indication to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sibl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m-lines (mixed and un-mix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tpone for later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sue 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dy for IESG re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IPREC Architecture</dc:title>
</cp:coreProperties>
</file>