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3CDA3-1BE1-4502-8941-42E26C90F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CFE54-DC4A-4B43-9E49-3B93348F68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28791-D453-46E3-B2C1-9FF763B6D4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39694-556E-41B5-815B-1B61C95559A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023AD-9EAC-482C-BF26-1685AE206D8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5B778-6F74-4979-8642-22D2420349A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DF57-72E6-4607-9FD1-786A64178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0BE7-BAD7-4EAA-9F41-5FEA1D9D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9FC8-3E3C-4092-A2E7-B323111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8FFB-C30F-4715-8506-96CBA0A5C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87884-EA74-4CF2-AE1A-422FBD183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77A2F-7E45-420C-98D0-3A5334AB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D8E7A-B9AE-4BBF-AF71-71B185A3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FFDA4-CCD5-42BA-ABE3-2210DD3D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BB2F6-EBB2-4CC5-92DE-CDDEC7DC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4049A-B0F3-4152-9AFA-AB4C74B2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FE7EE-EE63-4D6E-82E9-51D2282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B489-9406-4063-B4A9-C36A42B6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53B82-BB0E-4AE6-A759-A54C07BB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FF24F-DDD2-4050-B25D-55D8ED38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7DBE3-75C4-44E8-96A4-81DDF56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00E72-A915-423B-AD4C-859CF7E5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2FF34-24A6-4B96-895B-0A139A76A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3DFF-75AA-410D-A731-44B73763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D4A4-834C-4BF0-A278-9C797408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C2A4-A203-40A8-BD69-8306F4D7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7C54-FD14-4566-BE85-4938DE65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4344-E70B-4859-AD17-CCB3E4E5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96F3-D972-4939-8113-C8209736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65CE-4EBC-45B8-80A3-D6FB0710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852A7-E674-4CDF-9117-730D3FD387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7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1F750-3B0C-4034-8B5F-C89C02A4E6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0040" y="431640"/>
            <a:ext cx="858384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39400" y="1344600"/>
            <a:ext cx="85741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5440" y="907920"/>
            <a:ext cx="77724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PREC Archite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raft-ietf-siprec-architecture-05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00080" y="3176640"/>
            <a:ext cx="72151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August 3,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IETF 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Vanco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5516640"/>
            <a:ext cx="85723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uthors: A. Hutton, L. Portman, R. Jain, K. Re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ly -05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nges from 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wo main open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nges from -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4200" y="1000080"/>
            <a:ext cx="8747280" cy="61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igning definitions and terms with requirements and metadata drafts, figures fixes, updates to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xing  B2BUA honoring recording preferences stat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2BUA/SRC is responsible for complying with requests from recording aware UAs or through some configured policies indicating that the communication session should not be record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xing terminology and spelling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hrasing in section 3.1.4, 3.2, 32.2., 3.2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NA reference to the protocol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s in the security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n item: SRS Initiated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ed text for SRS f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the session that is to be recorded.  The actual mechanism of the identification can be dependent on SRC policy or be defined by future SIPREC extens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n item: media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RS media mixing preferences indication to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sible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m-lines (mixed and un-mix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tpone for later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sue 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dy for IESG revi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IPREC Architecture</dc:title>
</cp:coreProperties>
</file>