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136-9515-4A5C-BCB5-19092733DE7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A0B-6FFD-4D87-BC04-8B2964E5F7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特点加括号注明，终端感知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0F1-BF5B-4719-BEEA-8AE4407B5C1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we have a large collaboration team. We have 7 operators from China Telecom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0B6F-84B4-44B1-8C9C-DBEB19657E17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960-FA5E-456F-A8BB-50821B60BAD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1D625-4446-4129-AC41-34FA2EC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8796-DD7D-43CD-B8F7-78B9343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CF599-5F4C-4E4C-9D80-2C51C0DD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009B-4202-42AD-AE82-F0A50EE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C38D-5131-4E0D-BF16-394515D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E4A8-7C76-4A53-8E2D-98FF979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DDB4-BCF1-49C8-B4BB-6AABE57E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4EE4-316C-4240-A0E6-EE6CD168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A96C-10B7-4F64-A7B6-FFD34A1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2C16-3137-42B2-962F-3422E34D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5EB86-35BA-4E6E-B3B8-0E4E52C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30323-647A-4C08-B6F9-570D69AB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56AF0-7B08-4A65-92A0-2209A72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F3E3-EA4F-477F-9F11-75BC5263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1C7A3-CBAF-4DE8-8E08-5BCF5D0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C63B4-D6AC-4255-BBB9-001BDC7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BA274-CF82-48C7-9377-2F2B3A0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E68B8-2438-4AD2-A5C3-A4B4496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9EBCE-7BF9-4878-9E9A-CEB6FF20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72BE4-F402-4205-BF0E-78775931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A2772-6546-4662-9A31-49A8835F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7E02F-5F07-44E4-BF6C-3621C804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926C-BCEA-45F7-BDD5-A68F916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1DC2-672B-4C1F-AA3C-D69A3E9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5F21C-00B2-45A8-9C74-36C5FDB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C9861-1CF1-4EE6-81E4-39826FA0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1EAE7-609E-490E-B51A-C872695F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0B2B9-D7AA-4BE6-BA65-0FC4921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770AF-8709-467B-B3D0-0695D00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8634-414B-45F8-BA8B-28FBA02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126-E1E4-495C-9672-E68E33C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92FFB-A3D8-4049-A945-8438039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26FBE-9622-4FC8-B324-7CB15F7E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C471E-B69A-4E98-8441-982C3F35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ABF8-3A8C-4453-BA85-E62CA952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7602E-37EA-4653-8E5E-40EDE09F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D6C7-2FE8-4487-8A59-AB1EBC9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C1CFC-02B0-4539-BA23-2168ED2C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47C6F-A668-4632-8F7D-068253F7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DAF2-1D6E-4A9A-8A17-F52A3FF3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7EE07-53A3-4CE4-B5EA-FF72D06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5CE-CFB0-43BA-9FC1-A712F9C8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AF3D4-ACDD-43F8-8016-CBDDEDC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45EE-4CAE-40FA-B696-1199E9B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37B0F-D69E-4D30-9065-31AB01F0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64741-81FA-4FE4-8B82-09BB977C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BA6E-099C-4250-81B0-5DD6B25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6F332-E59A-4D4D-93F1-694DCA6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59CE-E5E1-4A52-9F4F-E96AE8E8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5435-0821-4B0A-A4A7-03E9949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7B026-6E9D-4348-9853-7B5C6CEF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07156-F8D0-43A2-A881-190E071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5BF-048B-47BD-95A7-CD4E8CE4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BEDCA-41B5-49B6-B043-1D956360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CE466-FDAC-40D8-8496-BF404D1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9AE1-F9CD-4A78-A686-5D4596C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4CDDA-1407-47CE-8035-9D7A7FB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5DA99-7F31-4031-B9B2-E7DD576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EF581-1A89-481D-A347-0704B62C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86230-4F81-42CF-B01B-28BE3284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036-DC20-4FC6-88B8-B3BB8F98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161-08E4-4DEF-8040-B744791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B6C-7046-4D37-A1B7-B40B40F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113-B7C9-4DF5-AEFA-49B3B7D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633-184C-445F-B846-521C564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97E-CA6A-4E4F-AF66-6280CB4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F4F-240D-4284-AE81-360661F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7A2-3A45-4968-A044-E26FA274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C26-C130-427D-B632-B92D0DC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023-84AE-41BC-BA07-DACFD12F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A3D2-6FC1-446F-B69D-5580EA1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EC6C-6539-43A2-9394-CB06E3E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709-32A8-499C-BDBE-81F32460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F447-01AE-4C5B-AD30-3CB02C5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B9F7-7999-4DA5-A9F3-C44232F2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EF3A-1DE4-4BFA-8FD7-87FFBC6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E62-AEA0-4237-9340-6285E72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DDE-6301-4CAC-BC7E-0E327E8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855D-E370-42BF-BC02-8938D3A0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C52F-73DD-47D3-8433-437EB14D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99D8-AE3B-44E2-82C2-46FC4FF7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B9CF-2A3B-44B8-9FB1-DFAAA294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B4A1-2B42-4045-9852-F3532C2D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644D-ACB4-4218-B0DE-CC2F5F19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02E7-04DC-4124-B115-DDBCD1B5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20C4-C19D-4C37-A8FC-8C66747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AE4F-CD5B-48A6-9FD5-4D1022F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45DE-8747-4DA3-ADA7-DC8C923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0E37-5006-4641-89B0-E5DFEFD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52A7-A91A-4189-9253-9CFA465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2E43-3234-4E45-9D97-76639A62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414F-938D-47EC-9DED-9809FC13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B6B5-5634-401B-BBCA-4CA5E20F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10EB-9233-4E38-8B1E-52434D67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2677-7F9E-425E-BE44-712E9B03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78C7-0343-47D2-9F09-D4D660A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ADCD-B2B8-450B-BE92-6BB7B1AB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9CE8-C149-4D6A-8EFE-4E49980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F536-FA7A-48EA-AF8D-1B96E1C4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112F-32D6-4C11-991D-0E0F2816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D9DF-6357-4E9D-8E2C-9B5752E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E2B0-A15F-4E0E-AEC1-7D827813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166D-4F8F-4185-929A-44BC078B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89B7-CFA3-428D-BDA0-476939EB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2E82-FABC-4B69-BC09-1B4AD8D7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CE63-D575-4B30-825D-95933740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F6B1-CFFC-4B1E-80F1-91555DCD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2373-6C54-4C48-A8BB-497DF07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93C0-8FD1-40DE-A15A-E11D7AF3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0BCD-0A7C-4A27-8B22-9A73E24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DE72-3AF8-4B8C-B649-1D438D6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5361-0AD5-41FA-81E5-09794A7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3EF69-B940-4F7C-9AFC-FDAC8DA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D549-3AB0-4CD1-87F9-E872B2C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9170-12C9-479E-9031-8D1CE3F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4896-6FFA-42B1-9AE3-F717EA82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3FC5-CBCE-489B-A9AE-7A6BD583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F7F8-1FF8-4504-8CF0-2F3136D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F91F-802B-436A-A016-EA93A10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A49F-327F-4BE0-B43E-8A4364E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B2C3-D67F-4F59-B58E-6E804F1A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7C3F-34FA-41E8-A8D3-0D32DDFF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421E3-E910-439A-AD26-2BB5DA2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28D2-AEF8-430B-897B-AE3A490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EB51D-D612-4CDF-849D-854354D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93FC-F1F9-48EC-B9F0-AF60014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49AC-0CC0-44CB-951C-FB068AF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ABE4-1AF0-4C9F-A19B-5495EDF0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E2858-E26C-4003-9B6B-D69BF591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A476-ECD3-4E65-A2B8-5210083E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FE4D-0705-467F-BE7D-873A26A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61AD-00E2-4CD2-BAE3-DB42DC6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338B8-BBD6-479A-9EE2-45231EF9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AC04-F63A-4D6D-A284-D27279D7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BC6A-8C4C-4F00-8F1E-37B98654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A7E2-F234-46DC-8257-51C54DBD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6935-53CF-4C07-B848-00EB371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22D27-CB40-4162-A977-DEBC0DF0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D907-696F-453A-A4E1-4662760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1536-9ACC-49A1-BE09-6593BBA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A5FB1-44B5-4AC5-9670-1CBCDE48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EC63-51E9-432F-BF2F-92396FEA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0CAFC-80C2-4220-A5EC-CE85B9D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E6CD5-B3BB-4F39-B182-3178BE58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-504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ETF 8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宋体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043-D50F-4F1F-8312-F1D79107A4B7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63E-3704-487D-9997-9AB0D346CA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1ED-C341-4512-A2AC-9142583478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AA1-F090-4ACC-8933-CCF0CA00A8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8A4-4064-4E09-9262-5EFBA4529D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CA717-50AE-41BE-A463-B7D7D933BB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1DF-26CD-4294-ADD3-1DFFD0F65A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A317-7F29-4EB8-8AC5-7BA8AAC9CE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6CF5-E0F4-4E75-9E31-6C867D1FEB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C03-7566-42EF-B685-40DD0B48B1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64F-0CDF-418E-A6A7-AFE9027D50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077-16BE-46CC-B13A-73EB0F73E9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B5CF-D561-41B9-AA1E-C210F815E0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wmf"/><Relationship Id="rId14" Type="http://schemas.openxmlformats.org/officeDocument/2006/relationships/image" Target="../media/image25.png"/><Relationship Id="rId15" Type="http://schemas.openxmlformats.org/officeDocument/2006/relationships/image" Target="../media/image21.pn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laft6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Lightweight 4over6: An Extension to DS-Lite Architecture</a:t>
            </a:r>
            <a:br>
              <a:rPr sz="4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aft-cui-softwire-b4-translated-ds-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 84-Vancouver, August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. Cui, Q. Sun, M. Boucadair, T. Tsou, Y. Lee, I. Farrer,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云形 115"/>
          <p:cNvSpPr/>
          <p:nvPr/>
        </p:nvSpPr>
        <p:spPr>
          <a:xfrm>
            <a:off x="3352680" y="3124080"/>
            <a:ext cx="2057400" cy="1447920"/>
          </a:xfrm>
          <a:custGeom>
            <a:avLst/>
            <a:gdLst>
              <a:gd name="textAreaLeft" fmla="*/ 283320 w 2057400"/>
              <a:gd name="textAreaRight" fmla="*/ 1627560 w 20574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云形 115"/>
          <p:cNvSpPr/>
          <p:nvPr/>
        </p:nvSpPr>
        <p:spPr>
          <a:xfrm>
            <a:off x="1219320" y="3200400"/>
            <a:ext cx="2057400" cy="1447920"/>
          </a:xfrm>
          <a:custGeom>
            <a:avLst/>
            <a:gdLst>
              <a:gd name="textAreaLeft" fmla="*/ 283320 w 2057400"/>
              <a:gd name="textAreaRight" fmla="*/ 1627560 w 2057400"/>
              <a:gd name="textAreaTop" fmla="*/ 218520 h 1447920"/>
              <a:gd name="textAreaBottom" fmla="*/ 1162440 h 1447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Telecom 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8"/>
          <p:cNvSpPr/>
          <p:nvPr/>
        </p:nvSpPr>
        <p:spPr>
          <a:xfrm>
            <a:off x="7445520" y="17524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1828800" y="360504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3657600" y="3657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etro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云形 41"/>
          <p:cNvSpPr/>
          <p:nvPr/>
        </p:nvSpPr>
        <p:spPr>
          <a:xfrm>
            <a:off x="5191200" y="2057400"/>
            <a:ext cx="2276280" cy="1474920"/>
          </a:xfrm>
          <a:custGeom>
            <a:avLst/>
            <a:gdLst>
              <a:gd name="textAreaLeft" fmla="*/ 313560 w 2276280"/>
              <a:gd name="textAreaRight" fmla="*/ 1800720 w 2276280"/>
              <a:gd name="textAreaTop" fmla="*/ 222480 h 1474920"/>
              <a:gd name="textAreaBottom" fmla="*/ 1184040 h 1474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ffc000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7" descr=""/>
          <p:cNvPicPr/>
          <p:nvPr/>
        </p:nvPicPr>
        <p:blipFill>
          <a:blip r:embed="rId1"/>
          <a:stretch/>
        </p:blipFill>
        <p:spPr>
          <a:xfrm>
            <a:off x="5005440" y="2871720"/>
            <a:ext cx="633240" cy="609840"/>
          </a:xfrm>
          <a:prstGeom prst="rect">
            <a:avLst/>
          </a:prstGeom>
          <a:ln w="0">
            <a:noFill/>
          </a:ln>
        </p:spPr>
      </p:pic>
      <p:sp>
        <p:nvSpPr>
          <p:cNvPr id="661" name="TextBox 10"/>
          <p:cNvSpPr/>
          <p:nvPr/>
        </p:nvSpPr>
        <p:spPr>
          <a:xfrm>
            <a:off x="5840280" y="2381400"/>
            <a:ext cx="109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IPv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Object 6"/>
          <p:cNvGraphicFramePr/>
          <p:nvPr/>
        </p:nvGraphicFramePr>
        <p:xfrm>
          <a:off x="8077320" y="2225520"/>
          <a:ext cx="32364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22552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4" name="AutoShape 30"/>
          <p:cNvCxnSpPr/>
          <p:nvPr/>
        </p:nvCxnSpPr>
        <p:spPr>
          <a:xfrm>
            <a:off x="7670520" y="2475000"/>
            <a:ext cx="40716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AutoShape 30"/>
          <p:cNvCxnSpPr/>
          <p:nvPr/>
        </p:nvCxnSpPr>
        <p:spPr>
          <a:xfrm flipV="1">
            <a:off x="7738560" y="5168520"/>
            <a:ext cx="407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666" name="Picture 37" descr=""/>
          <p:cNvPicPr/>
          <p:nvPr/>
        </p:nvPicPr>
        <p:blipFill>
          <a:blip r:embed="rId4"/>
          <a:stretch/>
        </p:blipFill>
        <p:spPr>
          <a:xfrm>
            <a:off x="7039080" y="2168640"/>
            <a:ext cx="631800" cy="609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37" descr=""/>
          <p:cNvPicPr/>
          <p:nvPr/>
        </p:nvPicPr>
        <p:blipFill>
          <a:blip r:embed="rId5"/>
          <a:stretch/>
        </p:blipFill>
        <p:spPr>
          <a:xfrm>
            <a:off x="7105680" y="4871880"/>
            <a:ext cx="63324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8" name="Object 9"/>
          <p:cNvGraphicFramePr/>
          <p:nvPr/>
        </p:nvGraphicFramePr>
        <p:xfrm>
          <a:off x="8145360" y="4902120"/>
          <a:ext cx="3240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5360" y="4902120"/>
                    <a:ext cx="32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云形 115"/>
          <p:cNvSpPr/>
          <p:nvPr/>
        </p:nvSpPr>
        <p:spPr>
          <a:xfrm>
            <a:off x="5276880" y="3956040"/>
            <a:ext cx="2495520" cy="1711440"/>
          </a:xfrm>
          <a:custGeom>
            <a:avLst/>
            <a:gdLst>
              <a:gd name="textAreaLeft" fmla="*/ 343800 w 2495520"/>
              <a:gd name="textAreaRight" fmla="*/ 1974240 w 2495520"/>
              <a:gd name="textAreaTop" fmla="*/ 258480 h 1711440"/>
              <a:gd name="textAreaBottom" fmla="*/ 1373760 h 1711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cap="rnd" w="9360">
            <a:solidFill>
              <a:srgbClr val="22228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7" descr=""/>
          <p:cNvPicPr/>
          <p:nvPr/>
        </p:nvPicPr>
        <p:blipFill>
          <a:blip r:embed="rId8"/>
          <a:stretch/>
        </p:blipFill>
        <p:spPr>
          <a:xfrm>
            <a:off x="4987800" y="4079880"/>
            <a:ext cx="63360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17"/>
          <p:cNvSpPr/>
          <p:nvPr/>
        </p:nvSpPr>
        <p:spPr>
          <a:xfrm>
            <a:off x="6010200" y="4340160"/>
            <a:ext cx="13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IPv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8"/>
          <p:cNvSpPr/>
          <p:nvPr/>
        </p:nvSpPr>
        <p:spPr>
          <a:xfrm>
            <a:off x="7539120" y="536400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0"/>
          <p:cNvSpPr/>
          <p:nvPr/>
        </p:nvSpPr>
        <p:spPr>
          <a:xfrm>
            <a:off x="5533920" y="4060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7" descr=""/>
          <p:cNvPicPr/>
          <p:nvPr/>
        </p:nvPicPr>
        <p:blipFill>
          <a:blip r:embed="rId9"/>
          <a:stretch/>
        </p:blipFill>
        <p:spPr>
          <a:xfrm>
            <a:off x="2949480" y="3611520"/>
            <a:ext cx="631800" cy="609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9" descr=""/>
          <p:cNvPicPr/>
          <p:nvPr/>
        </p:nvPicPr>
        <p:blipFill>
          <a:blip r:embed="rId10"/>
          <a:stretch/>
        </p:blipFill>
        <p:spPr>
          <a:xfrm>
            <a:off x="54000" y="2895480"/>
            <a:ext cx="860400" cy="598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82"/>
          <p:cNvSpPr/>
          <p:nvPr/>
        </p:nvSpPr>
        <p:spPr>
          <a:xfrm>
            <a:off x="5257800" y="2590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3"/>
          <p:cNvSpPr/>
          <p:nvPr/>
        </p:nvSpPr>
        <p:spPr>
          <a:xfrm>
            <a:off x="820800" y="3998880"/>
            <a:ext cx="6487920" cy="1290600"/>
          </a:xfrm>
          <a:custGeom>
            <a:avLst/>
            <a:gdLst>
              <a:gd name="textAreaLeft" fmla="*/ 0 w 6487920"/>
              <a:gd name="textAreaRight" fmla="*/ 6488280 w 648792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309" h="658">
                <a:moveTo>
                  <a:pt x="0" y="23"/>
                </a:moveTo>
                <a:cubicBezTo>
                  <a:pt x="215" y="23"/>
                  <a:pt x="431" y="23"/>
                  <a:pt x="680" y="23"/>
                </a:cubicBezTo>
                <a:cubicBezTo>
                  <a:pt x="929" y="23"/>
                  <a:pt x="1172" y="0"/>
                  <a:pt x="1497" y="23"/>
                </a:cubicBezTo>
                <a:cubicBezTo>
                  <a:pt x="1822" y="46"/>
                  <a:pt x="2261" y="76"/>
                  <a:pt x="2631" y="159"/>
                </a:cubicBezTo>
                <a:cubicBezTo>
                  <a:pt x="3001" y="242"/>
                  <a:pt x="3439" y="439"/>
                  <a:pt x="3719" y="522"/>
                </a:cubicBezTo>
                <a:cubicBezTo>
                  <a:pt x="3999" y="605"/>
                  <a:pt x="4211" y="635"/>
                  <a:pt x="4309" y="658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任意多边形 59"/>
          <p:cNvSpPr/>
          <p:nvPr/>
        </p:nvSpPr>
        <p:spPr>
          <a:xfrm>
            <a:off x="690480" y="3633840"/>
            <a:ext cx="2433600" cy="21600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65400" h="192617">
                <a:moveTo>
                  <a:pt x="0" y="0"/>
                </a:moveTo>
                <a:cubicBezTo>
                  <a:pt x="535516" y="81491"/>
                  <a:pt x="1071033" y="162983"/>
                  <a:pt x="1498600" y="177800"/>
                </a:cubicBezTo>
                <a:cubicBezTo>
                  <a:pt x="1926167" y="192617"/>
                  <a:pt x="2245783" y="140758"/>
                  <a:pt x="2565400" y="8890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任意多边形 60"/>
          <p:cNvSpPr/>
          <p:nvPr/>
        </p:nvSpPr>
        <p:spPr>
          <a:xfrm>
            <a:off x="3067200" y="2409840"/>
            <a:ext cx="4297320" cy="135108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4530725" h="1205441">
                <a:moveTo>
                  <a:pt x="60325" y="1193800"/>
                </a:moveTo>
                <a:cubicBezTo>
                  <a:pt x="0" y="1205441"/>
                  <a:pt x="161925" y="1193800"/>
                  <a:pt x="161925" y="1193800"/>
                </a:cubicBezTo>
                <a:cubicBezTo>
                  <a:pt x="384175" y="1170517"/>
                  <a:pt x="959908" y="1140883"/>
                  <a:pt x="1393825" y="1054100"/>
                </a:cubicBezTo>
                <a:cubicBezTo>
                  <a:pt x="1827742" y="967317"/>
                  <a:pt x="2350558" y="817033"/>
                  <a:pt x="2765425" y="673100"/>
                </a:cubicBezTo>
                <a:cubicBezTo>
                  <a:pt x="3180292" y="529167"/>
                  <a:pt x="3588808" y="302683"/>
                  <a:pt x="3883025" y="190500"/>
                </a:cubicBezTo>
                <a:cubicBezTo>
                  <a:pt x="4177242" y="78317"/>
                  <a:pt x="4353983" y="39158"/>
                  <a:pt x="4530725" y="0"/>
                </a:cubicBezTo>
              </a:path>
            </a:pathLst>
          </a:custGeom>
          <a:noFill/>
          <a:ln w="1908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8"/>
          <p:cNvSpPr/>
          <p:nvPr/>
        </p:nvSpPr>
        <p:spPr>
          <a:xfrm>
            <a:off x="2517840" y="42609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AS (DHCPv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0"/>
          <p:cNvSpPr/>
          <p:nvPr/>
        </p:nvSpPr>
        <p:spPr>
          <a:xfrm>
            <a:off x="4154400" y="2666880"/>
            <a:ext cx="1067040" cy="533520"/>
          </a:xfrm>
          <a:prstGeom prst="roundRect">
            <a:avLst>
              <a:gd name="adj" fmla="val 19009"/>
            </a:avLst>
          </a:prstGeom>
          <a:solidFill>
            <a:srgbClr val="a6f8a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w4ove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0"/>
          <p:cNvSpPr/>
          <p:nvPr/>
        </p:nvSpPr>
        <p:spPr>
          <a:xfrm>
            <a:off x="990720" y="3581280"/>
            <a:ext cx="838080" cy="533520"/>
          </a:xfrm>
          <a:prstGeom prst="roundRect">
            <a:avLst>
              <a:gd name="adj" fmla="val 19009"/>
            </a:avLst>
          </a:prstGeom>
          <a:solidFill>
            <a:srgbClr val="a6f8a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w4ove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8"/>
          <p:cNvSpPr/>
          <p:nvPr/>
        </p:nvSpPr>
        <p:spPr>
          <a:xfrm>
            <a:off x="-76320" y="3362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ual-stack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69" descr=""/>
          <p:cNvPicPr/>
          <p:nvPr/>
        </p:nvPicPr>
        <p:blipFill>
          <a:blip r:embed="rId11"/>
          <a:stretch/>
        </p:blipFill>
        <p:spPr>
          <a:xfrm>
            <a:off x="54000" y="3809880"/>
            <a:ext cx="860400" cy="598680"/>
          </a:xfrm>
          <a:prstGeom prst="rect">
            <a:avLst/>
          </a:prstGeom>
          <a:ln w="0">
            <a:noFill/>
          </a:ln>
        </p:spPr>
      </p:pic>
      <p:sp>
        <p:nvSpPr>
          <p:cNvPr id="686" name="TextBox 28"/>
          <p:cNvSpPr/>
          <p:nvPr/>
        </p:nvSpPr>
        <p:spPr>
          <a:xfrm>
            <a:off x="-76320" y="4276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Pv4-only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对象 2"/>
          <p:cNvGraphicFramePr/>
          <p:nvPr/>
        </p:nvGraphicFramePr>
        <p:xfrm>
          <a:off x="3659040" y="2720880"/>
          <a:ext cx="373320" cy="615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8" name="对象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9040" y="2720880"/>
                    <a:ext cx="373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Box 28"/>
          <p:cNvSpPr/>
          <p:nvPr/>
        </p:nvSpPr>
        <p:spPr>
          <a:xfrm>
            <a:off x="3276720" y="2082960"/>
            <a:ext cx="104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yslo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4"/>
          <a:stretch/>
        </p:blipFill>
        <p:spPr>
          <a:xfrm>
            <a:off x="330120" y="4892760"/>
            <a:ext cx="720720" cy="1226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15"/>
          <a:stretch/>
        </p:blipFill>
        <p:spPr>
          <a:xfrm>
            <a:off x="4695840" y="5114880"/>
            <a:ext cx="942840" cy="1392120"/>
          </a:xfrm>
          <a:prstGeom prst="rect">
            <a:avLst/>
          </a:prstGeom>
          <a:ln w="0">
            <a:noFill/>
          </a:ln>
        </p:spPr>
      </p:pic>
      <p:sp>
        <p:nvSpPr>
          <p:cNvPr id="692" name="TextBox 37"/>
          <p:cNvSpPr/>
          <p:nvPr/>
        </p:nvSpPr>
        <p:spPr>
          <a:xfrm>
            <a:off x="4851360" y="4748040"/>
            <a:ext cx="7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40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38" descr=""/>
          <p:cNvPicPr/>
          <p:nvPr/>
        </p:nvPicPr>
        <p:blipFill>
          <a:blip r:embed="rId16"/>
          <a:stretch/>
        </p:blipFill>
        <p:spPr>
          <a:xfrm>
            <a:off x="1488960" y="5200560"/>
            <a:ext cx="157824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W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Technical Matrix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4-over-6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TextBox 23"/>
          <p:cNvGrpSpPr/>
          <p:nvPr/>
        </p:nvGrpSpPr>
        <p:grpSpPr>
          <a:xfrm>
            <a:off x="1384200" y="5078520"/>
            <a:ext cx="2486160" cy="1279440"/>
            <a:chOff x="1384200" y="5078520"/>
            <a:chExt cx="2486160" cy="1279440"/>
          </a:xfrm>
        </p:grpSpPr>
        <p:pic>
          <p:nvPicPr>
            <p:cNvPr id="543" name="TextBox 23" descr=""/>
            <p:cNvPicPr/>
            <p:nvPr/>
          </p:nvPicPr>
          <p:blipFill>
            <a:blip r:embed="rId1"/>
            <a:stretch/>
          </p:blipFill>
          <p:spPr>
            <a:xfrm>
              <a:off x="1384200" y="5078520"/>
              <a:ext cx="2486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446120" y="516888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TextBox 28"/>
          <p:cNvGrpSpPr/>
          <p:nvPr/>
        </p:nvGrpSpPr>
        <p:grpSpPr>
          <a:xfrm>
            <a:off x="4896000" y="5089680"/>
            <a:ext cx="2631960" cy="1280880"/>
            <a:chOff x="4896000" y="5089680"/>
            <a:chExt cx="2631960" cy="1280880"/>
          </a:xfrm>
        </p:grpSpPr>
        <p:pic>
          <p:nvPicPr>
            <p:cNvPr id="546" name="TextBox 28" descr=""/>
            <p:cNvPicPr/>
            <p:nvPr/>
          </p:nvPicPr>
          <p:blipFill>
            <a:blip r:embed="rId2"/>
            <a:stretch/>
          </p:blipFill>
          <p:spPr>
            <a:xfrm>
              <a:off x="4896000" y="5089680"/>
              <a:ext cx="26319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952880" y="518148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gorithm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pp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TextBox 29"/>
          <p:cNvGrpSpPr/>
          <p:nvPr/>
        </p:nvGrpSpPr>
        <p:grpSpPr>
          <a:xfrm>
            <a:off x="1030320" y="1530360"/>
            <a:ext cx="2835360" cy="1116000"/>
            <a:chOff x="1030320" y="1530360"/>
            <a:chExt cx="2835360" cy="1116000"/>
          </a:xfrm>
        </p:grpSpPr>
        <p:pic>
          <p:nvPicPr>
            <p:cNvPr id="549" name="TextBox 29" descr=""/>
            <p:cNvPicPr/>
            <p:nvPr/>
          </p:nvPicPr>
          <p:blipFill>
            <a:blip r:embed="rId3"/>
            <a:stretch/>
          </p:blipFill>
          <p:spPr>
            <a:xfrm>
              <a:off x="1030320" y="1530360"/>
              <a:ext cx="2835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141560" y="1600200"/>
              <a:ext cx="262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dr Resource Managed in C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TextBox 30"/>
          <p:cNvGrpSpPr/>
          <p:nvPr/>
        </p:nvGrpSpPr>
        <p:grpSpPr>
          <a:xfrm>
            <a:off x="4780080" y="1530360"/>
            <a:ext cx="2747880" cy="1116000"/>
            <a:chOff x="4780080" y="1530360"/>
            <a:chExt cx="2747880" cy="1116000"/>
          </a:xfrm>
        </p:grpSpPr>
        <p:pic>
          <p:nvPicPr>
            <p:cNvPr id="552" name="TextBox 30" descr=""/>
            <p:cNvPicPr/>
            <p:nvPr/>
          </p:nvPicPr>
          <p:blipFill>
            <a:blip r:embed="rId4"/>
            <a:stretch/>
          </p:blipFill>
          <p:spPr>
            <a:xfrm>
              <a:off x="4780080" y="1530360"/>
              <a:ext cx="27478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840200" y="1600200"/>
              <a:ext cx="26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dr/Port S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vis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Box 38"/>
          <p:cNvSpPr/>
          <p:nvPr/>
        </p:nvSpPr>
        <p:spPr>
          <a:xfrm>
            <a:off x="2971800" y="3962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ghtweight 4over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51"/>
          <p:cNvSpPr/>
          <p:nvPr/>
        </p:nvSpPr>
        <p:spPr>
          <a:xfrm>
            <a:off x="6153120" y="2430360"/>
            <a:ext cx="0" cy="312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53"/>
          <p:cNvSpPr/>
          <p:nvPr/>
        </p:nvSpPr>
        <p:spPr>
          <a:xfrm>
            <a:off x="4419720" y="2743200"/>
            <a:ext cx="30463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55"/>
          <p:cNvSpPr/>
          <p:nvPr/>
        </p:nvSpPr>
        <p:spPr>
          <a:xfrm>
            <a:off x="4419720" y="2743200"/>
            <a:ext cx="0" cy="57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接连接符 62"/>
          <p:cNvSpPr/>
          <p:nvPr/>
        </p:nvSpPr>
        <p:spPr>
          <a:xfrm>
            <a:off x="7466040" y="2743200"/>
            <a:ext cx="0" cy="57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63"/>
          <p:cNvSpPr/>
          <p:nvPr/>
        </p:nvSpPr>
        <p:spPr>
          <a:xfrm>
            <a:off x="2452680" y="2430360"/>
            <a:ext cx="0" cy="312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59"/>
          <p:cNvSpPr/>
          <p:nvPr/>
        </p:nvSpPr>
        <p:spPr>
          <a:xfrm>
            <a:off x="1141560" y="2743200"/>
            <a:ext cx="130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69"/>
          <p:cNvSpPr/>
          <p:nvPr/>
        </p:nvSpPr>
        <p:spPr>
          <a:xfrm>
            <a:off x="1141560" y="2735280"/>
            <a:ext cx="0" cy="581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65"/>
          <p:cNvSpPr/>
          <p:nvPr/>
        </p:nvSpPr>
        <p:spPr>
          <a:xfrm flipV="1">
            <a:off x="2627280" y="4867200"/>
            <a:ext cx="0" cy="301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67"/>
          <p:cNvSpPr/>
          <p:nvPr/>
        </p:nvSpPr>
        <p:spPr>
          <a:xfrm flipH="1">
            <a:off x="1141200" y="4867200"/>
            <a:ext cx="30891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71"/>
          <p:cNvSpPr/>
          <p:nvPr/>
        </p:nvSpPr>
        <p:spPr>
          <a:xfrm flipV="1">
            <a:off x="4219560" y="4343040"/>
            <a:ext cx="6480" cy="523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8"/>
          <p:cNvSpPr/>
          <p:nvPr/>
        </p:nvSpPr>
        <p:spPr>
          <a:xfrm flipV="1">
            <a:off x="1141560" y="4343040"/>
            <a:ext cx="0" cy="523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9"/>
          <p:cNvSpPr/>
          <p:nvPr/>
        </p:nvSpPr>
        <p:spPr>
          <a:xfrm>
            <a:off x="3430440" y="3392640"/>
            <a:ext cx="19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-subscr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304920" y="33926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-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31"/>
          <p:cNvSpPr/>
          <p:nvPr/>
        </p:nvSpPr>
        <p:spPr>
          <a:xfrm>
            <a:off x="7404120" y="4343400"/>
            <a:ext cx="1440" cy="492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32"/>
          <p:cNvSpPr/>
          <p:nvPr/>
        </p:nvSpPr>
        <p:spPr>
          <a:xfrm>
            <a:off x="6153120" y="4835520"/>
            <a:ext cx="125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33"/>
          <p:cNvSpPr/>
          <p:nvPr/>
        </p:nvSpPr>
        <p:spPr>
          <a:xfrm>
            <a:off x="6153120" y="4827600"/>
            <a:ext cx="0" cy="341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9"/>
          <p:cNvSpPr/>
          <p:nvPr/>
        </p:nvSpPr>
        <p:spPr>
          <a:xfrm>
            <a:off x="6781680" y="3409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olution optimized for the hub-and-spoke use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‘screwdriver’ not a ‘Swiss army knife’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rational simple &amp; cl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exible IPv6/IPv4 address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ress sha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d scal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d Logg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S-Lite backward compati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sunqiong\Pictures\KISS.jpg"/>
          <p:cNvPicPr/>
          <p:nvPr/>
        </p:nvPicPr>
        <p:blipFill>
          <a:blip r:embed="rId1"/>
          <a:stretch/>
        </p:blipFill>
        <p:spPr>
          <a:xfrm>
            <a:off x="6781680" y="4191120"/>
            <a:ext cx="21337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ajor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imple extension for DS-Lite without centralized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 address sharing mode for public 4ove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o IPv4 and IPv6 address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extra requirement on address/prefix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-demand/pre-configured IPv4 address + port-set 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abilit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-session=&gt;per-subscrib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 per-flow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mal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6"/>
          <p:cNvGrpSpPr/>
          <p:nvPr/>
        </p:nvGrpSpPr>
        <p:grpSpPr>
          <a:xfrm>
            <a:off x="5408280" y="4054320"/>
            <a:ext cx="2057040" cy="1845000"/>
            <a:chOff x="5408280" y="4054320"/>
            <a:chExt cx="2057040" cy="1845000"/>
          </a:xfrm>
        </p:grpSpPr>
        <p:grpSp>
          <p:nvGrpSpPr>
            <p:cNvPr id="578" name="Group 47"/>
            <p:cNvGrpSpPr/>
            <p:nvPr/>
          </p:nvGrpSpPr>
          <p:grpSpPr>
            <a:xfrm>
              <a:off x="6563520" y="5061600"/>
              <a:ext cx="901800" cy="282240"/>
              <a:chOff x="6563520" y="5061600"/>
              <a:chExt cx="901800" cy="282240"/>
            </a:xfrm>
          </p:grpSpPr>
          <p:sp>
            <p:nvSpPr>
              <p:cNvPr id="579" name="Arc 48"/>
              <p:cNvSpPr/>
              <p:nvPr/>
            </p:nvSpPr>
            <p:spPr>
              <a:xfrm rot="5400000">
                <a:off x="6873120" y="4751640"/>
                <a:ext cx="282240" cy="9018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96969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rc 49"/>
              <p:cNvSpPr/>
              <p:nvPr/>
            </p:nvSpPr>
            <p:spPr>
              <a:xfrm rot="5400000">
                <a:off x="6960960" y="4663800"/>
                <a:ext cx="106560" cy="901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0"/>
            <p:cNvGrpSpPr/>
            <p:nvPr/>
          </p:nvGrpSpPr>
          <p:grpSpPr>
            <a:xfrm>
              <a:off x="6567480" y="4256640"/>
              <a:ext cx="888840" cy="807840"/>
              <a:chOff x="6567480" y="4256640"/>
              <a:chExt cx="888840" cy="807840"/>
            </a:xfrm>
          </p:grpSpPr>
          <p:sp>
            <p:nvSpPr>
              <p:cNvPr id="582" name="Line 51"/>
              <p:cNvSpPr/>
              <p:nvPr/>
            </p:nvSpPr>
            <p:spPr>
              <a:xfrm flipV="1">
                <a:off x="6567480" y="4256640"/>
                <a:ext cx="443880" cy="807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52"/>
              <p:cNvSpPr/>
              <p:nvPr/>
            </p:nvSpPr>
            <p:spPr>
              <a:xfrm flipH="1" flipV="1">
                <a:off x="7012800" y="4256640"/>
                <a:ext cx="443520" cy="807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Arc 53"/>
            <p:cNvSpPr/>
            <p:nvPr/>
          </p:nvSpPr>
          <p:spPr>
            <a:xfrm rot="19481400">
              <a:off x="6940440" y="4092120"/>
              <a:ext cx="108360" cy="1486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fill="none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</a:path>
                <a:path stroke="0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  <a:lnTo>
                    <a:pt x="17874" y="7202"/>
                  </a:lnTo>
                  <a:lnTo>
                    <a:pt x="-2729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54"/>
            <p:cNvGrpSpPr/>
            <p:nvPr/>
          </p:nvGrpSpPr>
          <p:grpSpPr>
            <a:xfrm>
              <a:off x="5408280" y="5178240"/>
              <a:ext cx="901800" cy="282240"/>
              <a:chOff x="5408280" y="5178240"/>
              <a:chExt cx="901800" cy="282240"/>
            </a:xfrm>
          </p:grpSpPr>
          <p:sp>
            <p:nvSpPr>
              <p:cNvPr id="586" name="Arc 55"/>
              <p:cNvSpPr/>
              <p:nvPr/>
            </p:nvSpPr>
            <p:spPr>
              <a:xfrm rot="5400000">
                <a:off x="5717880" y="4868280"/>
                <a:ext cx="282240" cy="9018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96969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56"/>
              <p:cNvSpPr/>
              <p:nvPr/>
            </p:nvSpPr>
            <p:spPr>
              <a:xfrm rot="5400000">
                <a:off x="5805720" y="4780440"/>
                <a:ext cx="106560" cy="901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01800"/>
                  <a:gd name="textAreaBottom" fmla="*/ 902160 h 901800"/>
                </a:gdLst>
                <a:ahLst/>
                <a:rect l="textAreaLeft" t="textAreaTop" r="textAreaRight" b="textAreaBottom"/>
                <a:pathLst>
                  <a:path fill="none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</a:path>
                  <a:path stroke="0" w="21831" h="43200">
                    <a:moveTo>
                      <a:pt x="230" y="0"/>
                    </a:moveTo>
                    <a:cubicBezTo>
                      <a:pt x="12160" y="0"/>
                      <a:pt x="21831" y="9670"/>
                      <a:pt x="21831" y="21600"/>
                    </a:cubicBezTo>
                    <a:cubicBezTo>
                      <a:pt x="21831" y="-32007"/>
                      <a:pt x="12160" y="-22336"/>
                      <a:pt x="231" y="-22336"/>
                    </a:cubicBezTo>
                    <a:cubicBezTo>
                      <a:pt x="153" y="-22336"/>
                      <a:pt x="76" y="-22337"/>
                      <a:pt x="0" y="-22338"/>
                    </a:cubicBezTo>
                    <a:lnTo>
                      <a:pt x="231" y="21600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57"/>
            <p:cNvGrpSpPr/>
            <p:nvPr/>
          </p:nvGrpSpPr>
          <p:grpSpPr>
            <a:xfrm>
              <a:off x="5410440" y="4414320"/>
              <a:ext cx="897480" cy="729720"/>
              <a:chOff x="5410440" y="4414320"/>
              <a:chExt cx="897480" cy="729720"/>
            </a:xfrm>
          </p:grpSpPr>
          <p:sp>
            <p:nvSpPr>
              <p:cNvPr id="589" name="Line 58"/>
              <p:cNvSpPr/>
              <p:nvPr/>
            </p:nvSpPr>
            <p:spPr>
              <a:xfrm flipV="1">
                <a:off x="5410440" y="4414320"/>
                <a:ext cx="448200" cy="729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59"/>
              <p:cNvSpPr/>
              <p:nvPr/>
            </p:nvSpPr>
            <p:spPr>
              <a:xfrm flipH="1" flipV="1">
                <a:off x="5859720" y="4414320"/>
                <a:ext cx="448200" cy="729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Arc 60"/>
            <p:cNvSpPr/>
            <p:nvPr/>
          </p:nvSpPr>
          <p:spPr>
            <a:xfrm rot="19481400">
              <a:off x="5785200" y="4254840"/>
              <a:ext cx="108000" cy="148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fill="none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</a:path>
                <a:path stroke="0" w="39474" h="28802">
                  <a:moveTo>
                    <a:pt x="-27299" y="0"/>
                  </a:moveTo>
                  <a:cubicBezTo>
                    <a:pt x="-26480" y="2313"/>
                    <a:pt x="-26062" y="4748"/>
                    <a:pt x="-26062" y="7202"/>
                  </a:cubicBezTo>
                  <a:cubicBezTo>
                    <a:pt x="-26062" y="19131"/>
                    <a:pt x="29803" y="28802"/>
                    <a:pt x="17874" y="28802"/>
                  </a:cubicBezTo>
                  <a:cubicBezTo>
                    <a:pt x="10714" y="28802"/>
                    <a:pt x="4020" y="25254"/>
                    <a:pt x="0" y="19329"/>
                  </a:cubicBezTo>
                  <a:lnTo>
                    <a:pt x="17874" y="7202"/>
                  </a:lnTo>
                  <a:lnTo>
                    <a:pt x="-2729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1"/>
            <p:cNvSpPr/>
            <p:nvPr/>
          </p:nvSpPr>
          <p:spPr>
            <a:xfrm>
              <a:off x="6086880" y="5547960"/>
              <a:ext cx="694440" cy="351360"/>
            </a:xfrm>
            <a:prstGeom prst="ellipse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2"/>
            <p:cNvSpPr/>
            <p:nvPr/>
          </p:nvSpPr>
          <p:spPr>
            <a:xfrm>
              <a:off x="6086880" y="5663880"/>
              <a:ext cx="41760" cy="71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3"/>
            <p:cNvSpPr/>
            <p:nvPr/>
          </p:nvSpPr>
          <p:spPr>
            <a:xfrm>
              <a:off x="6738480" y="5663880"/>
              <a:ext cx="41760" cy="71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64"/>
            <p:cNvSpPr/>
            <p:nvPr/>
          </p:nvSpPr>
          <p:spPr>
            <a:xfrm>
              <a:off x="6086880" y="5671800"/>
              <a:ext cx="0" cy="6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65"/>
            <p:cNvSpPr/>
            <p:nvPr/>
          </p:nvSpPr>
          <p:spPr>
            <a:xfrm>
              <a:off x="6086880" y="5479920"/>
              <a:ext cx="694440" cy="351360"/>
            </a:xfrm>
            <a:prstGeom prst="ellipse">
              <a:avLst/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66"/>
            <p:cNvSpPr/>
            <p:nvPr/>
          </p:nvSpPr>
          <p:spPr>
            <a:xfrm>
              <a:off x="6781320" y="5671800"/>
              <a:ext cx="0" cy="6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rc 67"/>
            <p:cNvSpPr/>
            <p:nvPr/>
          </p:nvSpPr>
          <p:spPr>
            <a:xfrm rot="5400000">
              <a:off x="6411600" y="5650560"/>
              <a:ext cx="60840" cy="651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fill="none" w="28382" h="43200">
                  <a:moveTo>
                    <a:pt x="0" y="1092"/>
                  </a:moveTo>
                  <a:cubicBezTo>
                    <a:pt x="2187" y="368"/>
                    <a:pt x="4477" y="-1"/>
                    <a:pt x="6782" y="0"/>
                  </a:cubicBezTo>
                  <a:cubicBezTo>
                    <a:pt x="18711" y="0"/>
                    <a:pt x="28382" y="9670"/>
                    <a:pt x="28382" y="21600"/>
                  </a:cubicBezTo>
                  <a:cubicBezTo>
                    <a:pt x="28382" y="33529"/>
                    <a:pt x="18711" y="43200"/>
                    <a:pt x="6782" y="43200"/>
                  </a:cubicBezTo>
                  <a:cubicBezTo>
                    <a:pt x="4935" y="43200"/>
                    <a:pt x="3095" y="42963"/>
                    <a:pt x="1308" y="42495"/>
                  </a:cubicBezTo>
                </a:path>
                <a:path stroke="0" w="28382" h="43200">
                  <a:moveTo>
                    <a:pt x="0" y="1092"/>
                  </a:moveTo>
                  <a:cubicBezTo>
                    <a:pt x="2187" y="368"/>
                    <a:pt x="4477" y="-1"/>
                    <a:pt x="6782" y="0"/>
                  </a:cubicBezTo>
                  <a:cubicBezTo>
                    <a:pt x="18711" y="0"/>
                    <a:pt x="28382" y="9670"/>
                    <a:pt x="28382" y="21600"/>
                  </a:cubicBezTo>
                  <a:cubicBezTo>
                    <a:pt x="28382" y="33529"/>
                    <a:pt x="18711" y="43200"/>
                    <a:pt x="6782" y="43200"/>
                  </a:cubicBezTo>
                  <a:cubicBezTo>
                    <a:pt x="4935" y="43200"/>
                    <a:pt x="3095" y="42963"/>
                    <a:pt x="1308" y="42495"/>
                  </a:cubicBezTo>
                  <a:lnTo>
                    <a:pt x="6782" y="21600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8"/>
            <p:cNvSpPr/>
            <p:nvPr/>
          </p:nvSpPr>
          <p:spPr>
            <a:xfrm>
              <a:off x="6391800" y="4164120"/>
              <a:ext cx="81360" cy="15426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542600"/>
                <a:gd name="textAreaBottom" fmla="*/ 1542960 h 1542600"/>
              </a:gdLst>
              <a:ahLst/>
              <a:rect l="textAreaLeft" t="textAreaTop" r="textAreaRight" b="textAreaBottom"/>
              <a:pathLst>
                <a:path w="48" h="2256">
                  <a:moveTo>
                    <a:pt x="0" y="225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256"/>
                  </a:lnTo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69"/>
            <p:cNvSpPr/>
            <p:nvPr/>
          </p:nvSpPr>
          <p:spPr>
            <a:xfrm rot="21240000">
              <a:off x="5823000" y="4137840"/>
              <a:ext cx="1218600" cy="5040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70"/>
            <p:cNvSpPr/>
            <p:nvPr/>
          </p:nvSpPr>
          <p:spPr>
            <a:xfrm>
              <a:off x="5814720" y="4187880"/>
              <a:ext cx="73440" cy="80640"/>
            </a:xfrm>
            <a:prstGeom prst="ellipse">
              <a:avLst/>
            </a:prstGeom>
            <a:solidFill>
              <a:srgbClr val="777777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1"/>
            <p:cNvSpPr/>
            <p:nvPr/>
          </p:nvSpPr>
          <p:spPr>
            <a:xfrm>
              <a:off x="6974640" y="4054320"/>
              <a:ext cx="72360" cy="81720"/>
            </a:xfrm>
            <a:prstGeom prst="ellipse">
              <a:avLst/>
            </a:prstGeom>
            <a:solidFill>
              <a:srgbClr val="777777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2"/>
            <p:cNvSpPr/>
            <p:nvPr/>
          </p:nvSpPr>
          <p:spPr>
            <a:xfrm>
              <a:off x="6385680" y="4102200"/>
              <a:ext cx="105480" cy="117720"/>
            </a:xfrm>
            <a:prstGeom prst="ellipse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41"/>
          <p:cNvSpPr/>
          <p:nvPr/>
        </p:nvSpPr>
        <p:spPr>
          <a:xfrm>
            <a:off x="5875200" y="44578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trade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2"/>
          <p:cNvSpPr/>
          <p:nvPr/>
        </p:nvSpPr>
        <p:spPr>
          <a:xfrm>
            <a:off x="4114800" y="54212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Per-session stat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3"/>
          <p:cNvSpPr/>
          <p:nvPr/>
        </p:nvSpPr>
        <p:spPr>
          <a:xfrm>
            <a:off x="6713640" y="5386320"/>
            <a:ext cx="14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tat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4"/>
          <p:cNvSpPr/>
          <p:nvPr/>
        </p:nvSpPr>
        <p:spPr>
          <a:xfrm>
            <a:off x="5159520" y="380988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Per-subscriber stat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Key points for per-subscriber statefu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entrato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ncoming IPv4 packets, use IPv4 dst addr &amp; port to lookup binding table and retrieve IPv6 tunnel en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 encapsulation/de-encapsulation according to RFC2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tor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est IPv4 address + Port-set from DHCPv4-over-IPv6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 encapsulation/de-encapsulation, NAT within allocated port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MX 240.png"/>
          <p:cNvPicPr/>
          <p:nvPr/>
        </p:nvPicPr>
        <p:blipFill>
          <a:blip r:embed="rId1"/>
          <a:stretch/>
        </p:blipFill>
        <p:spPr>
          <a:xfrm>
            <a:off x="1695600" y="4475160"/>
            <a:ext cx="736560" cy="4572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7"/>
          <p:cNvSpPr/>
          <p:nvPr/>
        </p:nvSpPr>
        <p:spPr>
          <a:xfrm>
            <a:off x="1004400" y="41022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ntrator (AF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4"/>
          <p:cNvSpPr/>
          <p:nvPr/>
        </p:nvSpPr>
        <p:spPr>
          <a:xfrm>
            <a:off x="6032520" y="41022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HC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MX 240.png"/>
          <p:cNvPicPr/>
          <p:nvPr/>
        </p:nvPicPr>
        <p:blipFill>
          <a:blip r:embed="rId2"/>
          <a:stretch/>
        </p:blipFill>
        <p:spPr>
          <a:xfrm>
            <a:off x="1847880" y="462744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MX 240.png"/>
          <p:cNvPicPr/>
          <p:nvPr/>
        </p:nvPicPr>
        <p:blipFill>
          <a:blip r:embed="rId3"/>
          <a:stretch/>
        </p:blipFill>
        <p:spPr>
          <a:xfrm>
            <a:off x="2000160" y="478008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MX 240.png"/>
          <p:cNvPicPr/>
          <p:nvPr/>
        </p:nvPicPr>
        <p:blipFill>
          <a:blip r:embed="rId4"/>
          <a:stretch/>
        </p:blipFill>
        <p:spPr>
          <a:xfrm>
            <a:off x="2152800" y="493236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MX 240.png"/>
          <p:cNvPicPr/>
          <p:nvPr/>
        </p:nvPicPr>
        <p:blipFill>
          <a:blip r:embed="rId5"/>
          <a:stretch/>
        </p:blipFill>
        <p:spPr>
          <a:xfrm>
            <a:off x="2305080" y="508464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MX 240.png"/>
          <p:cNvPicPr/>
          <p:nvPr/>
        </p:nvPicPr>
        <p:blipFill>
          <a:blip r:embed="rId6"/>
          <a:stretch/>
        </p:blipFill>
        <p:spPr>
          <a:xfrm>
            <a:off x="6297480" y="447516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MX 240.png"/>
          <p:cNvPicPr/>
          <p:nvPr/>
        </p:nvPicPr>
        <p:blipFill>
          <a:blip r:embed="rId7"/>
          <a:stretch/>
        </p:blipFill>
        <p:spPr>
          <a:xfrm>
            <a:off x="6450120" y="4627440"/>
            <a:ext cx="742680" cy="462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MX 240.png"/>
          <p:cNvPicPr/>
          <p:nvPr/>
        </p:nvPicPr>
        <p:blipFill>
          <a:blip r:embed="rId8"/>
          <a:stretch/>
        </p:blipFill>
        <p:spPr>
          <a:xfrm>
            <a:off x="6602400" y="478008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MX 240.png"/>
          <p:cNvPicPr/>
          <p:nvPr/>
        </p:nvPicPr>
        <p:blipFill>
          <a:blip r:embed="rId9"/>
          <a:stretch/>
        </p:blipFill>
        <p:spPr>
          <a:xfrm>
            <a:off x="6754680" y="4932360"/>
            <a:ext cx="743040" cy="46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3" descr="MX 240.png"/>
          <p:cNvPicPr/>
          <p:nvPr/>
        </p:nvPicPr>
        <p:blipFill>
          <a:blip r:embed="rId10"/>
          <a:stretch/>
        </p:blipFill>
        <p:spPr>
          <a:xfrm>
            <a:off x="6907320" y="5084640"/>
            <a:ext cx="742680" cy="46224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15"/>
          <p:cNvCxnSpPr/>
          <p:nvPr/>
        </p:nvCxnSpPr>
        <p:spPr>
          <a:xfrm>
            <a:off x="3271320" y="4929120"/>
            <a:ext cx="2761200" cy="7200"/>
          </a:xfrm>
          <a:prstGeom prst="straightConnector1">
            <a:avLst/>
          </a:prstGeom>
          <a:ln w="10152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623" name="Rounded Rectangular Callout 16"/>
          <p:cNvSpPr/>
          <p:nvPr/>
        </p:nvSpPr>
        <p:spPr>
          <a:xfrm>
            <a:off x="1035000" y="2031840"/>
            <a:ext cx="2311560" cy="1613160"/>
          </a:xfrm>
          <a:prstGeom prst="wedgeRoundRectCallout">
            <a:avLst>
              <a:gd name="adj1" fmla="val -3472"/>
              <a:gd name="adj2" fmla="val 76023"/>
              <a:gd name="adj3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146240" y="2630520"/>
          <a:ext cx="2076480" cy="824040"/>
        </p:xfrm>
        <a:graphic>
          <a:graphicData uri="http://schemas.openxmlformats.org/drawingml/2006/table">
            <a:tbl>
              <a:tblPr/>
              <a:tblGrid>
                <a:gridCol w="753840"/>
                <a:gridCol w="630360"/>
                <a:gridCol w="69228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-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-2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99"/>
          <p:cNvSpPr/>
          <p:nvPr/>
        </p:nvSpPr>
        <p:spPr>
          <a:xfrm>
            <a:off x="1299600" y="2021040"/>
            <a:ext cx="175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entr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FTR Per-subscri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ppin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ular Callout 22"/>
          <p:cNvSpPr/>
          <p:nvPr/>
        </p:nvSpPr>
        <p:spPr>
          <a:xfrm>
            <a:off x="5456160" y="2043000"/>
            <a:ext cx="2311560" cy="1613160"/>
          </a:xfrm>
          <a:prstGeom prst="wedgeRoundRectCallout">
            <a:avLst>
              <a:gd name="adj1" fmla="val -3472"/>
              <a:gd name="adj2" fmla="val 76023"/>
              <a:gd name="adj3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567400" y="2641680"/>
          <a:ext cx="2076480" cy="823680"/>
        </p:xfrm>
        <a:graphic>
          <a:graphicData uri="http://schemas.openxmlformats.org/drawingml/2006/table">
            <a:tbl>
              <a:tblPr/>
              <a:tblGrid>
                <a:gridCol w="754200"/>
                <a:gridCol w="630000"/>
                <a:gridCol w="69228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-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:db8::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1.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-2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8" name="TextBox 99"/>
          <p:cNvSpPr/>
          <p:nvPr/>
        </p:nvSpPr>
        <p:spPr>
          <a:xfrm>
            <a:off x="5643720" y="2031840"/>
            <a:ext cx="190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HCPv4 Per-subscr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pping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-Subscrib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Synchr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ghtweight 4over6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rge thre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cui-softwire-b4-translated-ds-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zhou-softwire-b4-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-D.penno-softwire-sdnat-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stantial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jor up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I-D chose DHCP as the mandatory provision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her provisioning methods are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mproved ICMPv4 processing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椭圆 16"/>
          <p:cNvSpPr/>
          <p:nvPr/>
        </p:nvSpPr>
        <p:spPr>
          <a:xfrm>
            <a:off x="609480" y="1600200"/>
            <a:ext cx="7696440" cy="3200400"/>
          </a:xfrm>
          <a:prstGeom prst="ellipse">
            <a:avLst/>
          </a:prstGeom>
          <a:noFill/>
          <a:ln w="93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llabor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D:\workplace\CTBRI\2012\7.杂\logo\中国电信.jpg"/>
          <p:cNvPicPr/>
          <p:nvPr/>
        </p:nvPicPr>
        <p:blipFill>
          <a:blip r:embed="rId1"/>
          <a:stretch/>
        </p:blipFill>
        <p:spPr>
          <a:xfrm>
            <a:off x="3049560" y="2138400"/>
            <a:ext cx="1098720" cy="11383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D:\workplace\CTBRI\2012\7.杂\logo\华为.jpg"/>
          <p:cNvPicPr/>
          <p:nvPr/>
        </p:nvPicPr>
        <p:blipFill>
          <a:blip r:embed="rId2"/>
          <a:stretch/>
        </p:blipFill>
        <p:spPr>
          <a:xfrm>
            <a:off x="2519280" y="51102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D:\workplace\CTBRI\2012\7.杂\logo\comcast.jpg"/>
          <p:cNvPicPr/>
          <p:nvPr/>
        </p:nvPicPr>
        <p:blipFill>
          <a:blip r:embed="rId3"/>
          <a:stretch/>
        </p:blipFill>
        <p:spPr>
          <a:xfrm>
            <a:off x="5864400" y="2335320"/>
            <a:ext cx="1804680" cy="96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D:\workplace\CTBRI\2012\7.杂\logo\法电.jpg"/>
          <p:cNvPicPr/>
          <p:nvPr/>
        </p:nvPicPr>
        <p:blipFill>
          <a:blip r:embed="rId4"/>
          <a:stretch/>
        </p:blipFill>
        <p:spPr>
          <a:xfrm>
            <a:off x="4465800" y="2044800"/>
            <a:ext cx="1176120" cy="1176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D:\workplace\CTBRI\2012\7.杂\logo\清华.jpg"/>
          <p:cNvPicPr/>
          <p:nvPr/>
        </p:nvPicPr>
        <p:blipFill>
          <a:blip r:embed="rId5"/>
          <a:stretch/>
        </p:blipFill>
        <p:spPr>
          <a:xfrm>
            <a:off x="1019160" y="2644920"/>
            <a:ext cx="1870200" cy="911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"/>
          <p:cNvPicPr/>
          <p:nvPr/>
        </p:nvPicPr>
        <p:blipFill>
          <a:blip r:embed="rId6"/>
          <a:stretch/>
        </p:blipFill>
        <p:spPr>
          <a:xfrm>
            <a:off x="1019160" y="5259240"/>
            <a:ext cx="1008000" cy="881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D:\workplace\CTBRI\2012\7.杂\logo\雅马哈.jpg"/>
          <p:cNvPicPr/>
          <p:nvPr/>
        </p:nvPicPr>
        <p:blipFill>
          <a:blip r:embed="rId7"/>
          <a:stretch/>
        </p:blipFill>
        <p:spPr>
          <a:xfrm>
            <a:off x="6948360" y="514656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1" descr="D:\workplace\CTBRI\2012\7.杂\logo\Juniper.jpg"/>
          <p:cNvPicPr/>
          <p:nvPr/>
        </p:nvPicPr>
        <p:blipFill>
          <a:blip r:embed="rId8"/>
          <a:stretch/>
        </p:blipFill>
        <p:spPr>
          <a:xfrm>
            <a:off x="4064040" y="5380200"/>
            <a:ext cx="1152360" cy="809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D:\workplace\CTBRI\2012\7.杂\logo\思科.jpg"/>
          <p:cNvPicPr/>
          <p:nvPr/>
        </p:nvPicPr>
        <p:blipFill>
          <a:blip r:embed="rId9"/>
          <a:stretch/>
        </p:blipFill>
        <p:spPr>
          <a:xfrm>
            <a:off x="5504040" y="5415120"/>
            <a:ext cx="1211040" cy="909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D:\workplace\CTBRI\2012\7.杂\logo\德电2.gif"/>
          <p:cNvPicPr/>
          <p:nvPr/>
        </p:nvPicPr>
        <p:blipFill>
          <a:blip r:embed="rId10"/>
          <a:stretch/>
        </p:blipFill>
        <p:spPr>
          <a:xfrm>
            <a:off x="2625840" y="3639960"/>
            <a:ext cx="1068120" cy="90036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7"/>
          <p:cNvSpPr/>
          <p:nvPr/>
        </p:nvSpPr>
        <p:spPr>
          <a:xfrm>
            <a:off x="3710160" y="16779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8"/>
          <p:cNvSpPr/>
          <p:nvPr/>
        </p:nvSpPr>
        <p:spPr>
          <a:xfrm>
            <a:off x="380880" y="4952880"/>
            <a:ext cx="8534520" cy="1312920"/>
          </a:xfrm>
          <a:prstGeom prst="rect">
            <a:avLst/>
          </a:prstGeom>
          <a:noFill/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3938760" y="50324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1"/>
          <a:stretch/>
        </p:blipFill>
        <p:spPr>
          <a:xfrm>
            <a:off x="4164120" y="3589200"/>
            <a:ext cx="861840" cy="808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9" descr="D:\workplace\CTBRI\2012\2.标准化\IETF\lightweight 4over6\Logo_FreeBit.jpg"/>
          <p:cNvPicPr/>
          <p:nvPr/>
        </p:nvPicPr>
        <p:blipFill>
          <a:blip r:embed="rId12"/>
          <a:stretch/>
        </p:blipFill>
        <p:spPr>
          <a:xfrm>
            <a:off x="5464080" y="3556080"/>
            <a:ext cx="1251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unning Code/Test/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have published the source code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sourceforge.net/projects/laft6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already have run field trial/test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ina 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utsche Tele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RNE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e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already have products from Yamaha, and we will soon have commercial products from Huawei and Juni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3" descr=""/>
          <p:cNvPicPr/>
          <p:nvPr/>
        </p:nvPicPr>
        <p:blipFill>
          <a:blip r:embed="rId2"/>
          <a:stretch/>
        </p:blipFill>
        <p:spPr>
          <a:xfrm>
            <a:off x="6878520" y="3657600"/>
            <a:ext cx="197964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52" name="Picture 5" descr=""/>
          <p:cNvPicPr/>
          <p:nvPr/>
        </p:nvPicPr>
        <p:blipFill>
          <a:blip r:embed="rId3"/>
          <a:stretch/>
        </p:blipFill>
        <p:spPr>
          <a:xfrm>
            <a:off x="7626240" y="1604880"/>
            <a:ext cx="12049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Wu Peng</cp:lastModifiedBy>
  <dcterms:modified xsi:type="dcterms:W3CDTF">2012-08-02T15:23:3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