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925-F6B7-4AA2-91FF-EBA0D5AA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274-AF31-4726-9200-8E9A23D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DCA-FBCD-406B-A0FD-3B18DEC0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77E-44EE-4967-8C92-B24FE20B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B38-629F-4B82-B04A-06FD107C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FAA-36DE-421C-9286-7946A7E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E0E-7177-4DEA-9AA1-C27D4492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89C-9178-4A52-91EB-2804DE8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C24-6B92-471F-936A-3741728A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F86-21BB-4C91-A3CC-D624781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CC8-76EB-45FA-91A9-C935679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FB3-78E1-4F93-80A8-DC3A149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07B93-7683-4336-91E2-94997521B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Traversal Required for Applications to Work (STRAW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G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aw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ings aren’t working as well as they could across some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 detection, GRU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isting things might ha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TCP media, DTLS-SRTP, STU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new things need B2BUAs to act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back calls, feature-caps, B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yers vs.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ly the SIP protocol scope ends at a B2BUA, and a new one begins on the other side(s) of the B2B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The Great Escape-clause of SIP: “I don’t have to follow that RFC – I’m a B2BUA!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in practice users expect some things to just work across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they expect “email” stuff to work, even if it goes POP3 -&gt; SMTP -&gt; IM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ing Small Sips not Gul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impossible to specify everything that all types of B2BUAs must do for 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, this WG only defines what very few things any B2BUA must do to make a specific mechanism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Max-Forwards rules for loop-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 the name “STRAW”: what do we have to SIP through a small STRAW between the sides of a B2BUA to get &lt;insert mechanism&gt; to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w Ch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4855505611_9062617ec6.jpg"/>
          <p:cNvPicPr/>
          <p:nvPr/>
        </p:nvPicPr>
        <p:blipFill>
          <a:blip r:embed="rId1"/>
          <a:stretch/>
        </p:blipFill>
        <p:spPr>
          <a:xfrm>
            <a:off x="399960" y="1339920"/>
            <a:ext cx="3532320" cy="529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rinking-straw-chair.jpg"/>
          <p:cNvPicPr/>
          <p:nvPr/>
        </p:nvPicPr>
        <p:blipFill>
          <a:blip r:embed="rId2"/>
          <a:stretch/>
        </p:blipFill>
        <p:spPr>
          <a:xfrm>
            <a:off x="4064040" y="2692440"/>
            <a:ext cx="48308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9520" y="1063440"/>
            <a:ext cx="87249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2BUA role-types taxonomy do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taxonomy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to identify specific features/capabilities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holmberg-sipcore-proxy-feature-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loop detection/preven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loop-detection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end-to-end and hop-by-hop media-loopback test ca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sip-tracerout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DTLS-SRTP (RFC 5764)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STUN connectivity checks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17:17:29Z</dcterms:modified>
  <cp:revision>16</cp:revision>
  <dc:subject/>
  <dc:title>STRAW WG Proposal</dc:title>
</cp:coreProperties>
</file>