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304-7149-46FC-954E-AF9D0EA7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300-10AE-451D-8D74-D26D8779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022-8DC1-4D17-8F9E-6A965E80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6AD-7034-46F3-B26B-E8ED0DDA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83E-BE41-4268-9F2F-AD3ED58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379-7F68-47AF-B0B9-0FCE2F1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A8E-D668-41F8-88F6-DBB59FF8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9B2-85DC-496A-8620-7C701116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BEE-7FC8-4EEB-A100-41E3C55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8CF-9AB0-4797-9CB4-90E7474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C9F-B694-43B9-B405-8FB87CF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2AC-6458-4ECD-B3E2-A7B8F94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6A540-CB69-48CF-94D2-B9EB36930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p Traversal Required for Applications to Work (STRAW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G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raw-man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hings aren’t working as well as they could across some B2BU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 detection, GRU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xisting things might hav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TCP media, DTLS-SRTP, STUN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new things need B2BUAs to act a certain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back calls, feature-caps, BF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yers vs.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ically the SIP protocol scope ends at a B2BUA, and a new one begins on the other side(s) of the B2B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The Great Escape-clause of SIP: “I don’t have to follow that RFC – I’m a B2BUA!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in practice users expect some things to just work across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ke they expect “email” stuff to work, even if it goes POP3 -&gt; SMTP -&gt; IM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ing Small Sips not Gul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impossible to specify everything that all types of B2BUAs must do for S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, this WG only defines what very few things any B2BUA must do to make a specific mechanism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Max-Forwards rules for loop-det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us the name “STRAW”: what do we have to SIP through a small STRAW between the sides of a B2BUA to get &lt;insert mechanism&gt; to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w Ch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4855505611_9062617ec6.jpg"/>
          <p:cNvPicPr/>
          <p:nvPr/>
        </p:nvPicPr>
        <p:blipFill>
          <a:blip r:embed="rId1"/>
          <a:stretch/>
        </p:blipFill>
        <p:spPr>
          <a:xfrm>
            <a:off x="399960" y="1339920"/>
            <a:ext cx="3532320" cy="529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rinking-straw-chair.jpg"/>
          <p:cNvPicPr/>
          <p:nvPr/>
        </p:nvPicPr>
        <p:blipFill>
          <a:blip r:embed="rId2"/>
          <a:stretch/>
        </p:blipFill>
        <p:spPr>
          <a:xfrm>
            <a:off x="4064040" y="2692440"/>
            <a:ext cx="48308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9520" y="1063440"/>
            <a:ext cx="872496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2BUA role-types taxonomy do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taxonomy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to identify specific features/capabilities sup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holmberg-sipcore-proxy-feature-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loop detection/preven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loop-detection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end-to-end and hop-by-hop media-loopback test ca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sip-traceroute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DTLS-SRTP (RFC 5764)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STUN connectivity checks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Hadriel Kaplan</cp:lastModifiedBy>
  <dcterms:modified xsi:type="dcterms:W3CDTF">2012-07-31T17:17:29Z</dcterms:modified>
  <cp:revision>16</cp:revision>
  <dc:subject/>
  <dc:title>STRAW WG Proposal</dc:title>
</cp:coreProperties>
</file>