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AAF-BC57-44C0-A4E7-8FF3FD97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56B-0A4D-45B9-82AF-E8ABFFA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813-F008-4C95-9A90-3BB69CD8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7E8-E58C-4A52-87AC-AFD03E57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8AC-9788-4FC3-8124-C5F7722A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BFF-DE3F-444D-993B-E444A9E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B6B-C090-4EB6-BD1E-D28E50D4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3BE-961C-4B0F-AA00-3D11010F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EFD-112D-4347-AA10-5EA611E5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48D-7ED7-4E13-A286-161ACD1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AC6-99F4-4A14-B44E-4B03DC7C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E27-A9C9-4CA6-A817-B2D2673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00930-C5FE-4822-AEBF-53FA3BF9C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axonomy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P B2BUA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aplan-straw-b2bua-tax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x-man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060800" y="0"/>
            <a:ext cx="50832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we classify Conference Servers as B2BUAs for STRA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now they’re not really, because they’re typically multiple UAS’, not a UAS-UAC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type names and descriptions o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doc going in the right direction? (who’s read it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rite a STRAW doc, we need to define what “types” of B2BUAs the doc applie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ould do this in every doc, or we could do it in one doc: a Tax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, there may still be some STRAW docs that need to define special cases or sub-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 B2BUA that handles IPv6-IPv4 interworking may need to have different requirements than one that does only IPv4 or IPv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ow many B2BU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many – this WG can’t define them 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e don’t even know them al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really we don’t need to list them all – just the major/basic types that would make a difference for STRAW stu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: relays media or not, transcodes media or not, acts like Proxy vs. full UA for header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’ve chosen to differentiate based on what “layer” the B2BUA operates at/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ot-so-OSI B2BUA lay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ube 3"/>
          <p:cNvSpPr/>
          <p:nvPr/>
        </p:nvSpPr>
        <p:spPr>
          <a:xfrm>
            <a:off x="934920" y="5907240"/>
            <a:ext cx="36576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124000" y="59911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ube 11"/>
          <p:cNvSpPr/>
          <p:nvPr/>
        </p:nvSpPr>
        <p:spPr>
          <a:xfrm>
            <a:off x="934920" y="5554800"/>
            <a:ext cx="36576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124000" y="563868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-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ube 13"/>
          <p:cNvSpPr/>
          <p:nvPr/>
        </p:nvSpPr>
        <p:spPr>
          <a:xfrm>
            <a:off x="934920" y="520236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1257480" y="5303880"/>
            <a:ext cx="10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ube 15"/>
          <p:cNvSpPr/>
          <p:nvPr/>
        </p:nvSpPr>
        <p:spPr>
          <a:xfrm>
            <a:off x="2760840" y="520524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083040" y="53071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ube 17"/>
          <p:cNvSpPr/>
          <p:nvPr/>
        </p:nvSpPr>
        <p:spPr>
          <a:xfrm>
            <a:off x="932040" y="4840200"/>
            <a:ext cx="12794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1052640" y="4941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ube 26"/>
          <p:cNvSpPr/>
          <p:nvPr/>
        </p:nvSpPr>
        <p:spPr>
          <a:xfrm>
            <a:off x="2116080" y="4840200"/>
            <a:ext cx="12794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236680" y="4941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be 28"/>
          <p:cNvSpPr/>
          <p:nvPr/>
        </p:nvSpPr>
        <p:spPr>
          <a:xfrm>
            <a:off x="3308400" y="4840200"/>
            <a:ext cx="12812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3430440" y="4941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be 30"/>
          <p:cNvSpPr/>
          <p:nvPr/>
        </p:nvSpPr>
        <p:spPr>
          <a:xfrm>
            <a:off x="934920" y="448452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1"/>
          <p:cNvSpPr/>
          <p:nvPr/>
        </p:nvSpPr>
        <p:spPr>
          <a:xfrm>
            <a:off x="1257480" y="4586400"/>
            <a:ext cx="10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ube 32"/>
          <p:cNvSpPr/>
          <p:nvPr/>
        </p:nvSpPr>
        <p:spPr>
          <a:xfrm>
            <a:off x="2760840" y="4487760"/>
            <a:ext cx="18288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3"/>
          <p:cNvSpPr/>
          <p:nvPr/>
        </p:nvSpPr>
        <p:spPr>
          <a:xfrm>
            <a:off x="3083040" y="458964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ear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ube 34"/>
          <p:cNvSpPr/>
          <p:nvPr/>
        </p:nvSpPr>
        <p:spPr>
          <a:xfrm>
            <a:off x="934920" y="4132440"/>
            <a:ext cx="1828800" cy="457200"/>
          </a:xfrm>
          <a:prstGeom prst="cube">
            <a:avLst>
              <a:gd name="adj" fmla="val 25000"/>
            </a:avLst>
          </a:prstGeom>
          <a:solidFill>
            <a:srgbClr val="77933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5"/>
          <p:cNvSpPr/>
          <p:nvPr/>
        </p:nvSpPr>
        <p:spPr>
          <a:xfrm>
            <a:off x="932040" y="4237200"/>
            <a:ext cx="170640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a/RR-prox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ube 36"/>
          <p:cNvSpPr/>
          <p:nvPr/>
        </p:nvSpPr>
        <p:spPr>
          <a:xfrm>
            <a:off x="2760840" y="4135320"/>
            <a:ext cx="1828800" cy="457200"/>
          </a:xfrm>
          <a:prstGeom prst="cube">
            <a:avLst>
              <a:gd name="adj" fmla="val 25000"/>
            </a:avLst>
          </a:prstGeom>
          <a:solidFill>
            <a:srgbClr val="77933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7"/>
          <p:cNvSpPr/>
          <p:nvPr/>
        </p:nvSpPr>
        <p:spPr>
          <a:xfrm>
            <a:off x="2763720" y="4237200"/>
            <a:ext cx="169884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a/RR-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ube 38"/>
          <p:cNvSpPr/>
          <p:nvPr/>
        </p:nvSpPr>
        <p:spPr>
          <a:xfrm>
            <a:off x="932040" y="3780000"/>
            <a:ext cx="3657600" cy="457200"/>
          </a:xfrm>
          <a:prstGeom prst="cube">
            <a:avLst>
              <a:gd name="adj" fmla="val 25000"/>
            </a:avLst>
          </a:prstGeom>
          <a:solidFill>
            <a:srgbClr val="ebff74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9"/>
          <p:cNvSpPr/>
          <p:nvPr/>
        </p:nvSpPr>
        <p:spPr>
          <a:xfrm>
            <a:off x="934920" y="3863880"/>
            <a:ext cx="3527640" cy="368280"/>
          </a:xfrm>
          <a:prstGeom prst="rect">
            <a:avLst/>
          </a:prstGeom>
          <a:solidFill>
            <a:srgbClr val="ebf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ct-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ube 40"/>
          <p:cNvSpPr/>
          <p:nvPr/>
        </p:nvSpPr>
        <p:spPr>
          <a:xfrm>
            <a:off x="932040" y="3417840"/>
            <a:ext cx="3657600" cy="457200"/>
          </a:xfrm>
          <a:prstGeom prst="cube">
            <a:avLst>
              <a:gd name="adj" fmla="val 25000"/>
            </a:avLst>
          </a:prstGeom>
          <a:solidFill>
            <a:srgbClr val="ffda5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1"/>
          <p:cNvSpPr/>
          <p:nvPr/>
        </p:nvSpPr>
        <p:spPr>
          <a:xfrm>
            <a:off x="934920" y="3502080"/>
            <a:ext cx="3527640" cy="368280"/>
          </a:xfrm>
          <a:prstGeom prst="rect">
            <a:avLst/>
          </a:prstGeom>
          <a:solidFill>
            <a:srgbClr val="ffd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ll SIP UAS-U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ube 42"/>
          <p:cNvSpPr/>
          <p:nvPr/>
        </p:nvSpPr>
        <p:spPr>
          <a:xfrm>
            <a:off x="928800" y="3059280"/>
            <a:ext cx="3657600" cy="457200"/>
          </a:xfrm>
          <a:prstGeom prst="cube">
            <a:avLst>
              <a:gd name="adj" fmla="val 25000"/>
            </a:avLst>
          </a:prstGeom>
          <a:solidFill>
            <a:srgbClr val="faa86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3"/>
          <p:cNvSpPr/>
          <p:nvPr/>
        </p:nvSpPr>
        <p:spPr>
          <a:xfrm>
            <a:off x="932040" y="3143160"/>
            <a:ext cx="3527280" cy="368280"/>
          </a:xfrm>
          <a:prstGeom prst="rect">
            <a:avLst/>
          </a:prstGeom>
          <a:solidFill>
            <a:srgbClr val="faa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 re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ube 44"/>
          <p:cNvSpPr/>
          <p:nvPr/>
        </p:nvSpPr>
        <p:spPr>
          <a:xfrm>
            <a:off x="928800" y="2698920"/>
            <a:ext cx="3657600" cy="457200"/>
          </a:xfrm>
          <a:prstGeom prst="cube">
            <a:avLst>
              <a:gd name="adj" fmla="val 25000"/>
            </a:avLst>
          </a:prstGeom>
          <a:solidFill>
            <a:srgbClr val="e47b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5"/>
          <p:cNvSpPr/>
          <p:nvPr/>
        </p:nvSpPr>
        <p:spPr>
          <a:xfrm>
            <a:off x="932040" y="2784600"/>
            <a:ext cx="3527280" cy="368280"/>
          </a:xfrm>
          <a:prstGeom prst="rect">
            <a:avLst/>
          </a:prstGeom>
          <a:solidFill>
            <a:srgbClr val="e47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RTP Term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ube 46"/>
          <p:cNvSpPr/>
          <p:nvPr/>
        </p:nvSpPr>
        <p:spPr>
          <a:xfrm>
            <a:off x="925560" y="2352600"/>
            <a:ext cx="3657600" cy="4572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7"/>
          <p:cNvSpPr/>
          <p:nvPr/>
        </p:nvSpPr>
        <p:spPr>
          <a:xfrm>
            <a:off x="928800" y="2436840"/>
            <a:ext cx="352728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co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ube 48"/>
          <p:cNvSpPr/>
          <p:nvPr/>
        </p:nvSpPr>
        <p:spPr>
          <a:xfrm>
            <a:off x="922320" y="1998720"/>
            <a:ext cx="3657600" cy="457200"/>
          </a:xfrm>
          <a:prstGeom prst="cube">
            <a:avLst>
              <a:gd name="adj" fmla="val 25000"/>
            </a:avLst>
          </a:prstGeom>
          <a:solidFill>
            <a:srgbClr val="ff5b3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9"/>
          <p:cNvSpPr/>
          <p:nvPr/>
        </p:nvSpPr>
        <p:spPr>
          <a:xfrm>
            <a:off x="925560" y="2082960"/>
            <a:ext cx="3527280" cy="368280"/>
          </a:xfrm>
          <a:prstGeom prst="rect">
            <a:avLst/>
          </a:prstGeom>
          <a:solidFill>
            <a:srgbClr val="ff5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be 50"/>
          <p:cNvSpPr/>
          <p:nvPr/>
        </p:nvSpPr>
        <p:spPr>
          <a:xfrm>
            <a:off x="919080" y="1638360"/>
            <a:ext cx="3657600" cy="457200"/>
          </a:xfrm>
          <a:prstGeom prst="cube">
            <a:avLst>
              <a:gd name="adj" fmla="val 25000"/>
            </a:avLst>
          </a:prstGeom>
          <a:solidFill>
            <a:srgbClr val="ff2e2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1"/>
          <p:cNvSpPr/>
          <p:nvPr/>
        </p:nvSpPr>
        <p:spPr>
          <a:xfrm>
            <a:off x="922320" y="1722600"/>
            <a:ext cx="3527280" cy="368280"/>
          </a:xfrm>
          <a:prstGeom prst="rect">
            <a:avLst/>
          </a:prstGeom>
          <a:solidFill>
            <a:srgbClr val="ff2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ynet/Si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53"/>
          <p:cNvCxnSpPr/>
          <p:nvPr/>
        </p:nvCxnSpPr>
        <p:spPr>
          <a:xfrm flipV="1">
            <a:off x="614160" y="1793160"/>
            <a:ext cx="1080" cy="456804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6" name="TextBox 55"/>
          <p:cNvSpPr/>
          <p:nvPr/>
        </p:nvSpPr>
        <p:spPr>
          <a:xfrm rot="16200000">
            <a:off x="-1889280" y="38926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Impacts more stuff in STR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ight Brace 58"/>
          <p:cNvSpPr/>
          <p:nvPr/>
        </p:nvSpPr>
        <p:spPr>
          <a:xfrm>
            <a:off x="6775560" y="1722600"/>
            <a:ext cx="734760" cy="1793880"/>
          </a:xfrm>
          <a:custGeom>
            <a:avLst/>
            <a:gdLst>
              <a:gd name="textAreaLeft" fmla="*/ 0 w 734760"/>
              <a:gd name="textAreaRight" fmla="*/ 265320 w 734760"/>
              <a:gd name="textAreaTop" fmla="*/ 19080 h 1793880"/>
              <a:gd name="textAreaBottom" fmla="*/ 177480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0"/>
                  <a:pt x="10800" y="739"/>
                </a:cubicBezTo>
                <a:lnTo>
                  <a:pt x="10800" y="10061"/>
                </a:lnTo>
                <a:cubicBezTo>
                  <a:pt x="10800" y="10431"/>
                  <a:pt x="16200" y="10800"/>
                  <a:pt x="21600" y="10800"/>
                </a:cubicBezTo>
                <a:cubicBezTo>
                  <a:pt x="16200" y="10800"/>
                  <a:pt x="10800" y="11170"/>
                  <a:pt x="10800" y="11539"/>
                </a:cubicBezTo>
                <a:lnTo>
                  <a:pt x="10800" y="20861"/>
                </a:lnTo>
                <a:cubicBezTo>
                  <a:pt x="10800" y="2123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59"/>
          <p:cNvSpPr/>
          <p:nvPr/>
        </p:nvSpPr>
        <p:spPr>
          <a:xfrm>
            <a:off x="6775560" y="3517920"/>
            <a:ext cx="734760" cy="1089000"/>
          </a:xfrm>
          <a:custGeom>
            <a:avLst/>
            <a:gdLst>
              <a:gd name="textAreaLeft" fmla="*/ 0 w 734760"/>
              <a:gd name="textAreaRight" fmla="*/ 265320 w 734760"/>
              <a:gd name="textAreaTop" fmla="*/ 19080 h 1089000"/>
              <a:gd name="textAreaBottom" fmla="*/ 106992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8"/>
                  <a:pt x="10800" y="1216"/>
                </a:cubicBezTo>
                <a:lnTo>
                  <a:pt x="10800" y="9584"/>
                </a:lnTo>
                <a:cubicBezTo>
                  <a:pt x="10800" y="10192"/>
                  <a:pt x="16200" y="10800"/>
                  <a:pt x="21600" y="10800"/>
                </a:cubicBezTo>
                <a:cubicBezTo>
                  <a:pt x="16200" y="10800"/>
                  <a:pt x="10800" y="11408"/>
                  <a:pt x="10800" y="12016"/>
                </a:cubicBezTo>
                <a:lnTo>
                  <a:pt x="10800" y="20384"/>
                </a:lnTo>
                <a:cubicBezTo>
                  <a:pt x="10800" y="2099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0"/>
          <p:cNvSpPr/>
          <p:nvPr/>
        </p:nvSpPr>
        <p:spPr>
          <a:xfrm>
            <a:off x="7118280" y="213840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 layer B2B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1"/>
          <p:cNvSpPr/>
          <p:nvPr/>
        </p:nvSpPr>
        <p:spPr>
          <a:xfrm>
            <a:off x="6916680" y="360036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ing layer B2B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ight Brace 62"/>
          <p:cNvSpPr/>
          <p:nvPr/>
        </p:nvSpPr>
        <p:spPr>
          <a:xfrm>
            <a:off x="4643280" y="4233960"/>
            <a:ext cx="409680" cy="347400"/>
          </a:xfrm>
          <a:custGeom>
            <a:avLst/>
            <a:gdLst>
              <a:gd name="textAreaLeft" fmla="*/ 0 w 409680"/>
              <a:gd name="textAreaRight" fmla="*/ 147960 w 409680"/>
              <a:gd name="textAreaTop" fmla="*/ 9000 h 347400"/>
              <a:gd name="textAreaBottom" fmla="*/ 338400 h 34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3"/>
          <p:cNvSpPr/>
          <p:nvPr/>
        </p:nvSpPr>
        <p:spPr>
          <a:xfrm>
            <a:off x="4971960" y="4216320"/>
            <a:ext cx="15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xy-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ight Brace 64"/>
          <p:cNvSpPr/>
          <p:nvPr/>
        </p:nvSpPr>
        <p:spPr>
          <a:xfrm>
            <a:off x="4643280" y="3517920"/>
            <a:ext cx="409680" cy="74124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741240"/>
              <a:gd name="textAreaBottom" fmla="*/ 7308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7"/>
                  <a:pt x="10800" y="994"/>
                </a:cubicBezTo>
                <a:lnTo>
                  <a:pt x="10800" y="9806"/>
                </a:lnTo>
                <a:cubicBezTo>
                  <a:pt x="10800" y="10303"/>
                  <a:pt x="16200" y="10800"/>
                  <a:pt x="21600" y="10800"/>
                </a:cubicBezTo>
                <a:cubicBezTo>
                  <a:pt x="16200" y="10800"/>
                  <a:pt x="10800" y="11297"/>
                  <a:pt x="10800" y="11794"/>
                </a:cubicBezTo>
                <a:lnTo>
                  <a:pt x="10800" y="20606"/>
                </a:lnTo>
                <a:cubicBezTo>
                  <a:pt x="10800" y="2110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5"/>
          <p:cNvSpPr/>
          <p:nvPr/>
        </p:nvSpPr>
        <p:spPr>
          <a:xfrm>
            <a:off x="4971960" y="356868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aling-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ight Brace 66"/>
          <p:cNvSpPr/>
          <p:nvPr/>
        </p:nvSpPr>
        <p:spPr>
          <a:xfrm>
            <a:off x="4643280" y="3156120"/>
            <a:ext cx="409680" cy="347400"/>
          </a:xfrm>
          <a:custGeom>
            <a:avLst/>
            <a:gdLst>
              <a:gd name="textAreaLeft" fmla="*/ 0 w 409680"/>
              <a:gd name="textAreaRight" fmla="*/ 147960 w 409680"/>
              <a:gd name="textAreaTop" fmla="*/ 9000 h 347400"/>
              <a:gd name="textAreaBottom" fmla="*/ 338400 h 34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7"/>
          <p:cNvSpPr/>
          <p:nvPr/>
        </p:nvSpPr>
        <p:spPr>
          <a:xfrm>
            <a:off x="4971960" y="31129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-Relay 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9"/>
          <p:cNvSpPr/>
          <p:nvPr/>
        </p:nvSpPr>
        <p:spPr>
          <a:xfrm>
            <a:off x="4971960" y="2763720"/>
            <a:ext cx="28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-aware 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ight Brace 70"/>
          <p:cNvSpPr/>
          <p:nvPr/>
        </p:nvSpPr>
        <p:spPr>
          <a:xfrm>
            <a:off x="4643280" y="2805120"/>
            <a:ext cx="409680" cy="347760"/>
          </a:xfrm>
          <a:custGeom>
            <a:avLst/>
            <a:gdLst>
              <a:gd name="textAreaLeft" fmla="*/ 0 w 409680"/>
              <a:gd name="textAreaRight" fmla="*/ 147960 w 409680"/>
              <a:gd name="textAreaTop" fmla="*/ 9000 h 347760"/>
              <a:gd name="textAreaBottom" fmla="*/ 338760 h 3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ight Brace 71"/>
          <p:cNvSpPr/>
          <p:nvPr/>
        </p:nvSpPr>
        <p:spPr>
          <a:xfrm>
            <a:off x="4643280" y="2041560"/>
            <a:ext cx="409680" cy="74304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743040"/>
              <a:gd name="textAreaBottom" fmla="*/ 73260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7"/>
                  <a:pt x="10800" y="994"/>
                </a:cubicBezTo>
                <a:lnTo>
                  <a:pt x="10800" y="9806"/>
                </a:lnTo>
                <a:cubicBezTo>
                  <a:pt x="10800" y="10303"/>
                  <a:pt x="16200" y="10800"/>
                  <a:pt x="21600" y="10800"/>
                </a:cubicBezTo>
                <a:cubicBezTo>
                  <a:pt x="16200" y="10800"/>
                  <a:pt x="10800" y="11297"/>
                  <a:pt x="10800" y="11794"/>
                </a:cubicBezTo>
                <a:lnTo>
                  <a:pt x="10800" y="20606"/>
                </a:lnTo>
                <a:cubicBezTo>
                  <a:pt x="10800" y="2110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2"/>
          <p:cNvSpPr/>
          <p:nvPr/>
        </p:nvSpPr>
        <p:spPr>
          <a:xfrm>
            <a:off x="4971960" y="209232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-term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-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ure RFC-3261 Proxy, excep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intains enough state info to send in-dialog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erminate a dialog by sending a BYE, or send UPDATE/re-INVITE to check l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modify headers/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inserts Via/Record-Route, decrements Max-Forwards, etc., per 326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aling-only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place any/all headers, terminates/processes REFER, modifies specific bodi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an App Server or non-media 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touch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modify S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-relay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ddlebox that relays UDP/TCP “media” packets, understands and modifies S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a plain-vanilla media-pr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look into RTP/RTCP, does not transcode, terminate SRTP, munge RTP/RTCP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t does that, it’s a media-aware or media-termination B2B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-Aware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ddlebox that knows it’s relaying RTP/RTCP, looks into them for quality stats, or terminates SR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most common SBC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transcode nor act as a B2BUA at the RTP/RTCP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-termination B2B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iddlebox that is a B2BUA for media, such as transc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full sheb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ould be a PSTN gateway, except the context of a B2BUA would be SIP on both sides so PSTN Gateway wouldn’t a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20:42:19Z</dcterms:modified>
  <cp:revision>29</cp:revision>
  <dc:subject/>
  <dc:title>STRAW WG Proposal</dc:title>
</cp:coreProperties>
</file>