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5B50-141E-494F-9F49-A356036F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0320-A439-4AC8-9243-B5500786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FCFF-B3B0-4244-8F11-3F01B3204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521B-B305-451D-BD1F-46D96D6B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DA57-9982-4A4B-B78E-A881B842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5FEC-C511-47B6-9AA5-238919D4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D240-4322-4B41-85E1-5BD9D825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F6A6-5103-492D-80CC-ACA19EF3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6DA2-D7CA-4F75-A332-45BCB39B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CEF3-C229-4585-843A-A9C4216E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E0E3-3BD5-4655-A9D1-495CE073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4D4C-7A32-434C-9931-CCC3D281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83D5E9-BA02-4EA1-9AF2-D178B58DB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26960"/>
            <a:ext cx="7772400" cy="16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Taxonomy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P B2BUA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ft-kaplan-straw-b2bua-tax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89284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ax-man: Hadriel Ka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4060800" y="0"/>
            <a:ext cx="508320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n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we classify Conference Servers as B2BUAs for STRA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ght now they’re not really, because they’re typically multiple UAS’, not a UAS-UAC pai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the type names and descriptions o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doc going in the right direction? (who’s read it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oblem(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write a STRAW doc, we need to define what “types” of B2BUAs the doc applies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could do this in every doc, or we could do it in one doc: a Tax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, there may still be some STRAW docs that need to define special cases or sub-ty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, a B2BUA that handles IPv6-IPv4 interworking may need to have different requirements than one that does only IPv4 or IPv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 how many B2BU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are the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 many – this WG can’t define them al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we don’t even know them all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really we don’t need to list them all – just the major/basic types that would make a difference for STRAW stu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: relays media or not, transcodes media or not, acts like Proxy vs. full UA for header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I’ve chosen to differentiate based on what “layer” the B2BUA operates at/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not-so-OSI B2BUA lay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Cube 3"/>
          <p:cNvSpPr/>
          <p:nvPr/>
        </p:nvSpPr>
        <p:spPr>
          <a:xfrm>
            <a:off x="934920" y="5907240"/>
            <a:ext cx="3657600" cy="457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124000" y="5991120"/>
            <a:ext cx="10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ube 11"/>
          <p:cNvSpPr/>
          <p:nvPr/>
        </p:nvSpPr>
        <p:spPr>
          <a:xfrm>
            <a:off x="934920" y="5554800"/>
            <a:ext cx="3657600" cy="457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2124000" y="5638680"/>
            <a:ext cx="10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-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ube 13"/>
          <p:cNvSpPr/>
          <p:nvPr/>
        </p:nvSpPr>
        <p:spPr>
          <a:xfrm>
            <a:off x="934920" y="5202360"/>
            <a:ext cx="1828800" cy="457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4"/>
          <p:cNvSpPr/>
          <p:nvPr/>
        </p:nvSpPr>
        <p:spPr>
          <a:xfrm>
            <a:off x="1257480" y="5303880"/>
            <a:ext cx="10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Pv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ube 15"/>
          <p:cNvSpPr/>
          <p:nvPr/>
        </p:nvSpPr>
        <p:spPr>
          <a:xfrm>
            <a:off x="2760840" y="5205240"/>
            <a:ext cx="1828800" cy="457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6"/>
          <p:cNvSpPr/>
          <p:nvPr/>
        </p:nvSpPr>
        <p:spPr>
          <a:xfrm>
            <a:off x="3083040" y="5307120"/>
            <a:ext cx="10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Pv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Cube 17"/>
          <p:cNvSpPr/>
          <p:nvPr/>
        </p:nvSpPr>
        <p:spPr>
          <a:xfrm>
            <a:off x="932040" y="4840200"/>
            <a:ext cx="1279440" cy="457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8"/>
          <p:cNvSpPr/>
          <p:nvPr/>
        </p:nvSpPr>
        <p:spPr>
          <a:xfrm>
            <a:off x="1052640" y="4941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ube 26"/>
          <p:cNvSpPr/>
          <p:nvPr/>
        </p:nvSpPr>
        <p:spPr>
          <a:xfrm>
            <a:off x="2116080" y="4840200"/>
            <a:ext cx="1279440" cy="457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7"/>
          <p:cNvSpPr/>
          <p:nvPr/>
        </p:nvSpPr>
        <p:spPr>
          <a:xfrm>
            <a:off x="2236680" y="4941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Cube 28"/>
          <p:cNvSpPr/>
          <p:nvPr/>
        </p:nvSpPr>
        <p:spPr>
          <a:xfrm>
            <a:off x="3308400" y="4840200"/>
            <a:ext cx="1281240" cy="457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9"/>
          <p:cNvSpPr/>
          <p:nvPr/>
        </p:nvSpPr>
        <p:spPr>
          <a:xfrm>
            <a:off x="3430440" y="4941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ube 30"/>
          <p:cNvSpPr/>
          <p:nvPr/>
        </p:nvSpPr>
        <p:spPr>
          <a:xfrm>
            <a:off x="934920" y="4484520"/>
            <a:ext cx="1828800" cy="457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1"/>
          <p:cNvSpPr/>
          <p:nvPr/>
        </p:nvSpPr>
        <p:spPr>
          <a:xfrm>
            <a:off x="1257480" y="4586400"/>
            <a:ext cx="10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ube 32"/>
          <p:cNvSpPr/>
          <p:nvPr/>
        </p:nvSpPr>
        <p:spPr>
          <a:xfrm>
            <a:off x="2760840" y="4487760"/>
            <a:ext cx="1828800" cy="457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3"/>
          <p:cNvSpPr/>
          <p:nvPr/>
        </p:nvSpPr>
        <p:spPr>
          <a:xfrm>
            <a:off x="3083040" y="4589640"/>
            <a:ext cx="10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ear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Cube 34"/>
          <p:cNvSpPr/>
          <p:nvPr/>
        </p:nvSpPr>
        <p:spPr>
          <a:xfrm>
            <a:off x="934920" y="4132440"/>
            <a:ext cx="1828800" cy="457200"/>
          </a:xfrm>
          <a:prstGeom prst="cube">
            <a:avLst>
              <a:gd name="adj" fmla="val 25000"/>
            </a:avLst>
          </a:prstGeom>
          <a:solidFill>
            <a:srgbClr val="77933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5"/>
          <p:cNvSpPr/>
          <p:nvPr/>
        </p:nvSpPr>
        <p:spPr>
          <a:xfrm>
            <a:off x="932040" y="4237200"/>
            <a:ext cx="1706400" cy="368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a/RR-prox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ube 36"/>
          <p:cNvSpPr/>
          <p:nvPr/>
        </p:nvSpPr>
        <p:spPr>
          <a:xfrm>
            <a:off x="2760840" y="4135320"/>
            <a:ext cx="1828800" cy="457200"/>
          </a:xfrm>
          <a:prstGeom prst="cube">
            <a:avLst>
              <a:gd name="adj" fmla="val 25000"/>
            </a:avLst>
          </a:prstGeom>
          <a:solidFill>
            <a:srgbClr val="77933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7"/>
          <p:cNvSpPr/>
          <p:nvPr/>
        </p:nvSpPr>
        <p:spPr>
          <a:xfrm>
            <a:off x="2763720" y="4237200"/>
            <a:ext cx="1698840" cy="368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a/RR-re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ube 38"/>
          <p:cNvSpPr/>
          <p:nvPr/>
        </p:nvSpPr>
        <p:spPr>
          <a:xfrm>
            <a:off x="932040" y="3780000"/>
            <a:ext cx="3657600" cy="457200"/>
          </a:xfrm>
          <a:prstGeom prst="cube">
            <a:avLst>
              <a:gd name="adj" fmla="val 25000"/>
            </a:avLst>
          </a:prstGeom>
          <a:solidFill>
            <a:srgbClr val="ebff74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9"/>
          <p:cNvSpPr/>
          <p:nvPr/>
        </p:nvSpPr>
        <p:spPr>
          <a:xfrm>
            <a:off x="934920" y="3863880"/>
            <a:ext cx="3527640" cy="368280"/>
          </a:xfrm>
          <a:prstGeom prst="rect">
            <a:avLst/>
          </a:prstGeom>
          <a:solidFill>
            <a:srgbClr val="ebf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act-re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Cube 40"/>
          <p:cNvSpPr/>
          <p:nvPr/>
        </p:nvSpPr>
        <p:spPr>
          <a:xfrm>
            <a:off x="932040" y="3417840"/>
            <a:ext cx="3657600" cy="457200"/>
          </a:xfrm>
          <a:prstGeom prst="cube">
            <a:avLst>
              <a:gd name="adj" fmla="val 25000"/>
            </a:avLst>
          </a:prstGeom>
          <a:solidFill>
            <a:srgbClr val="ffda5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41"/>
          <p:cNvSpPr/>
          <p:nvPr/>
        </p:nvSpPr>
        <p:spPr>
          <a:xfrm>
            <a:off x="934920" y="3502080"/>
            <a:ext cx="3527640" cy="368280"/>
          </a:xfrm>
          <a:prstGeom prst="rect">
            <a:avLst/>
          </a:prstGeom>
          <a:solidFill>
            <a:srgbClr val="ffda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ll SIP UAS-U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Cube 42"/>
          <p:cNvSpPr/>
          <p:nvPr/>
        </p:nvSpPr>
        <p:spPr>
          <a:xfrm>
            <a:off x="928800" y="3059280"/>
            <a:ext cx="3657600" cy="457200"/>
          </a:xfrm>
          <a:prstGeom prst="cube">
            <a:avLst>
              <a:gd name="adj" fmla="val 25000"/>
            </a:avLst>
          </a:prstGeom>
          <a:solidFill>
            <a:srgbClr val="faa86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43"/>
          <p:cNvSpPr/>
          <p:nvPr/>
        </p:nvSpPr>
        <p:spPr>
          <a:xfrm>
            <a:off x="932040" y="3143160"/>
            <a:ext cx="3527280" cy="368280"/>
          </a:xfrm>
          <a:prstGeom prst="rect">
            <a:avLst/>
          </a:prstGeom>
          <a:solidFill>
            <a:srgbClr val="faa8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ia rel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Cube 44"/>
          <p:cNvSpPr/>
          <p:nvPr/>
        </p:nvSpPr>
        <p:spPr>
          <a:xfrm>
            <a:off x="928800" y="2698920"/>
            <a:ext cx="3657600" cy="457200"/>
          </a:xfrm>
          <a:prstGeom prst="cube">
            <a:avLst>
              <a:gd name="adj" fmla="val 25000"/>
            </a:avLst>
          </a:prstGeom>
          <a:solidFill>
            <a:srgbClr val="e47b2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45"/>
          <p:cNvSpPr/>
          <p:nvPr/>
        </p:nvSpPr>
        <p:spPr>
          <a:xfrm>
            <a:off x="932040" y="2784600"/>
            <a:ext cx="3527280" cy="368280"/>
          </a:xfrm>
          <a:prstGeom prst="rect">
            <a:avLst/>
          </a:prstGeom>
          <a:solidFill>
            <a:srgbClr val="e47b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RTP Termin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ube 46"/>
          <p:cNvSpPr/>
          <p:nvPr/>
        </p:nvSpPr>
        <p:spPr>
          <a:xfrm>
            <a:off x="925560" y="2352600"/>
            <a:ext cx="3657600" cy="45720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47"/>
          <p:cNvSpPr/>
          <p:nvPr/>
        </p:nvSpPr>
        <p:spPr>
          <a:xfrm>
            <a:off x="928800" y="2436840"/>
            <a:ext cx="352728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co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Cube 48"/>
          <p:cNvSpPr/>
          <p:nvPr/>
        </p:nvSpPr>
        <p:spPr>
          <a:xfrm>
            <a:off x="922320" y="1998720"/>
            <a:ext cx="3657600" cy="457200"/>
          </a:xfrm>
          <a:prstGeom prst="cube">
            <a:avLst>
              <a:gd name="adj" fmla="val 25000"/>
            </a:avLst>
          </a:prstGeom>
          <a:solidFill>
            <a:srgbClr val="ff5b3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9"/>
          <p:cNvSpPr/>
          <p:nvPr/>
        </p:nvSpPr>
        <p:spPr>
          <a:xfrm>
            <a:off x="925560" y="2082960"/>
            <a:ext cx="3527280" cy="368280"/>
          </a:xfrm>
          <a:prstGeom prst="rect">
            <a:avLst/>
          </a:prstGeom>
          <a:solidFill>
            <a:srgbClr val="ff5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ia gen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Cube 50"/>
          <p:cNvSpPr/>
          <p:nvPr/>
        </p:nvSpPr>
        <p:spPr>
          <a:xfrm>
            <a:off x="919080" y="1638360"/>
            <a:ext cx="3657600" cy="457200"/>
          </a:xfrm>
          <a:prstGeom prst="cube">
            <a:avLst>
              <a:gd name="adj" fmla="val 25000"/>
            </a:avLst>
          </a:prstGeom>
          <a:solidFill>
            <a:srgbClr val="ff2e2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51"/>
          <p:cNvSpPr/>
          <p:nvPr/>
        </p:nvSpPr>
        <p:spPr>
          <a:xfrm>
            <a:off x="922320" y="1722600"/>
            <a:ext cx="3527280" cy="368280"/>
          </a:xfrm>
          <a:prstGeom prst="rect">
            <a:avLst/>
          </a:prstGeom>
          <a:solidFill>
            <a:srgbClr val="ff2e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kynet/Sir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Straight Arrow Connector 53"/>
          <p:cNvCxnSpPr/>
          <p:nvPr/>
        </p:nvCxnSpPr>
        <p:spPr>
          <a:xfrm flipV="1">
            <a:off x="614160" y="1793160"/>
            <a:ext cx="1080" cy="4568040"/>
          </a:xfrm>
          <a:prstGeom prst="straightConnector1">
            <a:avLst/>
          </a:prstGeom>
          <a:ln w="5724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86" name="TextBox 55"/>
          <p:cNvSpPr/>
          <p:nvPr/>
        </p:nvSpPr>
        <p:spPr>
          <a:xfrm rot="16200000">
            <a:off x="-1889280" y="3892680"/>
            <a:ext cx="44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Impacts more stuff in STRA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ight Brace 58"/>
          <p:cNvSpPr/>
          <p:nvPr/>
        </p:nvSpPr>
        <p:spPr>
          <a:xfrm>
            <a:off x="6775560" y="1722600"/>
            <a:ext cx="734760" cy="1793880"/>
          </a:xfrm>
          <a:custGeom>
            <a:avLst/>
            <a:gdLst>
              <a:gd name="textAreaLeft" fmla="*/ 0 w 734760"/>
              <a:gd name="textAreaRight" fmla="*/ 265320 w 734760"/>
              <a:gd name="textAreaTop" fmla="*/ 19080 h 1793880"/>
              <a:gd name="textAreaBottom" fmla="*/ 1774800 h 179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0"/>
                  <a:pt x="10800" y="739"/>
                </a:cubicBezTo>
                <a:lnTo>
                  <a:pt x="10800" y="10061"/>
                </a:lnTo>
                <a:cubicBezTo>
                  <a:pt x="10800" y="10431"/>
                  <a:pt x="16200" y="10800"/>
                  <a:pt x="21600" y="10800"/>
                </a:cubicBezTo>
                <a:cubicBezTo>
                  <a:pt x="16200" y="10800"/>
                  <a:pt x="10800" y="11170"/>
                  <a:pt x="10800" y="11539"/>
                </a:cubicBezTo>
                <a:lnTo>
                  <a:pt x="10800" y="20861"/>
                </a:lnTo>
                <a:cubicBezTo>
                  <a:pt x="10800" y="21231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ight Brace 59"/>
          <p:cNvSpPr/>
          <p:nvPr/>
        </p:nvSpPr>
        <p:spPr>
          <a:xfrm>
            <a:off x="6775560" y="3517920"/>
            <a:ext cx="734760" cy="1089000"/>
          </a:xfrm>
          <a:custGeom>
            <a:avLst/>
            <a:gdLst>
              <a:gd name="textAreaLeft" fmla="*/ 0 w 734760"/>
              <a:gd name="textAreaRight" fmla="*/ 265320 w 734760"/>
              <a:gd name="textAreaTop" fmla="*/ 19080 h 1089000"/>
              <a:gd name="textAreaBottom" fmla="*/ 1069920 h 108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08"/>
                  <a:pt x="10800" y="1216"/>
                </a:cubicBezTo>
                <a:lnTo>
                  <a:pt x="10800" y="9584"/>
                </a:lnTo>
                <a:cubicBezTo>
                  <a:pt x="10800" y="10192"/>
                  <a:pt x="16200" y="10800"/>
                  <a:pt x="21600" y="10800"/>
                </a:cubicBezTo>
                <a:cubicBezTo>
                  <a:pt x="16200" y="10800"/>
                  <a:pt x="10800" y="11408"/>
                  <a:pt x="10800" y="12016"/>
                </a:cubicBezTo>
                <a:lnTo>
                  <a:pt x="10800" y="20384"/>
                </a:lnTo>
                <a:cubicBezTo>
                  <a:pt x="10800" y="2099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60"/>
          <p:cNvSpPr/>
          <p:nvPr/>
        </p:nvSpPr>
        <p:spPr>
          <a:xfrm>
            <a:off x="7118280" y="2138400"/>
            <a:ext cx="196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dia layer B2BU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61"/>
          <p:cNvSpPr/>
          <p:nvPr/>
        </p:nvSpPr>
        <p:spPr>
          <a:xfrm>
            <a:off x="6916680" y="3600360"/>
            <a:ext cx="23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gnaling layer B2BU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ight Brace 62"/>
          <p:cNvSpPr/>
          <p:nvPr/>
        </p:nvSpPr>
        <p:spPr>
          <a:xfrm>
            <a:off x="4643280" y="4233960"/>
            <a:ext cx="409680" cy="347400"/>
          </a:xfrm>
          <a:custGeom>
            <a:avLst/>
            <a:gdLst>
              <a:gd name="textAreaLeft" fmla="*/ 0 w 409680"/>
              <a:gd name="textAreaRight" fmla="*/ 147960 w 409680"/>
              <a:gd name="textAreaTop" fmla="*/ 9000 h 347400"/>
              <a:gd name="textAreaBottom" fmla="*/ 338400 h 34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63"/>
          <p:cNvSpPr/>
          <p:nvPr/>
        </p:nvSpPr>
        <p:spPr>
          <a:xfrm>
            <a:off x="4971960" y="4216320"/>
            <a:ext cx="15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xy-B2BU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ight Brace 64"/>
          <p:cNvSpPr/>
          <p:nvPr/>
        </p:nvSpPr>
        <p:spPr>
          <a:xfrm>
            <a:off x="4643280" y="3517920"/>
            <a:ext cx="409680" cy="741240"/>
          </a:xfrm>
          <a:custGeom>
            <a:avLst/>
            <a:gdLst>
              <a:gd name="textAreaLeft" fmla="*/ 0 w 409680"/>
              <a:gd name="textAreaRight" fmla="*/ 147960 w 409680"/>
              <a:gd name="textAreaTop" fmla="*/ 10440 h 741240"/>
              <a:gd name="textAreaBottom" fmla="*/ 730800 h 74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97"/>
                  <a:pt x="10800" y="994"/>
                </a:cubicBezTo>
                <a:lnTo>
                  <a:pt x="10800" y="9806"/>
                </a:lnTo>
                <a:cubicBezTo>
                  <a:pt x="10800" y="10303"/>
                  <a:pt x="16200" y="10800"/>
                  <a:pt x="21600" y="10800"/>
                </a:cubicBezTo>
                <a:cubicBezTo>
                  <a:pt x="16200" y="10800"/>
                  <a:pt x="10800" y="11297"/>
                  <a:pt x="10800" y="11794"/>
                </a:cubicBezTo>
                <a:lnTo>
                  <a:pt x="10800" y="20606"/>
                </a:lnTo>
                <a:cubicBezTo>
                  <a:pt x="10800" y="21103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65"/>
          <p:cNvSpPr/>
          <p:nvPr/>
        </p:nvSpPr>
        <p:spPr>
          <a:xfrm>
            <a:off x="4971960" y="3568680"/>
            <a:ext cx="15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gnaling-on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2BU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ight Brace 66"/>
          <p:cNvSpPr/>
          <p:nvPr/>
        </p:nvSpPr>
        <p:spPr>
          <a:xfrm>
            <a:off x="4643280" y="3156120"/>
            <a:ext cx="409680" cy="347400"/>
          </a:xfrm>
          <a:custGeom>
            <a:avLst/>
            <a:gdLst>
              <a:gd name="textAreaLeft" fmla="*/ 0 w 409680"/>
              <a:gd name="textAreaRight" fmla="*/ 147960 w 409680"/>
              <a:gd name="textAreaTop" fmla="*/ 9000 h 347400"/>
              <a:gd name="textAreaBottom" fmla="*/ 338400 h 34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67"/>
          <p:cNvSpPr/>
          <p:nvPr/>
        </p:nvSpPr>
        <p:spPr>
          <a:xfrm>
            <a:off x="4971960" y="311292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ia-Relay B2BU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69"/>
          <p:cNvSpPr/>
          <p:nvPr/>
        </p:nvSpPr>
        <p:spPr>
          <a:xfrm>
            <a:off x="4971960" y="2763720"/>
            <a:ext cx="28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ia-aware B2BU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ight Brace 70"/>
          <p:cNvSpPr/>
          <p:nvPr/>
        </p:nvSpPr>
        <p:spPr>
          <a:xfrm>
            <a:off x="4643280" y="2805120"/>
            <a:ext cx="409680" cy="347760"/>
          </a:xfrm>
          <a:custGeom>
            <a:avLst/>
            <a:gdLst>
              <a:gd name="textAreaLeft" fmla="*/ 0 w 409680"/>
              <a:gd name="textAreaRight" fmla="*/ 147960 w 409680"/>
              <a:gd name="textAreaTop" fmla="*/ 9000 h 347760"/>
              <a:gd name="textAreaBottom" fmla="*/ 338760 h 3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ight Brace 71"/>
          <p:cNvSpPr/>
          <p:nvPr/>
        </p:nvSpPr>
        <p:spPr>
          <a:xfrm>
            <a:off x="4643280" y="2041560"/>
            <a:ext cx="409680" cy="743040"/>
          </a:xfrm>
          <a:custGeom>
            <a:avLst/>
            <a:gdLst>
              <a:gd name="textAreaLeft" fmla="*/ 0 w 409680"/>
              <a:gd name="textAreaRight" fmla="*/ 147960 w 409680"/>
              <a:gd name="textAreaTop" fmla="*/ 10440 h 743040"/>
              <a:gd name="textAreaBottom" fmla="*/ 732600 h 7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97"/>
                  <a:pt x="10800" y="994"/>
                </a:cubicBezTo>
                <a:lnTo>
                  <a:pt x="10800" y="9806"/>
                </a:lnTo>
                <a:cubicBezTo>
                  <a:pt x="10800" y="10303"/>
                  <a:pt x="16200" y="10800"/>
                  <a:pt x="21600" y="10800"/>
                </a:cubicBezTo>
                <a:cubicBezTo>
                  <a:pt x="16200" y="10800"/>
                  <a:pt x="10800" y="11297"/>
                  <a:pt x="10800" y="11794"/>
                </a:cubicBezTo>
                <a:lnTo>
                  <a:pt x="10800" y="20606"/>
                </a:lnTo>
                <a:cubicBezTo>
                  <a:pt x="10800" y="21103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72"/>
          <p:cNvSpPr/>
          <p:nvPr/>
        </p:nvSpPr>
        <p:spPr>
          <a:xfrm>
            <a:off x="4971960" y="2092320"/>
            <a:ext cx="21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ia-termin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2BU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xy-B2BU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 pure RFC-3261 Proxy, except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maintains enough state info to send in-dialog requ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terminate a dialog by sending a BYE, or send UPDATE/re-INVITE to check live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not modify headers/bo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ept inserts Via/Record-Route, decrements Max-Forwards, etc., per 326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gnaling-only B2BU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replace any/all headers, terminates/processes REFER, modifies specific bodie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.e., an App Server or non-media PB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NOT touch med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 not modify SD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dia-relay B2BU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iddlebox that relays UDP/TCP “media” packets, understands and modifies S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.e., a plain-vanilla media-prox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NOT look into RTP/RTCP, does not transcode, terminate SRTP, munge RTP/RTCP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it does that, it’s a media-aware or media-termination B2BU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dia-Aware B2BU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iddlebox that knows it’s relaying RTP/RTCP, looks into them for quality stats, or terminates SR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.e., most common SBC r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NOT transcode nor act as a B2BUA at the RTP/RTCP lay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dia-termination B2BU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iddlebox that is a B2BUA for media, such as transco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the full sheba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would be a PSTN gateway, except the context of a B2BUA would be SIP on both sides so PSTN Gateway wouldn’t app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20:15:55Z</dcterms:created>
  <dc:creator>Hadriel Kaplan</dc:creator>
  <dc:description/>
  <dc:language>en-US</dc:language>
  <cp:lastModifiedBy>Hadriel Kaplan</cp:lastModifiedBy>
  <dcterms:modified xsi:type="dcterms:W3CDTF">2012-07-31T20:42:19Z</dcterms:modified>
  <cp:revision>29</cp:revision>
  <dc:subject/>
  <dc:title>STRAW WG Proposal</dc:title>
</cp:coreProperties>
</file>