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gif" ContentType="image/gif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0586-A6D7-406D-AC36-AD01719D2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AED9-17D6-4796-A7E9-12A8315B4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51E6-2EE8-40DB-BF6D-036CF6352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C3E7-8EC5-484E-823E-34036BDC9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02D8-7F78-42FD-BCE1-A713CBAC5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4475-2996-4208-B6E3-89B09608D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51CA-49FE-4479-84B7-94E3DBCF4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6316-7BF1-4390-A490-88BD77E2E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AF46-DD68-4925-AE00-3DA0FF8F8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25CB-46E9-4D00-B89E-6C894008D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560A-B17D-462B-9501-BF56017DD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7EFA-8C38-4FFD-BBE1-4C20B1A90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42C905-CE07-4AD6-9519-A4A49C9626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026960"/>
            <a:ext cx="7772400" cy="167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oop detection mechanism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SIP B2BUAs 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raft-kaplan-straw-b2bua-loop-detection-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892840"/>
            <a:ext cx="6400800" cy="76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loopy: Hadriel Kapl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2126133021063509742_0.jpg"/>
          <p:cNvPicPr/>
          <p:nvPr/>
        </p:nvPicPr>
        <p:blipFill>
          <a:blip r:embed="rId1"/>
          <a:srcRect l="0" t="5795" r="0" b="11598"/>
          <a:stretch/>
        </p:blipFill>
        <p:spPr>
          <a:xfrm rot="16200000">
            <a:off x="403200" y="-403560"/>
            <a:ext cx="4064040" cy="48704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PG710.jpg"/>
          <p:cNvPicPr/>
          <p:nvPr/>
        </p:nvPicPr>
        <p:blipFill>
          <a:blip r:embed="rId2"/>
          <a:stretch/>
        </p:blipFill>
        <p:spPr>
          <a:xfrm>
            <a:off x="5113440" y="165240"/>
            <a:ext cx="3827520" cy="38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Problem(s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3511080"/>
            <a:ext cx="8229600" cy="26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P Requests are getting looped, without e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16680" indent="-2372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particular, dialog-forming INVI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16680" indent="-2372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cause the left side has a route to the right, while the right side has a route to the lef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BXs and App Servers replace Via, RecRoute, Max-Forwa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1"/>
          <p:cNvSpPr/>
          <p:nvPr/>
        </p:nvSpPr>
        <p:spPr>
          <a:xfrm>
            <a:off x="473040" y="2543040"/>
            <a:ext cx="1513080" cy="717840"/>
          </a:xfrm>
          <a:prstGeom prst="rect">
            <a:avLst/>
          </a:prstGeom>
          <a:noFill/>
          <a:ln w="1908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2"/>
          <p:cNvSpPr/>
          <p:nvPr/>
        </p:nvSpPr>
        <p:spPr>
          <a:xfrm>
            <a:off x="773280" y="2655720"/>
            <a:ext cx="87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i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2703600" y="1747800"/>
            <a:ext cx="1512720" cy="717480"/>
          </a:xfrm>
          <a:prstGeom prst="rect">
            <a:avLst/>
          </a:prstGeom>
          <a:noFill/>
          <a:ln w="1908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8"/>
          <p:cNvSpPr/>
          <p:nvPr/>
        </p:nvSpPr>
        <p:spPr>
          <a:xfrm>
            <a:off x="3070800" y="1862280"/>
            <a:ext cx="74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B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9"/>
          <p:cNvSpPr/>
          <p:nvPr/>
        </p:nvSpPr>
        <p:spPr>
          <a:xfrm>
            <a:off x="4954680" y="1747800"/>
            <a:ext cx="1512720" cy="717480"/>
          </a:xfrm>
          <a:prstGeom prst="rect">
            <a:avLst/>
          </a:prstGeom>
          <a:noFill/>
          <a:ln w="1908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10"/>
          <p:cNvSpPr/>
          <p:nvPr/>
        </p:nvSpPr>
        <p:spPr>
          <a:xfrm>
            <a:off x="5140800" y="1619280"/>
            <a:ext cx="1104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pp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11"/>
          <p:cNvSpPr/>
          <p:nvPr/>
        </p:nvSpPr>
        <p:spPr>
          <a:xfrm>
            <a:off x="7184880" y="1747800"/>
            <a:ext cx="1513080" cy="717480"/>
          </a:xfrm>
          <a:prstGeom prst="rect">
            <a:avLst/>
          </a:prstGeom>
          <a:noFill/>
          <a:ln w="1908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12"/>
          <p:cNvSpPr/>
          <p:nvPr/>
        </p:nvSpPr>
        <p:spPr>
          <a:xfrm>
            <a:off x="7541280" y="1862280"/>
            <a:ext cx="74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B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5" name="Straight Arrow Connector 4"/>
          <p:cNvCxnSpPr/>
          <p:nvPr/>
        </p:nvCxnSpPr>
        <p:spPr>
          <a:xfrm flipV="1">
            <a:off x="1655640" y="1975680"/>
            <a:ext cx="929520" cy="40860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56" name="Straight Arrow Connector 15"/>
          <p:cNvCxnSpPr/>
          <p:nvPr/>
        </p:nvCxnSpPr>
        <p:spPr>
          <a:xfrm>
            <a:off x="4269960" y="1810800"/>
            <a:ext cx="640440" cy="10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57" name="Straight Arrow Connector 19"/>
          <p:cNvCxnSpPr/>
          <p:nvPr/>
        </p:nvCxnSpPr>
        <p:spPr>
          <a:xfrm flipH="1">
            <a:off x="4269600" y="2061720"/>
            <a:ext cx="640440" cy="10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58" name="Straight Arrow Connector 20"/>
          <p:cNvCxnSpPr/>
          <p:nvPr/>
        </p:nvCxnSpPr>
        <p:spPr>
          <a:xfrm>
            <a:off x="4269960" y="2276280"/>
            <a:ext cx="640440" cy="10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59" name="Straight Arrow Connector 21"/>
          <p:cNvCxnSpPr/>
          <p:nvPr/>
        </p:nvCxnSpPr>
        <p:spPr>
          <a:xfrm flipH="1">
            <a:off x="4269600" y="2472840"/>
            <a:ext cx="640440" cy="10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60" name="Straight Arrow Connector 22"/>
          <p:cNvCxnSpPr/>
          <p:nvPr/>
        </p:nvCxnSpPr>
        <p:spPr>
          <a:xfrm>
            <a:off x="6500520" y="1766520"/>
            <a:ext cx="640440" cy="10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61" name="Straight Arrow Connector 23"/>
          <p:cNvCxnSpPr/>
          <p:nvPr/>
        </p:nvCxnSpPr>
        <p:spPr>
          <a:xfrm flipH="1">
            <a:off x="6500160" y="2017440"/>
            <a:ext cx="640440" cy="10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62" name="Straight Arrow Connector 24"/>
          <p:cNvCxnSpPr/>
          <p:nvPr/>
        </p:nvCxnSpPr>
        <p:spPr>
          <a:xfrm>
            <a:off x="6500520" y="2230200"/>
            <a:ext cx="640440" cy="10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63" name="Straight Arrow Connector 25"/>
          <p:cNvCxnSpPr/>
          <p:nvPr/>
        </p:nvCxnSpPr>
        <p:spPr>
          <a:xfrm flipH="1">
            <a:off x="6500160" y="2428560"/>
            <a:ext cx="640440" cy="10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4400" spc="-1" strike="noStrike">
                <a:solidFill>
                  <a:srgbClr val="ff0000"/>
                </a:solidFill>
                <a:latin typeface="Calibri"/>
              </a:rPr>
              <a:t>Not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The Solu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6840" y="1600200"/>
            <a:ext cx="3662280" cy="46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ok for same To/From pai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ok for same P-Asserted-ID from wrong s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ok for same media info coming ba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1" descr="1260443674_infinite_vortex.gif"/>
          <p:cNvPicPr/>
          <p:nvPr/>
        </p:nvPicPr>
        <p:blipFill>
          <a:blip r:embed="rId1"/>
          <a:stretch/>
        </p:blipFill>
        <p:spPr>
          <a:xfrm>
            <a:off x="4119480" y="1417680"/>
            <a:ext cx="5024520" cy="50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Solu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op resetting Max-Forwards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py and decrement the val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so support RFC 5393 for Max-Breadth as a Proxy wou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if you’re a Proxy-B2BUA, then implement the RFC 3261/5393 Via-header chec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this perfect?  NO!  It will still loop a bunch of times before Max-Forwards reaches 0, but at least it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wil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end eventua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e need to get rid of loops in STRA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Content Placeholder 3" descr="082_Crazy_Straw.png"/>
          <p:cNvPicPr/>
          <p:nvPr/>
        </p:nvPicPr>
        <p:blipFill>
          <a:blip r:embed="rId1"/>
          <a:srcRect l="0" t="4330" r="0" b="433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71" name="TextBox 4"/>
          <p:cNvSpPr/>
          <p:nvPr/>
        </p:nvSpPr>
        <p:spPr>
          <a:xfrm>
            <a:off x="4925880" y="6319800"/>
            <a:ext cx="362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urce: myapokalips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4T20:15:55Z</dcterms:created>
  <dc:creator>Hadriel Kaplan</dc:creator>
  <dc:description/>
  <dc:language>en-US</dc:language>
  <cp:lastModifiedBy>Hadriel Kaplan</cp:lastModifiedBy>
  <dcterms:modified xsi:type="dcterms:W3CDTF">2012-07-31T21:52:13Z</dcterms:modified>
  <cp:revision>24</cp:revision>
  <dc:subject/>
  <dc:title>STRAW WG Proposal</dc:title>
</cp:coreProperties>
</file>