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F5F-5F71-496F-8057-1B6FBF50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4E6-983E-4B41-9C52-A7E6F2B2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795-8B2D-4FF7-A46B-149A9A28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07E-D15C-49D4-A173-453E57C9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BDD4-07EB-426D-900F-83472818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D1E-0956-418F-9089-17171EF7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85F-407A-46EC-A395-E8BA37E3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FD7-45E8-4CE8-B192-C9A7E177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88D-68DE-4813-B341-46E9976B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BD8-55DC-4E20-9C9E-F5CD155C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934-D85B-460C-B41A-430DCC69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C14-1F30-4276-B835-FC2EC94B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5C77E-B9EB-4F2F-8E3A-FCD338CCF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26960"/>
            <a:ext cx="77724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op detection mechanism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SIP B2BUAs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kaplan-straw-b2bua-loop-detection-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89284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opy: Hadriel Ka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2126133021063509742_0.jpg"/>
          <p:cNvPicPr/>
          <p:nvPr/>
        </p:nvPicPr>
        <p:blipFill>
          <a:blip r:embed="rId1"/>
          <a:srcRect l="0" t="5795" r="0" b="11598"/>
          <a:stretch/>
        </p:blipFill>
        <p:spPr>
          <a:xfrm rot="16200000">
            <a:off x="403200" y="-403560"/>
            <a:ext cx="4064040" cy="4870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PG710.jpg"/>
          <p:cNvPicPr/>
          <p:nvPr/>
        </p:nvPicPr>
        <p:blipFill>
          <a:blip r:embed="rId2"/>
          <a:stretch/>
        </p:blipFill>
        <p:spPr>
          <a:xfrm>
            <a:off x="5113440" y="165240"/>
            <a:ext cx="382752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blem(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5110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P Requests are getting looped, without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articular, dialog-forming INV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the left side has a route to the right, while the right side has a route to the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BXs and App Servers replace Via, RecRoute, Max-Forw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473040" y="2543040"/>
            <a:ext cx="1513080" cy="71784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773280" y="2655720"/>
            <a:ext cx="8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703600" y="1747800"/>
            <a:ext cx="151272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3070800" y="186228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B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4954680" y="1747800"/>
            <a:ext cx="151272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5140800" y="1619280"/>
            <a:ext cx="110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7184880" y="1747800"/>
            <a:ext cx="151308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7541280" y="186228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B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4"/>
          <p:cNvCxnSpPr/>
          <p:nvPr/>
        </p:nvCxnSpPr>
        <p:spPr>
          <a:xfrm flipV="1">
            <a:off x="1655640" y="1975680"/>
            <a:ext cx="929520" cy="408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" name="Straight Arrow Connector 15"/>
          <p:cNvCxnSpPr/>
          <p:nvPr/>
        </p:nvCxnSpPr>
        <p:spPr>
          <a:xfrm>
            <a:off x="4269960" y="1810800"/>
            <a:ext cx="640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7" name="Straight Arrow Connector 19"/>
          <p:cNvCxnSpPr/>
          <p:nvPr/>
        </p:nvCxnSpPr>
        <p:spPr>
          <a:xfrm flipH="1">
            <a:off x="4269600" y="2061720"/>
            <a:ext cx="640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8" name="Straight Arrow Connector 20"/>
          <p:cNvCxnSpPr/>
          <p:nvPr/>
        </p:nvCxnSpPr>
        <p:spPr>
          <a:xfrm>
            <a:off x="4269960" y="2276280"/>
            <a:ext cx="640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9" name="Straight Arrow Connector 21"/>
          <p:cNvCxnSpPr/>
          <p:nvPr/>
        </p:nvCxnSpPr>
        <p:spPr>
          <a:xfrm flipH="1">
            <a:off x="4269600" y="2472840"/>
            <a:ext cx="640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0" name="Straight Arrow Connector 22"/>
          <p:cNvCxnSpPr/>
          <p:nvPr/>
        </p:nvCxnSpPr>
        <p:spPr>
          <a:xfrm>
            <a:off x="6500520" y="1766520"/>
            <a:ext cx="640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1" name="Straight Arrow Connector 23"/>
          <p:cNvCxnSpPr/>
          <p:nvPr/>
        </p:nvCxnSpPr>
        <p:spPr>
          <a:xfrm flipH="1">
            <a:off x="6500160" y="2017440"/>
            <a:ext cx="640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2" name="Straight Arrow Connector 24"/>
          <p:cNvCxnSpPr/>
          <p:nvPr/>
        </p:nvCxnSpPr>
        <p:spPr>
          <a:xfrm>
            <a:off x="6500520" y="2230200"/>
            <a:ext cx="640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3" name="Straight Arrow Connector 25"/>
          <p:cNvCxnSpPr/>
          <p:nvPr/>
        </p:nvCxnSpPr>
        <p:spPr>
          <a:xfrm flipH="1">
            <a:off x="6500160" y="2428560"/>
            <a:ext cx="640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36622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same To/From 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same P-Asserted-ID from wrong s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same media info coming 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" descr="1260443674_infinite_vortex.gif"/>
          <p:cNvPicPr/>
          <p:nvPr/>
        </p:nvPicPr>
        <p:blipFill>
          <a:blip r:embed="rId1"/>
          <a:stretch/>
        </p:blipFill>
        <p:spPr>
          <a:xfrm>
            <a:off x="4119480" y="1417680"/>
            <a:ext cx="50245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 resetting Max-Forwar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y and decrement th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support RFC 5393 for Max-Breadth as a Proxy w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f you’re a Proxy-B2BUA, then implement the RFC 3261/5393 Via-header che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is perfect?  NO!  It will still loop a bunch of times before Max-Forwards reaches 0, but at least i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nd event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need to get rid of loops in STR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082_Crazy_Straw.png"/>
          <p:cNvPicPr/>
          <p:nvPr/>
        </p:nvPicPr>
        <p:blipFill>
          <a:blip r:embed="rId1"/>
          <a:srcRect l="0" t="4330" r="0" b="433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4925880" y="6319800"/>
            <a:ext cx="36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myapokalip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15:55Z</dcterms:created>
  <dc:creator>Hadriel Kaplan</dc:creator>
  <dc:description/>
  <dc:language>en-US</dc:language>
  <cp:lastModifiedBy>Hadriel Kaplan</cp:lastModifiedBy>
  <dcterms:modified xsi:type="dcterms:W3CDTF">2012-07-31T21:52:13Z</dcterms:modified>
  <cp:revision>24</cp:revision>
  <dc:subject/>
  <dc:title>STRAW WG Proposal</dc:title>
</cp:coreProperties>
</file>