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CEE-0F98-4A0F-B4D5-57EA4813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8F0-3CB8-4178-B032-8935987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626-1796-4DEC-AAE4-4752CFFF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44E-389B-40D2-A5B4-28849FA0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851-1EA5-4F8E-A78B-739BC9FE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D94-2DA4-434E-9EF9-D6754A00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7CA-7EC8-4EC0-82B4-4B5D0FB6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4B8-0AAB-4BF7-A93D-4B551446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81C-82F9-464A-86AD-0557643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75F-E3A0-41E2-AC94-748578C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127-39BB-4E0D-9811-E9EC19E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633-CFC5-4336-87B5-213548E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2330A-E5A8-4CB7-A3E6-9831C391E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traw-man proposal for 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dia-based tracerou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 for SIP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aplan-straw-sip-traceroute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raceroute.JPG"/>
          <p:cNvPicPr/>
          <p:nvPr/>
        </p:nvPicPr>
        <p:blipFill>
          <a:blip r:embed="rId1"/>
          <a:srcRect l="9737" t="11019" r="0" b="11967"/>
          <a:stretch/>
        </p:blipFill>
        <p:spPr>
          <a:xfrm>
            <a:off x="1150920" y="210960"/>
            <a:ext cx="6621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24648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ubleshooting failed or poor media calls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call a 911/112 test number and media is bad, what do you do nex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IP, people start running trace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ould be nice to have the same for SIP media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42920" y="218448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42440" y="229716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846440" y="139536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21436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9716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284360" y="126540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32772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68484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1"/>
          <p:cNvCxnSpPr/>
          <p:nvPr/>
        </p:nvCxnSpPr>
        <p:spPr>
          <a:xfrm flipV="1">
            <a:off x="725400" y="1785240"/>
            <a:ext cx="930960" cy="246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" name="Straight Arrow Connector 12"/>
          <p:cNvCxnSpPr/>
          <p:nvPr/>
        </p:nvCxnSpPr>
        <p:spPr>
          <a:xfrm>
            <a:off x="3412800" y="174096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" name="Straight Arrow Connector 13"/>
          <p:cNvCxnSpPr/>
          <p:nvPr/>
        </p:nvCxnSpPr>
        <p:spPr>
          <a:xfrm>
            <a:off x="5643360" y="169524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TextBox 17"/>
          <p:cNvSpPr/>
          <p:nvPr/>
        </p:nvSpPr>
        <p:spPr>
          <a:xfrm>
            <a:off x="7230960" y="343080"/>
            <a:ext cx="17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 we find out this is the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7631280" y="2219400"/>
            <a:ext cx="1512720" cy="71892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995240" y="233352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21"/>
          <p:cNvCxnSpPr/>
          <p:nvPr/>
        </p:nvCxnSpPr>
        <p:spPr>
          <a:xfrm>
            <a:off x="7961040" y="1741320"/>
            <a:ext cx="726120" cy="372240"/>
          </a:xfrm>
          <a:prstGeom prst="straightConnector1">
            <a:avLst/>
          </a:prstGeom>
          <a:ln w="38160">
            <a:solidFill>
              <a:srgbClr val="ff2e22"/>
            </a:solidFill>
            <a:miter/>
            <a:tailEnd len="med" type="arrow" w="med"/>
          </a:ln>
        </p:spPr>
      </p:cxnSp>
      <p:cxnSp>
        <p:nvCxnSpPr>
          <p:cNvPr id="61" name="Curved Connector 22"/>
          <p:cNvCxnSpPr/>
          <p:nvPr/>
        </p:nvCxnSpPr>
        <p:spPr>
          <a:xfrm rot="5400000">
            <a:off x="8217000" y="1316520"/>
            <a:ext cx="678600" cy="26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’t we use Max-Forw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da sorta but not re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-1: Max-Forwards gets reset by B2BU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address that in another straw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-2: Even if Max-Forwards works, the reached hop will respond with 483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what we want – we want it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094200"/>
            <a:ext cx="822960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 header (surpris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bua-hops: 70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Max-Forwards, this header gets decremented by middlebo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only media-plane B2B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t reaches 0, the B2BUA answer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responds with 483 if it can’t answer it, with Contact-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2920" y="218448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42440" y="229716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846440" y="139536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21436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409716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284360" y="126540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632772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68484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11"/>
          <p:cNvCxnSpPr/>
          <p:nvPr/>
        </p:nvCxnSpPr>
        <p:spPr>
          <a:xfrm flipV="1">
            <a:off x="725400" y="1785240"/>
            <a:ext cx="930960" cy="246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traight Arrow Connector 12"/>
          <p:cNvCxnSpPr/>
          <p:nvPr/>
        </p:nvCxnSpPr>
        <p:spPr>
          <a:xfrm>
            <a:off x="3412800" y="174096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Straight Arrow Connector 16"/>
          <p:cNvCxnSpPr/>
          <p:nvPr/>
        </p:nvCxnSpPr>
        <p:spPr>
          <a:xfrm>
            <a:off x="5643360" y="169524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7" name="TextBox 22"/>
          <p:cNvSpPr/>
          <p:nvPr/>
        </p:nvSpPr>
        <p:spPr>
          <a:xfrm>
            <a:off x="223920" y="1395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-hops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2833560" y="211932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-hops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5052960" y="211932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-hops: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6207120" y="179856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7631280" y="2219400"/>
            <a:ext cx="1512720" cy="71892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7995240" y="233352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onut 28"/>
          <p:cNvSpPr/>
          <p:nvPr/>
        </p:nvSpPr>
        <p:spPr>
          <a:xfrm>
            <a:off x="6327720" y="1558800"/>
            <a:ext cx="314280" cy="290520"/>
          </a:xfrm>
          <a:custGeom>
            <a:avLst/>
            <a:gdLst/>
            <a:ahLst/>
            <a:rect l="l" t="t" r="r" b="b"/>
            <a:pathLst>
              <a:path w="314448" h="290242">
                <a:moveTo>
                  <a:pt x="0" y="145121"/>
                </a:moveTo>
                <a:cubicBezTo>
                  <a:pt x="0" y="64973"/>
                  <a:pt x="70392" y="0"/>
                  <a:pt x="157224" y="0"/>
                </a:cubicBezTo>
                <a:cubicBezTo>
                  <a:pt x="244056" y="0"/>
                  <a:pt x="314448" y="64973"/>
                  <a:pt x="314448" y="145121"/>
                </a:cubicBezTo>
                <a:cubicBezTo>
                  <a:pt x="314448" y="225269"/>
                  <a:pt x="244056" y="290242"/>
                  <a:pt x="157224" y="290242"/>
                </a:cubicBezTo>
                <a:cubicBezTo>
                  <a:pt x="70392" y="290242"/>
                  <a:pt x="0" y="225269"/>
                  <a:pt x="0" y="145121"/>
                </a:cubicBezTo>
                <a:close/>
                <a:moveTo>
                  <a:pt x="72561" y="145121"/>
                </a:moveTo>
                <a:cubicBezTo>
                  <a:pt x="72561" y="185195"/>
                  <a:pt x="110466" y="217682"/>
                  <a:pt x="157225" y="217682"/>
                </a:cubicBezTo>
                <a:cubicBezTo>
                  <a:pt x="203984" y="217682"/>
                  <a:pt x="241889" y="185195"/>
                  <a:pt x="241889" y="145121"/>
                </a:cubicBezTo>
                <a:cubicBezTo>
                  <a:pt x="241889" y="105047"/>
                  <a:pt x="203984" y="72560"/>
                  <a:pt x="157225" y="72560"/>
                </a:cubicBezTo>
                <a:cubicBezTo>
                  <a:pt x="110466" y="72560"/>
                  <a:pt x="72561" y="105047"/>
                  <a:pt x="72561" y="145121"/>
                </a:cubicBez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open issues – this is just a straw-man proposal afte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 big question right now: is anyone interested in this type of 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we use a new header, or something in SD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22:04:14Z</dcterms:modified>
  <cp:revision>37</cp:revision>
  <dc:subject/>
  <dc:title>STRAW WG Proposal</dc:title>
</cp:coreProperties>
</file>