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78A3-0383-4CCB-AD99-9B410480F2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3CB7-82F8-43DD-9D62-F46F5CDE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AAC8-C8CE-4C49-97AE-56F721FD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7100-35CA-4A75-8CB7-6674C7051C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86073-021E-4A21-A46D-1F232B28E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FB78F-D1F6-4DC0-9D19-5EABAA7D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4C740-080F-4BEA-B379-1B3E4109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F4887-2401-4CEB-A60E-5E62D74A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CE27E-EA85-41AC-8E22-D499AD12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6AFDF-2DEB-48DE-A874-992F28A3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1AE16-EEB9-4B09-97A6-52B6770D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A29E-B0F8-414E-9583-67AD6DEA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61EF3-6B79-466C-B941-D6060ADE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0ABA6-0809-4006-ACA6-EA7B9F9E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59796-4629-41E1-834E-68A33CDD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72F72-7B79-4FD9-88CF-7A7F5DE7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5120B-638F-4A78-B312-B5E2D4A01F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CA9D-0BBB-47EB-8C96-25F95E6A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98F3-EA31-4425-89F9-62643A60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CED1-98D9-4C3A-83FC-43738CFC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A4C7-104D-44FE-9074-CE005CDF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08C7-C1A6-40C3-97A8-834B53AF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1EDD-EAF9-48F7-8045-97B4DA47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DACC-1036-4FAF-AFBB-951B82B5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6" descr="top-swoop-bw"/>
          <p:cNvPicPr/>
          <p:nvPr/>
        </p:nvPicPr>
        <p:blipFill>
          <a:blip r:embed="rId2"/>
          <a:stretch/>
        </p:blipFill>
        <p:spPr>
          <a:xfrm>
            <a:off x="-647640" y="333360"/>
            <a:ext cx="11495160" cy="798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5" descr="bot-swoop-bw"/>
          <p:cNvPicPr/>
          <p:nvPr/>
        </p:nvPicPr>
        <p:blipFill>
          <a:blip r:embed="rId3"/>
          <a:stretch/>
        </p:blipFill>
        <p:spPr>
          <a:xfrm>
            <a:off x="-1587600" y="5775480"/>
            <a:ext cx="1063152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708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7399-47AD-423A-969F-282969086B57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DCCF782A-787A-496B-8D19-A5FDC962F78F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8636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2609-2EF7-4D99-80A6-107A2BF36F88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Line 14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Line 15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Rectangle 54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6" descr="top-swoop-bw"/>
          <p:cNvPicPr/>
          <p:nvPr/>
        </p:nvPicPr>
        <p:blipFill>
          <a:blip r:embed="rId2"/>
          <a:stretch/>
        </p:blipFill>
        <p:spPr>
          <a:xfrm>
            <a:off x="-647640" y="754200"/>
            <a:ext cx="1149516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" name="Picture 3" descr="bot-swoop"/>
          <p:cNvPicPr/>
          <p:nvPr/>
        </p:nvPicPr>
        <p:blipFill>
          <a:blip r:embed="rId3"/>
          <a:stretch/>
        </p:blipFill>
        <p:spPr>
          <a:xfrm>
            <a:off x="-1611360" y="5711760"/>
            <a:ext cx="108871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554040" y="232416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Line 18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4" name="Picture 55" descr="jt-viterbi"/>
          <p:cNvPicPr/>
          <p:nvPr/>
        </p:nvPicPr>
        <p:blipFill>
          <a:blip r:embed="rId4"/>
          <a:stretch/>
        </p:blipFill>
        <p:spPr>
          <a:xfrm>
            <a:off x="7307280" y="5365800"/>
            <a:ext cx="1519200" cy="90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8" descr="isi_logo"/>
          <p:cNvPicPr/>
          <p:nvPr/>
        </p:nvPicPr>
        <p:blipFill>
          <a:blip r:embed="rId5"/>
          <a:stretch/>
        </p:blipFill>
        <p:spPr>
          <a:xfrm>
            <a:off x="241200" y="1246320"/>
            <a:ext cx="968400" cy="614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8"/>
          <p:cNvGrpSpPr/>
          <p:nvPr/>
        </p:nvGrpSpPr>
        <p:grpSpPr>
          <a:xfrm>
            <a:off x="0" y="0"/>
            <a:ext cx="9144000" cy="625320"/>
            <a:chOff x="0" y="0"/>
            <a:chExt cx="9144000" cy="625320"/>
          </a:xfrm>
        </p:grpSpPr>
        <p:sp>
          <p:nvSpPr>
            <p:cNvPr id="57" name="Rectangle 56"/>
            <p:cNvSpPr/>
            <p:nvPr/>
          </p:nvSpPr>
          <p:spPr>
            <a:xfrm>
              <a:off x="0" y="0"/>
              <a:ext cx="9144000" cy="625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8" name="Picture 57" descr="mono_gold_trans"/>
            <p:cNvPicPr/>
            <p:nvPr/>
          </p:nvPicPr>
          <p:blipFill>
            <a:blip r:embed="rId6"/>
            <a:stretch/>
          </p:blipFill>
          <p:spPr>
            <a:xfrm>
              <a:off x="8242200" y="96840"/>
              <a:ext cx="67644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7" descr="usc text bar_600dpi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00816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66200" y="6356160"/>
            <a:ext cx="1930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62D5-0965-42AE-AC4C-DEC3E4E60490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05F26136-9772-4D5E-8037-B885BA3A8BAA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6859440" y="62845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0B20-4D39-4E93-84F3-5BE1F16BD9AC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66560" y="6356520"/>
            <a:ext cx="193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B950-9930-4845-B6A5-AC042AB0F178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7DDCAB92-4ABA-414A-ACEF-360546E2F71E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9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859440" y="6284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CB62-148B-490B-BE2E-D0F31C8EA626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hared Use of TCP Experimental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79440" y="3117600"/>
            <a:ext cx="7182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draft-ietf-tcpm-experimental-options-01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ETF 84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Joe Touch, USC/ISI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urrent experimental options overloaded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ultiple concurrent uses cannot be distinguished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dd nonce to EO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used to differentiate concurrent us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roposed Standard, as per WG direction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78AC-C131-4EBD-AA6E-98DA0A68B2CE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9D4D811A-7785-47FD-AAB4-B98C0131DB82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9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707F-027F-434D-B99E-5A848A0042FB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19120" y="4266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hanges 00-&gt;01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ll based on WG recommendations: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Wording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Use “magic number” rather than “nonce”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Use “codepoints” throughout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Length SHOULD be 32, but MAY be longer or shorter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Location MUST be in SYN, SHOULD be used anywhere the option is present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Other additions: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Impact of false positives discussed, with mitigation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igration plan discussion (still notes that this is up to the option designer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9862-3913-489A-97B7-25B1F0376989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B0FA7CF1-688C-4607-8B7E-CBDAB1783BD3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9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0F68-D5D4-4CCF-96AE-CB2E26B6DAC8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urrent Statu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 pending issu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ne question off-list regarding use of existing experimental codepoints vs. new one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Referred to the WG discussion on this (no benefit to new codepoints, just encourages misuse of existing codepoints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waiting WGLC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D986-AF46-47FA-B790-BBBDA0B9957E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673B7CF-1375-4B77-A8FA-6A637FFB0590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9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E529-E354-45CE-A3A5-1B0EB35300B4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66560" y="6356520"/>
            <a:ext cx="193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EB26-9400-4C85-B4AD-7FA4AE5818E3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30484CAC-647F-41B9-A4E6-FE77ECCB8176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9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859440" y="6284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7042-E25E-4474-A328-B4FB08373E31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A TCP Authentication Option NAT Extension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79440" y="3117600"/>
            <a:ext cx="7182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draft-touch-tcp-ao-nat-03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ETF 82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Joe Touch, USC/ISI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Experimental extension to TCP-AO for NAT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Change to packet processing to allow use of TCP-AO in NAT/NAPT environment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lies only on endpoint agreement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ubmitted for individual publication 6/12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Insufficient WG interest, so already proceeded as individual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71DE-2508-47F4-8E87-76ABEAA48CBC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B6FAD85A-6A17-44FA-8A1C-939BBAC8CBE1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9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F56F-AAA3-4B75-9D13-D5B9401037BE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17:19Z</dcterms:created>
  <dc:creator>Joseph D. Touch</dc:creator>
  <dc:description/>
  <dc:language>en-US</dc:language>
  <cp:lastModifiedBy>Joe Touch</cp:lastModifiedBy>
  <cp:lastPrinted>1999-12-13T07:41:19Z</cp:lastPrinted>
  <dcterms:modified xsi:type="dcterms:W3CDTF">2012-07-28T00:11:57Z</dcterms:modified>
  <cp:revision>232</cp:revision>
  <dc:subject/>
  <dc:title>draft-touch-trill-prob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Author">
    <vt:lpwstr>Joe Touch</vt:lpwstr>
  </property>
  <property fmtid="{D5CDD505-2E9C-101B-9397-08002B2CF9AE}" pid="3" name="Template Date">
    <vt:lpwstr>Oct. 16, 2002</vt:lpwstr>
  </property>
</Properties>
</file>