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2AC99-2DB4-4EE7-B859-7E02266C65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81788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6840" y="4126320"/>
            <a:ext cx="81788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A65A0-82E5-4A46-AFB9-C3CD52554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6840" y="412632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47600" y="412632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25D26-0384-42CE-AC0E-83B4C4B3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22360" y="181260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87880" y="181260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6840" y="412632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22360" y="412632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87880" y="412632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E1E7C-C28F-4EC1-9E5E-47CE6C0CB4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7FA5BC-87D0-4314-816A-7720549498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DA69AB-4CD0-4E9D-AF04-5D7E56321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BEFE90-177A-43F8-A1EE-C8A1BDE7F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4EC667-6D2B-4767-AA24-A643458AC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F61174-B095-4469-8453-4DA48BFB5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19120" y="228240"/>
            <a:ext cx="6896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EAFAEF-8949-4652-A828-2853DF84A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412632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908468-2EA4-4517-99B4-16C8E4445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58114-DD7D-4581-85B1-869C21755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47600" y="412632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A6BA86-1E0A-4321-B8EE-73751CBD0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6840" y="4126320"/>
            <a:ext cx="81788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50D405-D22D-4C9B-99CA-971DA15D1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81788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6840" y="4126320"/>
            <a:ext cx="81788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84D082-8D9F-450E-B59C-BA1F89835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6840" y="412632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47600" y="412632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5DFEDD-2E06-4D09-A23B-E47AE310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22360" y="181260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87880" y="181260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6840" y="412632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22360" y="412632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87880" y="412632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E6DE79-0745-4F79-9B1A-F28DAE23B0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93A6E-4001-436D-B87E-E5D2AB46B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CC54A-8DFF-4CB1-808A-94FD62159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B38F0-F8AF-43EA-99AA-4AB318EAD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19120" y="228240"/>
            <a:ext cx="6896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0B006-B4D3-4B63-A0E7-B64E29BB6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412632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D4610-B0C1-40AC-A5B0-45FB8565C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47600" y="412632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DDBEA-8C71-4BF9-A2DB-9BF0AC779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26320"/>
            <a:ext cx="81788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706A4-75BC-4E9F-A0E7-1657A5C8F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6" descr="top-swoop-bw"/>
          <p:cNvPicPr/>
          <p:nvPr/>
        </p:nvPicPr>
        <p:blipFill>
          <a:blip r:embed="rId2"/>
          <a:stretch/>
        </p:blipFill>
        <p:spPr>
          <a:xfrm>
            <a:off x="-647640" y="333360"/>
            <a:ext cx="11495160" cy="7984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45" descr="bot-swoop-bw"/>
          <p:cNvPicPr/>
          <p:nvPr/>
        </p:nvPicPr>
        <p:blipFill>
          <a:blip r:embed="rId3"/>
          <a:stretch/>
        </p:blipFill>
        <p:spPr>
          <a:xfrm>
            <a:off x="-1587600" y="5775480"/>
            <a:ext cx="10631520" cy="739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8708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E0613-470D-48DF-AE84-19B9147C8B03}" type="datetime">
              <a:rPr b="0" lang="en-US" sz="1000" spc="-1" strike="noStrike">
                <a:solidFill>
                  <a:srgbClr val="990000"/>
                </a:solidFill>
                <a:latin typeface="Arial"/>
              </a:rPr>
              <a:t>07/30/26</a:t>
            </a:fld>
            <a:r>
              <a:rPr b="0" lang="en-US" sz="1000" spc="-1" strike="noStrike">
                <a:solidFill>
                  <a:srgbClr val="990000"/>
                </a:solidFill>
                <a:latin typeface="Arial"/>
              </a:rPr>
              <a:t> </a:t>
            </a:r>
            <a:fld id="{F9739D3E-192B-436E-AEA8-1062AF4E3176}" type="datetime10">
              <a:rPr b="0" lang="en-US" sz="1000" spc="-1" strike="noStrike">
                <a:solidFill>
                  <a:srgbClr val="990000"/>
                </a:solidFill>
                <a:latin typeface="Arial"/>
              </a:rPr>
              <a:t>21:34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78636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2976A-5877-4013-9048-F22941B34D5F}" type="slidenum">
              <a:rPr b="0" lang="en-US" sz="1000" spc="-1" strike="noStrike">
                <a:solidFill>
                  <a:srgbClr val="99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0"/>
          <p:cNvSpPr/>
          <p:nvPr/>
        </p:nvSpPr>
        <p:spPr>
          <a:xfrm>
            <a:off x="2173320" y="6356520"/>
            <a:ext cx="47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Line 11"/>
          <p:cNvSpPr/>
          <p:nvPr/>
        </p:nvSpPr>
        <p:spPr>
          <a:xfrm flipH="1">
            <a:off x="554040" y="1539720"/>
            <a:ext cx="7758000" cy="0"/>
          </a:xfrm>
          <a:prstGeom prst="line">
            <a:avLst/>
          </a:prstGeom>
          <a:ln w="507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Line 12"/>
          <p:cNvSpPr/>
          <p:nvPr/>
        </p:nvSpPr>
        <p:spPr>
          <a:xfrm flipH="1">
            <a:off x="-22320" y="6462720"/>
            <a:ext cx="9166320" cy="0"/>
          </a:xfrm>
          <a:prstGeom prst="line">
            <a:avLst/>
          </a:prstGeom>
          <a:ln w="507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Line 14"/>
          <p:cNvSpPr/>
          <p:nvPr/>
        </p:nvSpPr>
        <p:spPr>
          <a:xfrm flipH="1">
            <a:off x="554040" y="1539720"/>
            <a:ext cx="7758000" cy="0"/>
          </a:xfrm>
          <a:prstGeom prst="line">
            <a:avLst/>
          </a:prstGeom>
          <a:ln w="507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Line 15"/>
          <p:cNvSpPr/>
          <p:nvPr/>
        </p:nvSpPr>
        <p:spPr>
          <a:xfrm flipH="1">
            <a:off x="-22320" y="6462720"/>
            <a:ext cx="9166320" cy="0"/>
          </a:xfrm>
          <a:prstGeom prst="line">
            <a:avLst/>
          </a:prstGeom>
          <a:ln w="507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Rectangle 54"/>
          <p:cNvSpPr/>
          <p:nvPr/>
        </p:nvSpPr>
        <p:spPr>
          <a:xfrm>
            <a:off x="0" y="0"/>
            <a:ext cx="9144000" cy="3207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6" descr="top-swoop-bw"/>
          <p:cNvPicPr/>
          <p:nvPr/>
        </p:nvPicPr>
        <p:blipFill>
          <a:blip r:embed="rId2"/>
          <a:stretch/>
        </p:blipFill>
        <p:spPr>
          <a:xfrm>
            <a:off x="-647640" y="754200"/>
            <a:ext cx="11495160" cy="7984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7"/>
          <p:cNvSpPr/>
          <p:nvPr/>
        </p:nvSpPr>
        <p:spPr>
          <a:xfrm>
            <a:off x="2173320" y="6356520"/>
            <a:ext cx="47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50" name="Picture 3" descr="bot-swoop"/>
          <p:cNvPicPr/>
          <p:nvPr/>
        </p:nvPicPr>
        <p:blipFill>
          <a:blip r:embed="rId3"/>
          <a:stretch/>
        </p:blipFill>
        <p:spPr>
          <a:xfrm>
            <a:off x="-1611360" y="5711760"/>
            <a:ext cx="10887120" cy="844560"/>
          </a:xfrm>
          <a:prstGeom prst="rect">
            <a:avLst/>
          </a:prstGeom>
          <a:ln w="0">
            <a:noFill/>
          </a:ln>
        </p:spPr>
      </p:pic>
      <p:sp>
        <p:nvSpPr>
          <p:cNvPr id="51" name="Line 13"/>
          <p:cNvSpPr/>
          <p:nvPr/>
        </p:nvSpPr>
        <p:spPr>
          <a:xfrm flipH="1">
            <a:off x="0" y="6462720"/>
            <a:ext cx="9166320" cy="0"/>
          </a:xfrm>
          <a:prstGeom prst="line">
            <a:avLst/>
          </a:prstGeom>
          <a:ln w="507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Line 14"/>
          <p:cNvSpPr/>
          <p:nvPr/>
        </p:nvSpPr>
        <p:spPr>
          <a:xfrm flipH="1">
            <a:off x="554040" y="2324160"/>
            <a:ext cx="7758000" cy="0"/>
          </a:xfrm>
          <a:prstGeom prst="line">
            <a:avLst/>
          </a:prstGeom>
          <a:ln w="507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Line 18"/>
          <p:cNvSpPr/>
          <p:nvPr/>
        </p:nvSpPr>
        <p:spPr>
          <a:xfrm flipH="1">
            <a:off x="0" y="6462720"/>
            <a:ext cx="9166320" cy="0"/>
          </a:xfrm>
          <a:prstGeom prst="line">
            <a:avLst/>
          </a:prstGeom>
          <a:ln w="507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54" name="Picture 55" descr="jt-viterbi"/>
          <p:cNvPicPr/>
          <p:nvPr/>
        </p:nvPicPr>
        <p:blipFill>
          <a:blip r:embed="rId4"/>
          <a:stretch/>
        </p:blipFill>
        <p:spPr>
          <a:xfrm>
            <a:off x="7307280" y="5365800"/>
            <a:ext cx="1519200" cy="906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8" descr="isi_logo"/>
          <p:cNvPicPr/>
          <p:nvPr/>
        </p:nvPicPr>
        <p:blipFill>
          <a:blip r:embed="rId5"/>
          <a:stretch/>
        </p:blipFill>
        <p:spPr>
          <a:xfrm>
            <a:off x="241200" y="1246320"/>
            <a:ext cx="968400" cy="61416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68"/>
          <p:cNvGrpSpPr/>
          <p:nvPr/>
        </p:nvGrpSpPr>
        <p:grpSpPr>
          <a:xfrm>
            <a:off x="0" y="0"/>
            <a:ext cx="9144000" cy="625320"/>
            <a:chOff x="0" y="0"/>
            <a:chExt cx="9144000" cy="625320"/>
          </a:xfrm>
        </p:grpSpPr>
        <p:sp>
          <p:nvSpPr>
            <p:cNvPr id="57" name="Rectangle 56"/>
            <p:cNvSpPr/>
            <p:nvPr/>
          </p:nvSpPr>
          <p:spPr>
            <a:xfrm>
              <a:off x="0" y="0"/>
              <a:ext cx="9144000" cy="6253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pic>
          <p:nvPicPr>
            <p:cNvPr id="58" name="Picture 57" descr="mono_gold_trans"/>
            <p:cNvPicPr/>
            <p:nvPr/>
          </p:nvPicPr>
          <p:blipFill>
            <a:blip r:embed="rId6"/>
            <a:stretch/>
          </p:blipFill>
          <p:spPr>
            <a:xfrm>
              <a:off x="8242200" y="96840"/>
              <a:ext cx="676440" cy="42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67" descr="usc text bar_600dpi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3008160" cy="31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3"/>
          </p:nvPr>
        </p:nvSpPr>
        <p:spPr>
          <a:xfrm>
            <a:off x="466200" y="6356160"/>
            <a:ext cx="1930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42E72-7CC2-4D32-B557-EBD2B190D99E}" type="datetime">
              <a:rPr b="0" lang="en-US" sz="1000" spc="-1" strike="noStrike">
                <a:solidFill>
                  <a:srgbClr val="990000"/>
                </a:solidFill>
                <a:latin typeface="Arial"/>
              </a:rPr>
              <a:t>07/30/26</a:t>
            </a:fld>
            <a:r>
              <a:rPr b="0" lang="en-US" sz="1000" spc="-1" strike="noStrike">
                <a:solidFill>
                  <a:srgbClr val="990000"/>
                </a:solidFill>
                <a:latin typeface="Arial"/>
              </a:rPr>
              <a:t> </a:t>
            </a:r>
            <a:fld id="{384FCB44-7659-4A4D-BAF0-6AA67C64719A}" type="datetime10">
              <a:rPr b="0" lang="en-US" sz="1000" spc="-1" strike="noStrike">
                <a:solidFill>
                  <a:srgbClr val="990000"/>
                </a:solidFill>
                <a:latin typeface="Arial"/>
              </a:rPr>
              <a:t>21:34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6859440" y="628452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BB741-C34E-45A7-853D-F4E65BFAE196}" type="slidenum">
              <a:rPr b="0" lang="en-US" sz="1000" spc="-1" strike="noStrike">
                <a:solidFill>
                  <a:srgbClr val="99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466560" y="6356520"/>
            <a:ext cx="1930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FA4CD-1427-45C5-8BB6-3E91E520430E}" type="datetime">
              <a:rPr b="0" lang="en-US" sz="1000" spc="-1" strike="noStrike">
                <a:solidFill>
                  <a:srgbClr val="990000"/>
                </a:solidFill>
                <a:latin typeface="Arial"/>
              </a:rPr>
              <a:t>07/30/26</a:t>
            </a:fld>
            <a:r>
              <a:rPr b="0" lang="en-US" sz="1000" spc="-1" strike="noStrike">
                <a:solidFill>
                  <a:srgbClr val="990000"/>
                </a:solidFill>
                <a:latin typeface="Arial"/>
              </a:rPr>
              <a:t> </a:t>
            </a:r>
            <a:fld id="{0E3A7B81-E80E-4358-A0B9-04004CD4C935}" type="datetime10">
              <a:rPr b="0" lang="en-US" sz="1000" spc="-1" strike="noStrike">
                <a:solidFill>
                  <a:srgbClr val="990000"/>
                </a:solidFill>
                <a:latin typeface="Arial"/>
              </a:rPr>
              <a:t>21:34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6859440" y="628488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8D7AD-FA16-4357-8F38-039A6E7C45A5}" type="slidenum">
              <a:rPr b="0" lang="en-US" sz="1000" spc="-1" strike="noStrike">
                <a:solidFill>
                  <a:srgbClr val="99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09760" y="1193760"/>
            <a:ext cx="7540560" cy="76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Black"/>
              </a:rPr>
              <a:t>Shared Use of TCP Experimental Options</a:t>
            </a: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279440" y="3117600"/>
            <a:ext cx="718200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 Black"/>
              </a:rPr>
              <a:t>draft-ietf-tcpm-experimental-options-01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 Black"/>
              </a:rPr>
              <a:t>IETF 84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 Black"/>
              </a:rPr>
              <a:t>Joe Touch, USC/ISI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Black"/>
              </a:rPr>
              <a:t>Summary</a:t>
            </a: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Current experimental options overloaded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Multiple concurrent uses cannot be distinguished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Add nonce to EO format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Nonce used to differentiate concurrent uses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Goa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Proposed Standard, as per WG direction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06" name="Date Placeholder 3"/>
          <p:cNvSpPr/>
          <p:nvPr/>
        </p:nvSpPr>
        <p:spPr>
          <a:xfrm>
            <a:off x="48744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7A02C-5443-410F-808D-BD7BE3152D3F}" type="datetime">
              <a:rPr b="0" lang="en-US" sz="1000" spc="-1" strike="noStrike">
                <a:solidFill>
                  <a:srgbClr val="990000"/>
                </a:solidFill>
                <a:latin typeface="Arial"/>
              </a:rPr>
              <a:t>07/30/26</a:t>
            </a:fld>
            <a:r>
              <a:rPr b="0" lang="en-US" sz="1000" spc="-1" strike="noStrike">
                <a:solidFill>
                  <a:srgbClr val="990000"/>
                </a:solidFill>
                <a:latin typeface="Arial"/>
              </a:rPr>
              <a:t> </a:t>
            </a:r>
            <a:fld id="{EA46C762-2B7E-4B6B-9A77-55B097D7546E}" type="datetime10">
              <a:rPr b="0" lang="en-US" sz="1000" spc="-1" strike="noStrike">
                <a:solidFill>
                  <a:srgbClr val="990000"/>
                </a:solidFill>
                <a:latin typeface="Arial"/>
              </a:rPr>
              <a:t>21:34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78672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9387-6771-4271-9B88-97BD00D48D05}" type="slidenum">
              <a:rPr b="0" lang="en-US" sz="1000" spc="-1" strike="noStrike">
                <a:solidFill>
                  <a:srgbClr val="99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19120" y="42660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Black"/>
              </a:rPr>
              <a:t>Changes 00-&gt;01</a:t>
            </a: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All based on WG recommendations: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Wording</a:t>
            </a:r>
            <a:endParaRPr b="0" lang="en-US" sz="2400" spc="-1" strike="noStrike">
              <a:solidFill>
                <a:srgbClr val="99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Use “magic number” rather than “nonce”</a:t>
            </a:r>
            <a:endParaRPr b="0" lang="en-US" sz="2000" spc="-1" strike="noStrike">
              <a:solidFill>
                <a:srgbClr val="99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Use “codepoints” throughout</a:t>
            </a:r>
            <a:endParaRPr b="0" lang="en-US" sz="2000" spc="-1" strike="noStrike">
              <a:solidFill>
                <a:srgbClr val="99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Length SHOULD be 32, but MAY be longer or shorter</a:t>
            </a:r>
            <a:endParaRPr b="0" lang="en-US" sz="2400" spc="-1" strike="noStrike">
              <a:solidFill>
                <a:srgbClr val="99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Location MUST be in SYN, SHOULD be used anywhere the option is present</a:t>
            </a:r>
            <a:endParaRPr b="0" lang="en-US" sz="2400" spc="-1" strike="noStrike">
              <a:solidFill>
                <a:srgbClr val="99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Other additions: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Impact of false positives discussed, with mitigation</a:t>
            </a:r>
            <a:endParaRPr b="0" lang="en-US" sz="2400" spc="-1" strike="noStrike">
              <a:solidFill>
                <a:srgbClr val="99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Migration plan discussion (still notes that this is up to the option designer)</a:t>
            </a:r>
            <a:endParaRPr b="0" lang="en-US" sz="24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10" name="Date Placeholder 3"/>
          <p:cNvSpPr/>
          <p:nvPr/>
        </p:nvSpPr>
        <p:spPr>
          <a:xfrm>
            <a:off x="48744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447B4-2337-4D92-B014-855ACD261536}" type="datetime">
              <a:rPr b="0" lang="en-US" sz="1000" spc="-1" strike="noStrike">
                <a:solidFill>
                  <a:srgbClr val="990000"/>
                </a:solidFill>
                <a:latin typeface="Arial"/>
              </a:rPr>
              <a:t>07/30/26</a:t>
            </a:fld>
            <a:r>
              <a:rPr b="0" lang="en-US" sz="1000" spc="-1" strike="noStrike">
                <a:solidFill>
                  <a:srgbClr val="990000"/>
                </a:solidFill>
                <a:latin typeface="Arial"/>
              </a:rPr>
              <a:t> </a:t>
            </a:r>
            <a:fld id="{CABADD3E-DD3A-4C27-A6B2-FA594316959B}" type="datetime10">
              <a:rPr b="0" lang="en-US" sz="1000" spc="-1" strike="noStrike">
                <a:solidFill>
                  <a:srgbClr val="990000"/>
                </a:solidFill>
                <a:latin typeface="Arial"/>
              </a:rPr>
              <a:t>21:34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678672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3C564-5898-4977-8807-197E6490DB37}" type="slidenum">
              <a:rPr b="0" lang="en-US" sz="1000" spc="-1" strike="noStrike">
                <a:solidFill>
                  <a:srgbClr val="99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Black"/>
              </a:rPr>
              <a:t>Current Status</a:t>
            </a: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No pending issues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One question off-list regarding use of existing experimental codepoints vs. new ones</a:t>
            </a:r>
            <a:endParaRPr b="0" lang="en-US" sz="24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Referred to the WG discussion on this (no benefit to new codepoints, just encourages misuse of existing codepoints)</a:t>
            </a:r>
            <a:endParaRPr b="0" lang="en-US" sz="24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Awaiting WGLC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14" name="Date Placeholder 3"/>
          <p:cNvSpPr/>
          <p:nvPr/>
        </p:nvSpPr>
        <p:spPr>
          <a:xfrm>
            <a:off x="48744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21781-4C0E-44C9-A6B8-73A05680A6D3}" type="datetime">
              <a:rPr b="0" lang="en-US" sz="1000" spc="-1" strike="noStrike">
                <a:solidFill>
                  <a:srgbClr val="990000"/>
                </a:solidFill>
                <a:latin typeface="Arial"/>
              </a:rPr>
              <a:t>07/30/26</a:t>
            </a:fld>
            <a:r>
              <a:rPr b="0" lang="en-US" sz="1000" spc="-1" strike="noStrike">
                <a:solidFill>
                  <a:srgbClr val="990000"/>
                </a:solidFill>
                <a:latin typeface="Arial"/>
              </a:rPr>
              <a:t> </a:t>
            </a:r>
            <a:fld id="{4752A8B1-88FB-4017-8CC2-8E6A1FE1E340}" type="datetime10">
              <a:rPr b="0" lang="en-US" sz="1000" spc="-1" strike="noStrike">
                <a:solidFill>
                  <a:srgbClr val="990000"/>
                </a:solidFill>
                <a:latin typeface="Arial"/>
              </a:rPr>
              <a:t>21:34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678672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4DD58-A7E7-493C-8E47-19464779CD79}" type="slidenum">
              <a:rPr b="0" lang="en-US" sz="1000" spc="-1" strike="noStrike">
                <a:solidFill>
                  <a:srgbClr val="99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466560" y="6356520"/>
            <a:ext cx="1930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32115-105D-4D56-8F42-FFC03BD4BADF}" type="datetime">
              <a:rPr b="0" lang="en-US" sz="1000" spc="-1" strike="noStrike">
                <a:solidFill>
                  <a:srgbClr val="990000"/>
                </a:solidFill>
                <a:latin typeface="Arial"/>
              </a:rPr>
              <a:t>07/30/26</a:t>
            </a:fld>
            <a:r>
              <a:rPr b="0" lang="en-US" sz="1000" spc="-1" strike="noStrike">
                <a:solidFill>
                  <a:srgbClr val="990000"/>
                </a:solidFill>
                <a:latin typeface="Arial"/>
              </a:rPr>
              <a:t> </a:t>
            </a:r>
            <a:fld id="{743EDA90-2260-455D-9841-001833C23958}" type="datetime10">
              <a:rPr b="0" lang="en-US" sz="1000" spc="-1" strike="noStrike">
                <a:solidFill>
                  <a:srgbClr val="990000"/>
                </a:solidFill>
                <a:latin typeface="Arial"/>
              </a:rPr>
              <a:t>21:34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6859440" y="628488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FB42B-D154-4975-9E81-4A9632DBACAC}" type="slidenum">
              <a:rPr b="0" lang="en-US" sz="1000" spc="-1" strike="noStrike">
                <a:solidFill>
                  <a:srgbClr val="99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09760" y="1193760"/>
            <a:ext cx="7540560" cy="76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Black"/>
              </a:rPr>
              <a:t>A TCP Authentication Option NAT Extension</a:t>
            </a: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279440" y="3117600"/>
            <a:ext cx="718200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 Black"/>
              </a:rPr>
              <a:t>draft-touch-tcp-ao-nat-03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 Black"/>
              </a:rPr>
              <a:t>IETF 82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 Black"/>
              </a:rPr>
              <a:t>Joe Touch, USC/ISI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Black"/>
              </a:rPr>
              <a:t>Summary</a:t>
            </a: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Experimental extension to TCP-AO for NATs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Change to packet processing to allow use of TCP-AO in NAT/NAPT environments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Relies only on endpoint agreement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Submitted for individual publication 6/12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Insufficient WG interest, so already proceeded as individual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22" name="Date Placeholder 3"/>
          <p:cNvSpPr/>
          <p:nvPr/>
        </p:nvSpPr>
        <p:spPr>
          <a:xfrm>
            <a:off x="48744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88ABF-E409-4CE5-A7E5-29C0D96FABAA}" type="datetime">
              <a:rPr b="0" lang="en-US" sz="1000" spc="-1" strike="noStrike">
                <a:solidFill>
                  <a:srgbClr val="990000"/>
                </a:solidFill>
                <a:latin typeface="Arial"/>
              </a:rPr>
              <a:t>07/30/26</a:t>
            </a:fld>
            <a:r>
              <a:rPr b="0" lang="en-US" sz="1000" spc="-1" strike="noStrike">
                <a:solidFill>
                  <a:srgbClr val="990000"/>
                </a:solidFill>
                <a:latin typeface="Arial"/>
              </a:rPr>
              <a:t> </a:t>
            </a:r>
            <a:fld id="{568688BE-636E-4A99-82E0-36EF598DC103}" type="datetime10">
              <a:rPr b="0" lang="en-US" sz="1000" spc="-1" strike="noStrike">
                <a:solidFill>
                  <a:srgbClr val="990000"/>
                </a:solidFill>
                <a:latin typeface="Arial"/>
              </a:rPr>
              <a:t>21:34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78672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E7312-66E6-405E-AC02-DCCEE656EB38}" type="slidenum">
              <a:rPr b="0" lang="en-US" sz="1000" spc="-1" strike="noStrike">
                <a:solidFill>
                  <a:srgbClr val="99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9T07:17:19Z</dcterms:created>
  <dc:creator>Joseph D. Touch</dc:creator>
  <dc:description/>
  <dc:language>en-US</dc:language>
  <cp:lastModifiedBy>Joe Touch</cp:lastModifiedBy>
  <cp:lastPrinted>1999-12-13T07:41:19Z</cp:lastPrinted>
  <dcterms:modified xsi:type="dcterms:W3CDTF">2012-07-28T00:11:57Z</dcterms:modified>
  <cp:revision>232</cp:revision>
  <dc:subject/>
  <dc:title>draft-touch-trill-prob-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mplate Author">
    <vt:lpwstr>Joe Touch</vt:lpwstr>
  </property>
  <property fmtid="{D5CDD505-2E9C-101B-9397-08002B2CF9AE}" pid="3" name="Template Date">
    <vt:lpwstr>Oct. 16, 2002</vt:lpwstr>
  </property>
</Properties>
</file>