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948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05EE-BC5D-4146-98E3-7E08DC984C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857EF-F56B-4EDC-B0B5-089661DAE3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E895-F62C-4F02-A6CD-7C933AD57F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F3A84-BB7A-4B40-AA1A-8A96BB20C8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BE3CE-53E3-46B9-9BD4-2EC5AEC21F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7BB3F-5359-46A6-A7D0-28A4BCB9C2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C0473-E722-4671-8284-979B18F3FC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96147-98FA-4C9C-A1D2-C0420C7A4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D14-97CD-47A7-AE58-028F5938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59B-C888-4148-B6F6-C885F65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D1-ADFE-4F45-BB31-FED844A4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9F8-1F29-4380-AB34-C92F6979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49C1-27F4-415E-BE9A-64059B0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546-E1EB-4066-A9C2-266C604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693-E70E-4DD0-9AED-F66B6B29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F56C-3F39-4E5F-8493-08D888C3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D9D3-4692-4988-B6E5-55ED6D4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32B-9FE4-48C9-893E-6FB1FECC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3DB6-BD63-4C3B-A3FF-6DF3240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AA8-9387-46FD-83EA-54B7079D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30F-152B-41D7-8311-3086916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01B2-B35E-4F5C-AB23-E90A3D5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D1FC-DDDE-4190-B020-B71D636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A48E-094F-4C58-BBEF-59FD3D88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892-0F6F-40B8-9D9D-F793A36C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522-F474-45E9-9B05-2132A8E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C44-7AE8-4A2C-B2A5-0114A4B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D17-5AB2-4F31-B6E7-ECCEBFF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E5B-F756-4AB8-A745-541EE35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7D0-7A49-427D-BE55-FC48443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1BC-9F1C-4E55-8A06-8338FE8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E3B-18FE-42C2-A6B6-2B793F5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D2E268-B8E8-4573-8ECB-F9446967429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864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7CE7D7-E366-4DBA-98E6-3708AAA7BD1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8104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ic Aggregation of Resource Reservation Protocol (RSVP) for IPv4 and IPv6 Reservation over  PCN doma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86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orgios Karagiannis, Anurag Bharg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922120" y="335772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raft-ietf-tsvwg-rsvp-pcn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858000" y="62485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0BA735-7E80-4305-8995-A5F484C7C1D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in Chan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EDB50-65C8-4787-9F60-5F449EACE21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ain chan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32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omments worked out according to decisions taken on mailing list and IETF 83 meeting in Par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 is not any more assuming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IEAs between same pair of PCN edge nodes should be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N-ingress should be able to reduce bandwidth of an individual flow without terminating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3EA0C-AEEA-41A0-B10B-D3F28EAFD34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ain chan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25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 is now specifying that added PCN objects of C-typ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SVP-AGGREGATE-IPv4-PCN-CL-FLIDs or RSVP-AGGREGATE-IPv6-PCN-CL-FLIDs ar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ried by aggregated Resv mess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19B2-0121-4C2E-8818-30451AD746D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560" y="618840"/>
            <a:ext cx="9109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0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1: Intended status Standards track or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 is specifying RSVP signaling for CL (RFC6661) and SM (RFC6662) edge behaviours, which are both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RSVP over PCN draft be intended for standards track or experimental trac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C219E-7D5C-43B7-AE22-ED57D5E07B8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" y="618840"/>
            <a:ext cx="9109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8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2: IANA section not 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ANA section not clear enough; it does not specify in which registry the code points should be registered and IANA information distributed across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 all relevant information in IANA considerations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out in what registry code points are to be en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out what information required to appropriately fill particular regi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2DFC7-A203-4970-9630-F98A0BCDBFC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32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pdate draft based on received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ign one or more reviewers from RSVP directo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h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D18E6-6764-423D-A1E3-C72308EFF12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McDonald</dc:creator>
  <dc:description/>
  <dc:language>en-US</dc:language>
  <cp:lastModifiedBy>jmpolk</cp:lastModifiedBy>
  <cp:lastPrinted>2012-07-26T11:09:56Z</cp:lastPrinted>
  <dcterms:modified xsi:type="dcterms:W3CDTF">2012-08-01T08:53:50Z</dcterms:modified>
  <cp:revision>124</cp:revision>
  <dc:subject/>
  <dc:title>QoS NSLP Update</dc:title>
</cp:coreProperties>
</file>