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948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A7E27-1F38-4151-9C09-1FF2733B1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F46B-7898-4AF2-B10C-7C332DB96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0DAFF-FF23-4ABB-9BAF-6583E34A88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4541-869F-4D5C-A76F-0B901D9C1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B6323-13C3-426C-A44E-28AC089DE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D7AE3-83DB-4792-B4CF-FDFBFFD34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56A2-A718-46F4-B223-EA7B7AFF2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69282-2D20-49C0-8B1B-A0CEBB7AF5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F3F-F668-473F-82B4-E89FE528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BD5-5F90-41D3-827A-729DA33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9A6-42B7-41AB-A2F9-60DD4B4C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676-6673-4575-964C-5BEA368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BF50-539D-4099-99A1-2950F157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3FD5-0D89-4DDB-93BE-253F6C2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2D5-DC90-4A03-8E5A-39F1B56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765D-DD20-4606-AD2A-BC5FCA1A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C8FA-6129-4DE7-9788-A63C589B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41B8-388F-4EA1-89C3-F5058205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AF3-1EDD-4E10-9449-F340316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458-121C-4F7A-9DDF-46D535D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B8C-3D02-460E-A737-B380802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25C-D110-4895-B9A2-9177BB1C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D04-86F0-4B1D-809E-56CFE5A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B5A-DE5D-47CB-A3C2-D83DC88A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6577-5F44-403A-9049-4B38A62A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635-D092-4A3C-B50F-8F2506E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914-780F-4591-8CD0-3190E4C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A0A-B2ED-402C-8DB6-AF6FE372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292-53D7-4E90-A0E7-5BE26E6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52A-1A44-484F-A54E-EA19D26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D69-5D8E-4A68-9369-8D78B2A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47A-3BDE-4DA1-AB69-F142925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3DC64A-8FC3-4797-9791-EC06159E2A0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864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492538-B58A-447B-85CB-8CD4DEA3445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8104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ic Aggregation of Resource Reservation Protocol (RSVP) for IPv4 and IPv6 Reservation over  PCN doma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86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orgios Karagiannis, Anurag Bharg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922120" y="335772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raft-ietf-tsvwg-rsvp-pcn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858000" y="62485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F7529F-4BA1-4704-B623-DD6F253A6A4A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in Chan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F7B3-D528-47F8-A74F-36497B4F1D7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ain chan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32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omments worked out according to decisions taken on mailing list and IETF 83 meeting in Par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 is not any more assuming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IEAs between same pair of PCN edge nodes should be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N-ingress should be able to reduce bandwidth of an individual flow without terminating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B3ADE-BD4C-4805-9AF1-3F1D6ADA236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ain chan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25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 is now specifying that added PCN objects of C-typ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SVP-AGGREGATE-IPv4-PCN-CL-FLIDs or RSVP-AGGREGATE-IPv6-PCN-CL-FLIDs ar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ried by aggregated Resv mess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BAFA0-9C5D-4BB6-A77E-1CF8F47F4F5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560" y="618840"/>
            <a:ext cx="9109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0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1: Intended status Standards track or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ft is specifying RSVP signaling for CL (RFC6661) and SM (RFC6662) edge behaviours, which are both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RSVP over PCN draft be intended for standards track or experimental trac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21650-7654-4664-8179-1000401DE89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" y="618840"/>
            <a:ext cx="9109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8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2: IANA section not 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ANA section not clear enough; it does not specify in which registry the code points should be registered and IANA information distributed across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 all relevant information in IANA considerations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out in what registry code points are to be en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5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out what information required to appropriately fill particular regi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70597-FC2A-470D-B24B-AF8E019B443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32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pdate draft based on received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ign one or more reviewers from RSVP directo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h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D7936-A0AB-4965-9424-DE7FE4FAACC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McDonald</dc:creator>
  <dc:description/>
  <dc:language>en-US</dc:language>
  <cp:lastModifiedBy>jmpolk</cp:lastModifiedBy>
  <cp:lastPrinted>2012-07-26T11:09:56Z</cp:lastPrinted>
  <dcterms:modified xsi:type="dcterms:W3CDTF">2012-08-01T08:53:50Z</dcterms:modified>
  <cp:revision>124</cp:revision>
  <dc:subject/>
  <dc:title>QoS NSLP Update</dc:title>
</cp:coreProperties>
</file>