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677880" y="820440"/>
            <a:ext cx="5315040" cy="398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Click to move the slide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31720" y="5041800"/>
            <a:ext cx="56088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No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2"/>
          </p:nvPr>
        </p:nvSpPr>
        <p:spPr>
          <a:xfrm>
            <a:off x="4172040" y="361800"/>
            <a:ext cx="1968480" cy="1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16.04.200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3"/>
          </p:nvPr>
        </p:nvSpPr>
        <p:spPr>
          <a:xfrm>
            <a:off x="4172040" y="555480"/>
            <a:ext cx="1968480" cy="1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C36DDD-88E9-420F-87DA-AEEA66747466}" type="slidenum">
              <a:rPr b="0" lang="de-DE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hdr"/>
          </p:nvPr>
        </p:nvSpPr>
        <p:spPr>
          <a:xfrm>
            <a:off x="4172040" y="458640"/>
            <a:ext cx="1968480" cy="1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Autor / Thema der Präsen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3" descr="T_Kurzform_1K"/>
          <p:cNvPicPr/>
          <p:nvPr/>
        </p:nvPicPr>
        <p:blipFill>
          <a:blip r:embed="rId2"/>
          <a:srcRect l="2555" t="23422" r="2729" b="23422"/>
          <a:stretch/>
        </p:blipFill>
        <p:spPr>
          <a:xfrm>
            <a:off x="574560" y="353880"/>
            <a:ext cx="1598760" cy="32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4172040" y="361800"/>
            <a:ext cx="196848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6.04.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172040" y="555480"/>
            <a:ext cx="196848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6EACCB-E8DA-410F-91A3-B69A4C2D6C35}" type="slidenum">
              <a:rPr b="0" lang="de-DE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4172040" y="458640"/>
            <a:ext cx="196848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Autor / Thema der Präsentation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679320" y="820800"/>
            <a:ext cx="5315040" cy="3986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1720" y="5041800"/>
            <a:ext cx="56088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4172040" y="361800"/>
            <a:ext cx="196848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16.04.2009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172040" y="555480"/>
            <a:ext cx="196848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819B00-4666-4200-A04A-6C281A52026F}" type="slidenum">
              <a:rPr b="0" lang="de-DE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4172040" y="458640"/>
            <a:ext cx="196848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ele-GroteskNor"/>
                <a:ea typeface="Arial"/>
              </a:rPr>
              <a:t>Autor / Thema der Präsentation</a:t>
            </a:r>
            <a:endParaRPr b="0" lang="en-US" sz="6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679320" y="820800"/>
            <a:ext cx="5315040" cy="39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31720" y="5041800"/>
            <a:ext cx="56088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08D23-D664-4DD8-A132-581DA223E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381456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5FFA0-1C61-48CC-B4B6-D5DA70A82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1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12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6DF9-07A9-4BC4-83E7-24D7E9471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996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464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996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464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09A3-7940-468C-BA71-296711E1B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12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225360"/>
            <a:ext cx="853272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12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D027-252C-42C2-BA76-44315013E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1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12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1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81456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81456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1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12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996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4640" y="148608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996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4640" y="3814560"/>
            <a:ext cx="27471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EC50-960F-497B-984D-7983F7FB3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12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F870-F137-49E9-85EE-37D9D34A0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E4DF-F6AB-4714-B920-5F1B2254A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225360"/>
            <a:ext cx="853272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5B04-92A6-479E-B91D-BA6831B3C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12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EC8A-92BC-4E05-A1BE-02910489A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4163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1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120" y="381456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7995-00A7-456A-B03F-3FCA1AB06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120" y="1486080"/>
            <a:ext cx="416376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814560"/>
            <a:ext cx="8532720" cy="21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4E79-3E6E-4188-9B31-F7EA49FA8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Click to edit the title text format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82480" indent="-2221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2" marL="941400" indent="-22068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3" marL="1209600" indent="-13788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4" marL="1662120" indent="-23004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5" marL="1662120" indent="-230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6" marL="1662120" indent="-230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00880" y="6602040"/>
            <a:ext cx="540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A4D0-C9C5-4517-948D-645563564FF2}" type="slidenum"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4"/>
          <p:cNvSpPr/>
          <p:nvPr/>
        </p:nvSpPr>
        <p:spPr>
          <a:xfrm>
            <a:off x="304920" y="3962520"/>
            <a:ext cx="8534160" cy="25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Click to edit the title text format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0492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82480" indent="-2221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2" marL="941400" indent="-22068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3" marL="1209600" indent="-13788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4" marL="1662120" indent="-23004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5" marL="1662120" indent="-230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6" marL="1662120" indent="-230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396252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lIns="226800" rIns="0" tIns="12600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20074"/>
                </a:solidFill>
                <a:latin typeface="Tele-GroteskNor"/>
              </a:rPr>
              <a:t>Liaison to Transport Area WG:</a:t>
            </a:r>
            <a:br>
              <a:rPr sz="3200"/>
            </a:br>
            <a:r>
              <a:rPr b="0" lang="en-US" sz="3200" spc="-1" strike="noStrike">
                <a:solidFill>
                  <a:srgbClr val="e20074"/>
                </a:solidFill>
                <a:latin typeface="Tele-GroteskNor"/>
              </a:rPr>
              <a:t>“Development of Informative Codepoint mapping in ITU-T Study Group 12”</a:t>
            </a:r>
            <a:endParaRPr b="0" lang="en-US" sz="32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920" y="5805000"/>
            <a:ext cx="8534160" cy="576360"/>
          </a:xfrm>
          <a:prstGeom prst="rect">
            <a:avLst/>
          </a:prstGeom>
          <a:noFill/>
          <a:ln w="0">
            <a:noFill/>
          </a:ln>
        </p:spPr>
        <p:txBody>
          <a:bodyPr lIns="23400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ele-GroteskNor"/>
              </a:rPr>
              <a:t>Al Morton, Rapporteur of Question 17 on Performance of packet-based networks</a:t>
            </a:r>
            <a:endParaRPr b="0" lang="en-US" sz="1600" spc="-1" strike="noStrike">
              <a:solidFill>
                <a:srgbClr val="000000"/>
              </a:solidFill>
              <a:latin typeface="Tele-GroteskNor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ele-GroteskNor"/>
              </a:rPr>
              <a:t>https://datatracker.ietf.org/liaison/1165/</a:t>
            </a:r>
            <a:endParaRPr b="0" lang="en-US" sz="16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7BDC-68DD-4AE2-AA8D-5BF2EBDE51FA}" type="slidenum">
              <a:rPr b="0" lang="de-DE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What’s all this about?</a:t>
            </a:r>
            <a:br>
              <a:rPr sz="2800"/>
            </a:b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Q17’s work to improve interconnection between Service Providers now in a Recommendation 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853272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10960" indent="-210960">
              <a:lnSpc>
                <a:spcPct val="90000"/>
              </a:lnSpc>
              <a:spcBef>
                <a:spcPts val="876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le-GroteskNor"/>
              </a:rPr>
              <a:t>Y.1566 “QoS mapping and interconnection between Ethernet, IP and MPLS Networks”</a:t>
            </a:r>
            <a:endParaRPr b="0" lang="en-US" sz="2800" spc="-1" strike="noStrike">
              <a:solidFill>
                <a:srgbClr val="000000"/>
              </a:solidFill>
              <a:latin typeface="Tele-GroteskNor"/>
            </a:endParaRPr>
          </a:p>
          <a:p>
            <a:pPr lvl="1" marL="553320" indent="-210960">
              <a:lnSpc>
                <a:spcPct val="90000"/>
              </a:lnSpc>
              <a:spcBef>
                <a:spcPts val="75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le-GroteskNor"/>
              </a:rPr>
              <a:t>formerly Y.QoSMap, informal name still appears in places</a:t>
            </a:r>
            <a:endParaRPr b="0" lang="en-US" sz="2400" spc="-1" strike="noStrike">
              <a:solidFill>
                <a:srgbClr val="000000"/>
              </a:solidFill>
              <a:latin typeface="Tele-GroteskNor"/>
            </a:endParaRPr>
          </a:p>
          <a:p>
            <a:pPr lvl="1" marL="553320" indent="-210960">
              <a:lnSpc>
                <a:spcPct val="90000"/>
              </a:lnSpc>
              <a:spcBef>
                <a:spcPts val="75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le-GroteskNor"/>
              </a:rPr>
              <a:t>Describes Classes: qualitative performance char. &amp; apps</a:t>
            </a:r>
            <a:endParaRPr b="0" lang="en-US" sz="2400" spc="-1" strike="noStrike">
              <a:solidFill>
                <a:srgbClr val="000000"/>
              </a:solidFill>
              <a:latin typeface="Tele-GroteskNor"/>
            </a:endParaRPr>
          </a:p>
          <a:p>
            <a:pPr lvl="2" marL="894240" indent="-2095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4 Ordinary (~every SP has them) and 4 Auxiliary (3-bit code space)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2" marL="894240" indent="-2095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Similar to Treatment Agg. in RFC 5127 or Per-Domain Behaviors  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53320" indent="-210960">
              <a:lnSpc>
                <a:spcPct val="90000"/>
              </a:lnSpc>
              <a:spcBef>
                <a:spcPts val="75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le-GroteskNor"/>
              </a:rPr>
              <a:t>NO normative codepoint to Class assignme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ele-GroteskNor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Tele-GroteskNor"/>
              </a:rPr>
              <a:t> SP</a:t>
            </a:r>
            <a:endParaRPr b="0" lang="en-US" sz="2400" spc="-1" strike="noStrike">
              <a:solidFill>
                <a:srgbClr val="000000"/>
              </a:solidFill>
              <a:latin typeface="Tele-GroteskNor"/>
            </a:endParaRPr>
          </a:p>
          <a:p>
            <a:pPr lvl="2" marL="894240" indent="-2095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Informative mapping between classes and code-points in an Appendix – this is for tsvwg’s info and comment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1" marL="553320" indent="-210960">
              <a:lnSpc>
                <a:spcPct val="90000"/>
              </a:lnSpc>
              <a:spcBef>
                <a:spcPts val="751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le-GroteskNor"/>
              </a:rPr>
              <a:t>Concept: Interconnecting Link between SPs</a:t>
            </a:r>
            <a:endParaRPr b="0" lang="en-US" sz="2400" spc="-1" strike="noStrike">
              <a:solidFill>
                <a:srgbClr val="000000"/>
              </a:solidFill>
              <a:latin typeface="Tele-GroteskNor"/>
            </a:endParaRPr>
          </a:p>
          <a:p>
            <a:pPr lvl="2" marL="894240" indent="-2095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Mark to standard Link Class &amp; 3-bit CP, Re-mark on Egress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2" marL="894240" indent="-2095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Each SP can configure to the Link once for all interconnections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  <a:p>
            <a:pPr lvl="2" marL="894240" indent="-209520">
              <a:lnSpc>
                <a:spcPct val="90000"/>
              </a:lnSpc>
              <a:spcBef>
                <a:spcPts val="624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Nor"/>
              </a:rPr>
              <a:t>Incentive to evolve to Link markings within SP over time</a:t>
            </a: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020B-A1CD-4422-959B-0985A77F275E}" type="slidenum">
              <a:rPr b="0" lang="de-DE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What Happens Next?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486080"/>
            <a:ext cx="8532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90000"/>
              </a:lnSpc>
              <a:spcBef>
                <a:spcPts val="876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le-GroteskNor"/>
              </a:rPr>
              <a:t>tsvwg decides to </a:t>
            </a:r>
            <a:endParaRPr b="0" lang="en-US" sz="2800" spc="-1" strike="noStrike">
              <a:solidFill>
                <a:srgbClr val="000000"/>
              </a:solidFill>
              <a:latin typeface="Tele-GroteskNor"/>
            </a:endParaRPr>
          </a:p>
          <a:p>
            <a:pPr lvl="1" marL="582480" indent="-222120">
              <a:lnSpc>
                <a:spcPct val="90000"/>
              </a:lnSpc>
              <a:spcBef>
                <a:spcPts val="876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le-GroteskNor"/>
              </a:rPr>
              <a:t>Prepare a consensus response as reply</a:t>
            </a:r>
            <a:endParaRPr b="0" lang="en-US" sz="2800" spc="-1" strike="noStrike">
              <a:solidFill>
                <a:srgbClr val="000000"/>
              </a:solidFill>
              <a:latin typeface="Tele-GroteskNor"/>
            </a:endParaRPr>
          </a:p>
          <a:p>
            <a:pPr lvl="1" marL="582480" indent="-222120">
              <a:lnSpc>
                <a:spcPct val="90000"/>
              </a:lnSpc>
              <a:spcBef>
                <a:spcPts val="876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le-GroteskNor"/>
              </a:rPr>
              <a:t>Share a set of individual comments from tsvwg-list</a:t>
            </a:r>
            <a:endParaRPr b="0" lang="en-US" sz="2800" spc="-1" strike="noStrike">
              <a:solidFill>
                <a:srgbClr val="000000"/>
              </a:solidFill>
              <a:latin typeface="Tele-GroteskNor"/>
            </a:endParaRPr>
          </a:p>
          <a:p>
            <a:pPr lvl="1" marL="582480" indent="-222120">
              <a:lnSpc>
                <a:spcPct val="90000"/>
              </a:lnSpc>
              <a:spcBef>
                <a:spcPts val="876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le-GroteskNor"/>
              </a:rPr>
              <a:t>Consider the information shared in the Liaison</a:t>
            </a:r>
            <a:endParaRPr b="0" lang="en-US" sz="2800" spc="-1" strike="noStrike">
              <a:solidFill>
                <a:srgbClr val="000000"/>
              </a:solidFill>
              <a:latin typeface="Tele-GroteskNor"/>
            </a:endParaRPr>
          </a:p>
          <a:p>
            <a:pPr lvl="1" marL="582480" indent="-222120">
              <a:lnSpc>
                <a:spcPct val="90000"/>
              </a:lnSpc>
              <a:spcBef>
                <a:spcPts val="876"/>
              </a:spcBef>
              <a:buClr>
                <a:srgbClr val="e2007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le-GroteskNor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2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846E-AA91-4D51-B4F1-A8D8370716F8}" type="slidenum">
              <a:rPr b="0" lang="de-DE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Background – Y.1566 Interconnecting Link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324000" y="1355760"/>
            <a:ext cx="864072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2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AB90-98D6-45FB-AD48-0C1D6039E2E3}" type="slidenum">
              <a:rPr b="0" lang="de-DE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74"/>
                </a:solidFill>
                <a:latin typeface="Tele-GroteskNor"/>
              </a:rPr>
              <a:t>Information and Example Mapping</a:t>
            </a:r>
            <a:endParaRPr b="0" lang="en-US" sz="2800" spc="-1" strike="noStrike">
              <a:solidFill>
                <a:srgbClr val="e20074"/>
              </a:solidFill>
              <a:latin typeface="Tele-GroteskNor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971640" y="425520"/>
            <a:ext cx="756108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300880" y="6602400"/>
            <a:ext cx="54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CFF7-C525-450D-9CF2-AB59F368E1F3}" type="slidenum">
              <a:rPr b="0" lang="de-DE" sz="9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25360"/>
            <a:ext cx="8532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74"/>
                </a:solidFill>
                <a:latin typeface="Arial"/>
              </a:rPr>
              <a:t>Standardised packet network QoS class and codepoint schemes at interconnection points.</a:t>
            </a:r>
            <a:br>
              <a:rPr sz="2400"/>
            </a:br>
            <a:endParaRPr b="0" lang="en-US" sz="2400" spc="-1" strike="noStrike">
              <a:solidFill>
                <a:srgbClr val="e20074"/>
              </a:solidFill>
              <a:latin typeface="Tele-GroteskNor"/>
            </a:endParaRPr>
          </a:p>
        </p:txBody>
      </p:sp>
      <p:grpSp>
        <p:nvGrpSpPr>
          <p:cNvPr id="101" name="Group 121"/>
          <p:cNvGrpSpPr/>
          <p:nvPr/>
        </p:nvGrpSpPr>
        <p:grpSpPr>
          <a:xfrm>
            <a:off x="293760" y="2711520"/>
            <a:ext cx="8545320" cy="2878200"/>
            <a:chOff x="293760" y="2711520"/>
            <a:chExt cx="8545320" cy="2878200"/>
          </a:xfrm>
        </p:grpSpPr>
        <p:sp>
          <p:nvSpPr>
            <p:cNvPr id="102" name="AutoShape 103"/>
            <p:cNvSpPr/>
            <p:nvPr/>
          </p:nvSpPr>
          <p:spPr>
            <a:xfrm>
              <a:off x="395280" y="3540240"/>
              <a:ext cx="97776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8280" indent="-98280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eaming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03" name="AutoShape 103"/>
            <p:cNvSpPr/>
            <p:nvPr/>
          </p:nvSpPr>
          <p:spPr>
            <a:xfrm>
              <a:off x="395280" y="5085000"/>
              <a:ext cx="15127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8280" indent="-98280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ckground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  <a:p>
              <a:pPr marL="98280" indent="-98280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no subclass)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04" name="Line 58"/>
            <p:cNvSpPr/>
            <p:nvPr/>
          </p:nvSpPr>
          <p:spPr>
            <a:xfrm>
              <a:off x="304920" y="347184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05" name="Line 59"/>
            <p:cNvSpPr/>
            <p:nvPr/>
          </p:nvSpPr>
          <p:spPr>
            <a:xfrm>
              <a:off x="304920" y="383868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06" name="AutoShape 103"/>
            <p:cNvSpPr/>
            <p:nvPr/>
          </p:nvSpPr>
          <p:spPr>
            <a:xfrm>
              <a:off x="395280" y="3189240"/>
              <a:ext cx="148896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17360" indent="-117360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versational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07" name="AutoShape 103"/>
            <p:cNvSpPr/>
            <p:nvPr/>
          </p:nvSpPr>
          <p:spPr>
            <a:xfrm>
              <a:off x="395280" y="3857760"/>
              <a:ext cx="1655640" cy="10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17360" indent="-117360">
                <a:lnSpc>
                  <a:spcPct val="110000"/>
                </a:lnSpc>
                <a:spcBef>
                  <a:spcPts val="437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active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  <a:p>
              <a:pPr lvl="1" marL="285840" indent="-166680">
                <a:lnSpc>
                  <a:spcPct val="110000"/>
                </a:lnSpc>
                <a:buClr>
                  <a:srgbClr val="e20074"/>
                </a:buClr>
                <a:buSzPct val="75000"/>
                <a:buFont typeface="Wingdings" charset="2"/>
                <a:buChar char=""/>
                <a:tabLst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 Prority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  <a:p>
              <a:pPr lvl="1" marL="285840" indent="-166680">
                <a:lnSpc>
                  <a:spcPct val="110000"/>
                </a:lnSpc>
                <a:buClr>
                  <a:srgbClr val="e20074"/>
                </a:buClr>
                <a:buSzPct val="75000"/>
                <a:buFont typeface="Wingdings" charset="2"/>
                <a:buChar char=""/>
                <a:tabLst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um Priority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  <a:p>
              <a:pPr lvl="1" marL="285840" indent="-166680">
                <a:lnSpc>
                  <a:spcPct val="110000"/>
                </a:lnSpc>
                <a:buClr>
                  <a:srgbClr val="e20074"/>
                </a:buClr>
                <a:buSzPct val="75000"/>
                <a:buFont typeface="Wingdings" charset="2"/>
                <a:buChar char=""/>
                <a:tabLst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 Priority 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08" name="AutoShape 103"/>
            <p:cNvSpPr/>
            <p:nvPr/>
          </p:nvSpPr>
          <p:spPr>
            <a:xfrm>
              <a:off x="480960" y="2809800"/>
              <a:ext cx="1114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17360" indent="-117360">
                <a:lnSpc>
                  <a:spcPct val="90000"/>
                </a:lnSpc>
                <a:buClr>
                  <a:srgbClr val="e20074"/>
                </a:buClr>
                <a:buSzPct val="75000"/>
                <a:buFont typeface="Wingdings" charset="2"/>
                <a:buChar char=""/>
                <a:tabLst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ele-GroteskNor"/>
                  <a:ea typeface="Arial"/>
                </a:rPr>
                <a:t>First item</a:t>
              </a:r>
              <a:endParaRPr b="0" lang="en-US" sz="13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09" name="Line 64"/>
            <p:cNvSpPr/>
            <p:nvPr/>
          </p:nvSpPr>
          <p:spPr>
            <a:xfrm>
              <a:off x="2050920" y="2751120"/>
              <a:ext cx="0" cy="281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0" name="Line 65"/>
            <p:cNvSpPr/>
            <p:nvPr/>
          </p:nvSpPr>
          <p:spPr>
            <a:xfrm>
              <a:off x="4067280" y="2895840"/>
              <a:ext cx="0" cy="266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1" name="AutoShape 66"/>
            <p:cNvSpPr/>
            <p:nvPr/>
          </p:nvSpPr>
          <p:spPr>
            <a:xfrm>
              <a:off x="304920" y="2718000"/>
              <a:ext cx="8534160" cy="2843280"/>
            </a:xfrm>
            <a:prstGeom prst="roundRect">
              <a:avLst>
                <a:gd name="adj" fmla="val 2394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grpSp>
          <p:nvGrpSpPr>
            <p:cNvPr id="112" name="Group 69"/>
            <p:cNvGrpSpPr/>
            <p:nvPr/>
          </p:nvGrpSpPr>
          <p:grpSpPr>
            <a:xfrm>
              <a:off x="304920" y="2711520"/>
              <a:ext cx="8533440" cy="393480"/>
              <a:chOff x="304920" y="2711520"/>
              <a:chExt cx="8533440" cy="393480"/>
            </a:xfrm>
          </p:grpSpPr>
          <p:sp>
            <p:nvSpPr>
              <p:cNvPr id="113" name="Rectangle 106"/>
              <p:cNvSpPr/>
              <p:nvPr/>
            </p:nvSpPr>
            <p:spPr>
              <a:xfrm>
                <a:off x="304920" y="2784240"/>
                <a:ext cx="8533440" cy="320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ele-GroteskNor"/>
                </a:endParaRPr>
              </a:p>
            </p:txBody>
          </p:sp>
          <p:sp>
            <p:nvSpPr>
              <p:cNvPr id="114" name="AutoShape 107"/>
              <p:cNvSpPr/>
              <p:nvPr/>
            </p:nvSpPr>
            <p:spPr>
              <a:xfrm>
                <a:off x="304920" y="2711520"/>
                <a:ext cx="8533440" cy="177120"/>
              </a:xfrm>
              <a:prstGeom prst="roundRect">
                <a:avLst>
                  <a:gd name="adj" fmla="val 44528"/>
                </a:avLst>
              </a:prstGeom>
              <a:gradFill rotWithShape="0">
                <a:gsLst>
                  <a:gs pos="0">
                    <a:srgbClr val="999999"/>
                  </a:gs>
                  <a:gs pos="100000">
                    <a:srgbClr val="292929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ele-GroteskNor"/>
                </a:endParaRPr>
              </a:p>
            </p:txBody>
          </p:sp>
        </p:grpSp>
        <p:sp>
          <p:nvSpPr>
            <p:cNvPr id="115" name="Rectangle 108"/>
            <p:cNvSpPr/>
            <p:nvPr/>
          </p:nvSpPr>
          <p:spPr>
            <a:xfrm>
              <a:off x="324000" y="2727360"/>
              <a:ext cx="2663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36000" tIns="36000" bIns="36000" anchor="ctr">
              <a:no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GPP Classes        &amp;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6" name="Rectangle 108"/>
            <p:cNvSpPr/>
            <p:nvPr/>
          </p:nvSpPr>
          <p:spPr>
            <a:xfrm>
              <a:off x="2124000" y="2727360"/>
              <a:ext cx="93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36000" tIns="36000" bIns="3600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GSMA </a:t>
              </a:r>
              <a:br>
                <a:rPr sz="1400"/>
              </a:b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P PHB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7" name="Rectangle 108"/>
            <p:cNvSpPr/>
            <p:nvPr/>
          </p:nvSpPr>
          <p:spPr>
            <a:xfrm>
              <a:off x="3132000" y="2727360"/>
              <a:ext cx="93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36000" tIns="36000" bIns="360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PLS TC</a:t>
              </a:r>
              <a:r>
                <a:rPr b="0" lang="de-D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8" name="Rectangle 108"/>
            <p:cNvSpPr/>
            <p:nvPr/>
          </p:nvSpPr>
          <p:spPr>
            <a:xfrm>
              <a:off x="5291280" y="2729160"/>
              <a:ext cx="93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36000" tIns="36000" bIns="3600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thernet </a:t>
              </a:r>
              <a:br>
                <a:rPr sz="1400"/>
              </a:b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ority 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19" name="Line 76"/>
            <p:cNvSpPr/>
            <p:nvPr/>
          </p:nvSpPr>
          <p:spPr>
            <a:xfrm flipH="1">
              <a:off x="3132000" y="2903760"/>
              <a:ext cx="15840" cy="265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0" name="Line 77"/>
            <p:cNvSpPr/>
            <p:nvPr/>
          </p:nvSpPr>
          <p:spPr>
            <a:xfrm>
              <a:off x="5219640" y="2895840"/>
              <a:ext cx="0" cy="266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1" name="Line 78"/>
            <p:cNvSpPr/>
            <p:nvPr/>
          </p:nvSpPr>
          <p:spPr>
            <a:xfrm>
              <a:off x="293760" y="484056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2" name="Rectangle 108"/>
            <p:cNvSpPr/>
            <p:nvPr/>
          </p:nvSpPr>
          <p:spPr>
            <a:xfrm>
              <a:off x="4067280" y="2729160"/>
              <a:ext cx="1150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36000" tIns="36000" bIns="3600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P </a:t>
              </a:r>
              <a:br>
                <a:rPr sz="1400"/>
              </a:b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cedence 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3" name="Line 81"/>
            <p:cNvSpPr/>
            <p:nvPr/>
          </p:nvSpPr>
          <p:spPr>
            <a:xfrm>
              <a:off x="684360" y="4575240"/>
              <a:ext cx="24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4" name="Line 82"/>
            <p:cNvSpPr/>
            <p:nvPr/>
          </p:nvSpPr>
          <p:spPr>
            <a:xfrm>
              <a:off x="684360" y="4335480"/>
              <a:ext cx="24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5" name="Line 83"/>
            <p:cNvSpPr/>
            <p:nvPr/>
          </p:nvSpPr>
          <p:spPr>
            <a:xfrm>
              <a:off x="684360" y="4119840"/>
              <a:ext cx="24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6" name="AutoShape 103"/>
            <p:cNvSpPr/>
            <p:nvPr/>
          </p:nvSpPr>
          <p:spPr>
            <a:xfrm>
              <a:off x="3492360" y="4172040"/>
              <a:ext cx="1447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7" name="AutoShape 103"/>
            <p:cNvSpPr/>
            <p:nvPr/>
          </p:nvSpPr>
          <p:spPr>
            <a:xfrm>
              <a:off x="3492360" y="3514680"/>
              <a:ext cx="14472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8" name="AutoShape 103"/>
            <p:cNvSpPr/>
            <p:nvPr/>
          </p:nvSpPr>
          <p:spPr>
            <a:xfrm>
              <a:off x="3492360" y="3149640"/>
              <a:ext cx="1447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29" name="AutoShape 103"/>
            <p:cNvSpPr/>
            <p:nvPr/>
          </p:nvSpPr>
          <p:spPr>
            <a:xfrm>
              <a:off x="3492360" y="5302440"/>
              <a:ext cx="1447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0" name="AutoShape 103"/>
            <p:cNvSpPr/>
            <p:nvPr/>
          </p:nvSpPr>
          <p:spPr>
            <a:xfrm>
              <a:off x="4572000" y="4170600"/>
              <a:ext cx="144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1" name="AutoShape 103"/>
            <p:cNvSpPr/>
            <p:nvPr/>
          </p:nvSpPr>
          <p:spPr>
            <a:xfrm>
              <a:off x="4572000" y="3514680"/>
              <a:ext cx="1443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2" name="AutoShape 103"/>
            <p:cNvSpPr/>
            <p:nvPr/>
          </p:nvSpPr>
          <p:spPr>
            <a:xfrm>
              <a:off x="4572000" y="3148200"/>
              <a:ext cx="144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3" name="AutoShape 103"/>
            <p:cNvSpPr/>
            <p:nvPr/>
          </p:nvSpPr>
          <p:spPr>
            <a:xfrm>
              <a:off x="4572000" y="5302440"/>
              <a:ext cx="144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4" name="AutoShape 103"/>
            <p:cNvSpPr/>
            <p:nvPr/>
          </p:nvSpPr>
          <p:spPr>
            <a:xfrm>
              <a:off x="2266920" y="3514680"/>
              <a:ext cx="5763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41</a:t>
              </a:r>
              <a:endParaRPr b="0" lang="en-US" sz="12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5" name="AutoShape 103"/>
            <p:cNvSpPr/>
            <p:nvPr/>
          </p:nvSpPr>
          <p:spPr>
            <a:xfrm>
              <a:off x="2158920" y="3149640"/>
              <a:ext cx="792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F</a:t>
              </a:r>
              <a:endParaRPr b="0" lang="en-US" sz="12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6" name="AutoShape 103"/>
            <p:cNvSpPr/>
            <p:nvPr/>
          </p:nvSpPr>
          <p:spPr>
            <a:xfrm>
              <a:off x="2124000" y="5302440"/>
              <a:ext cx="863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st Effort 0</a:t>
              </a:r>
              <a:endParaRPr b="0" lang="en-US" sz="12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7" name="AutoShape 103"/>
            <p:cNvSpPr/>
            <p:nvPr/>
          </p:nvSpPr>
          <p:spPr>
            <a:xfrm>
              <a:off x="2268360" y="4102200"/>
              <a:ext cx="576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31</a:t>
              </a:r>
              <a:endParaRPr b="0" lang="en-US" sz="12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8" name="AutoShape 103"/>
            <p:cNvSpPr/>
            <p:nvPr/>
          </p:nvSpPr>
          <p:spPr>
            <a:xfrm>
              <a:off x="2266920" y="4319640"/>
              <a:ext cx="576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32</a:t>
              </a:r>
              <a:endParaRPr b="0" lang="en-US" sz="12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39" name="AutoShape 103"/>
            <p:cNvSpPr/>
            <p:nvPr/>
          </p:nvSpPr>
          <p:spPr>
            <a:xfrm>
              <a:off x="2268360" y="4551480"/>
              <a:ext cx="576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33</a:t>
              </a:r>
              <a:endParaRPr b="0" lang="en-US" sz="12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40" name="AutoShape 103"/>
            <p:cNvSpPr/>
            <p:nvPr/>
          </p:nvSpPr>
          <p:spPr>
            <a:xfrm>
              <a:off x="7740720" y="3857760"/>
              <a:ext cx="10792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17360" indent="-117360">
                <a:lnSpc>
                  <a:spcPct val="110000"/>
                </a:lnSpc>
                <a:spcBef>
                  <a:spcPts val="437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um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  <a:p>
              <a:pPr lvl="1" marL="285840" indent="-166680">
                <a:lnSpc>
                  <a:spcPct val="110000"/>
                </a:lnSpc>
                <a:buClr>
                  <a:srgbClr val="e20074"/>
                </a:buClr>
                <a:buSzPct val="75000"/>
                <a:buFont typeface="Wingdings" charset="2"/>
                <a:buChar char=""/>
                <a:tabLst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itted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  <a:p>
              <a:pPr lvl="1" marL="285840" indent="-166680">
                <a:lnSpc>
                  <a:spcPct val="110000"/>
                </a:lnSpc>
                <a:buClr>
                  <a:srgbClr val="e20074"/>
                </a:buClr>
                <a:buSzPct val="75000"/>
                <a:buFont typeface="Wingdings" charset="2"/>
                <a:buChar char=""/>
                <a:tabLst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cess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41" name="AutoShape 103"/>
            <p:cNvSpPr/>
            <p:nvPr/>
          </p:nvSpPr>
          <p:spPr>
            <a:xfrm>
              <a:off x="7740720" y="4842000"/>
              <a:ext cx="10792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17360" indent="-117360">
                <a:lnSpc>
                  <a:spcPct val="110000"/>
                </a:lnSpc>
                <a:spcBef>
                  <a:spcPts val="437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  <a:p>
              <a:pPr lvl="1" marL="285840" indent="-166680">
                <a:lnSpc>
                  <a:spcPct val="110000"/>
                </a:lnSpc>
                <a:buClr>
                  <a:srgbClr val="e20074"/>
                </a:buClr>
                <a:buSzPct val="75000"/>
                <a:buFont typeface="Wingdings" charset="2"/>
                <a:buChar char=""/>
                <a:tabLst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itted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  <a:p>
              <a:pPr lvl="1" marL="285840" indent="-166680">
                <a:lnSpc>
                  <a:spcPct val="110000"/>
                </a:lnSpc>
                <a:buClr>
                  <a:srgbClr val="e20074"/>
                </a:buClr>
                <a:buSzPct val="75000"/>
                <a:buFont typeface="Wingdings" charset="2"/>
                <a:buChar char=""/>
                <a:tabLst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cess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42" name="Line 102"/>
            <p:cNvSpPr/>
            <p:nvPr/>
          </p:nvSpPr>
          <p:spPr>
            <a:xfrm>
              <a:off x="6300720" y="2895840"/>
              <a:ext cx="0" cy="266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43" name="AutoShape 103"/>
            <p:cNvSpPr/>
            <p:nvPr/>
          </p:nvSpPr>
          <p:spPr>
            <a:xfrm>
              <a:off x="7740720" y="3149640"/>
              <a:ext cx="107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17360" indent="-117360">
                <a:lnSpc>
                  <a:spcPct val="110000"/>
                </a:lnSpc>
                <a:spcBef>
                  <a:spcPts val="437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44" name="Line 104"/>
            <p:cNvSpPr/>
            <p:nvPr/>
          </p:nvSpPr>
          <p:spPr>
            <a:xfrm>
              <a:off x="7667640" y="2895840"/>
              <a:ext cx="0" cy="266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45" name="Rectangle 108"/>
            <p:cNvSpPr/>
            <p:nvPr/>
          </p:nvSpPr>
          <p:spPr>
            <a:xfrm>
              <a:off x="6300720" y="2729160"/>
              <a:ext cx="1150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36000" tIns="36000" bIns="36000" anchor="ctr">
              <a:no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F IP PHB‘s &amp; Classes 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46" name="AutoShape 103"/>
            <p:cNvSpPr/>
            <p:nvPr/>
          </p:nvSpPr>
          <p:spPr>
            <a:xfrm>
              <a:off x="5651640" y="4172040"/>
              <a:ext cx="144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47" name="AutoShape 103"/>
            <p:cNvSpPr/>
            <p:nvPr/>
          </p:nvSpPr>
          <p:spPr>
            <a:xfrm>
              <a:off x="5651640" y="3514680"/>
              <a:ext cx="1443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48" name="AutoShape 103"/>
            <p:cNvSpPr/>
            <p:nvPr/>
          </p:nvSpPr>
          <p:spPr>
            <a:xfrm>
              <a:off x="5651640" y="3149640"/>
              <a:ext cx="144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49" name="AutoShape 103"/>
            <p:cNvSpPr/>
            <p:nvPr/>
          </p:nvSpPr>
          <p:spPr>
            <a:xfrm>
              <a:off x="5651640" y="5302440"/>
              <a:ext cx="144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50" name="Line 109"/>
            <p:cNvSpPr/>
            <p:nvPr/>
          </p:nvSpPr>
          <p:spPr>
            <a:xfrm>
              <a:off x="6288120" y="5322960"/>
              <a:ext cx="244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51" name="Line 110"/>
            <p:cNvSpPr/>
            <p:nvPr/>
          </p:nvSpPr>
          <p:spPr>
            <a:xfrm>
              <a:off x="6288120" y="4329360"/>
              <a:ext cx="244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52" name="AutoShape 103"/>
            <p:cNvSpPr/>
            <p:nvPr/>
          </p:nvSpPr>
          <p:spPr>
            <a:xfrm>
              <a:off x="6732720" y="4102200"/>
              <a:ext cx="576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31</a:t>
              </a:r>
              <a:endParaRPr b="0" lang="en-US" sz="12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53" name="AutoShape 103"/>
            <p:cNvSpPr/>
            <p:nvPr/>
          </p:nvSpPr>
          <p:spPr>
            <a:xfrm>
              <a:off x="6502320" y="4446720"/>
              <a:ext cx="10810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32, AF33</a:t>
              </a:r>
              <a:endParaRPr b="0" lang="en-US" sz="12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54" name="AutoShape 103"/>
            <p:cNvSpPr/>
            <p:nvPr/>
          </p:nvSpPr>
          <p:spPr>
            <a:xfrm>
              <a:off x="7740720" y="3525840"/>
              <a:ext cx="107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17360" indent="-117360">
                <a:lnSpc>
                  <a:spcPct val="110000"/>
                </a:lnSpc>
                <a:spcBef>
                  <a:spcPts val="437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/A</a:t>
              </a:r>
              <a:endParaRPr b="0" lang="en-US" sz="14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55" name="AutoShape 103"/>
            <p:cNvSpPr/>
            <p:nvPr/>
          </p:nvSpPr>
          <p:spPr>
            <a:xfrm>
              <a:off x="6732720" y="5091120"/>
              <a:ext cx="5760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11</a:t>
              </a:r>
              <a:endParaRPr b="0" lang="en-US" sz="12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56" name="AutoShape 103"/>
            <p:cNvSpPr/>
            <p:nvPr/>
          </p:nvSpPr>
          <p:spPr>
            <a:xfrm>
              <a:off x="6346800" y="5302440"/>
              <a:ext cx="1279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 0, AF12, AF13</a:t>
              </a:r>
              <a:endParaRPr b="0" lang="en-US" sz="12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  <p:sp>
          <p:nvSpPr>
            <p:cNvPr id="157" name="AutoShape 103"/>
            <p:cNvSpPr/>
            <p:nvPr/>
          </p:nvSpPr>
          <p:spPr>
            <a:xfrm>
              <a:off x="6588000" y="3148200"/>
              <a:ext cx="792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marL="98280" indent="-98280" algn="ctr">
                <a:lnSpc>
                  <a:spcPct val="9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F</a:t>
              </a:r>
              <a:endParaRPr b="0" lang="en-US" sz="1200" spc="-1" strike="noStrike">
                <a:solidFill>
                  <a:srgbClr val="000000"/>
                </a:solidFill>
                <a:latin typeface="Tele-GroteskNor"/>
              </a:endParaRPr>
            </a:p>
          </p:txBody>
        </p:sp>
      </p:grpSp>
      <p:sp>
        <p:nvSpPr>
          <p:cNvPr id="158" name="Text Box 118"/>
          <p:cNvSpPr/>
          <p:nvPr/>
        </p:nvSpPr>
        <p:spPr>
          <a:xfrm>
            <a:off x="324000" y="1484280"/>
            <a:ext cx="849600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The table below is proposing classes and codepoints for interconnection interfaces and interworking between IP/MPLS and Ethernet layers. Please note that the table proposes changing GSMA  PHBs (AF32 replaces  AF21 and AF33 replaces AF 11). This change also solves a compatibility issue between GSMA IR.34 and MEF 23.1 on application of PHB AF1. </a:t>
            </a:r>
            <a:endParaRPr b="0" lang="en-US" sz="15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59" name="AutoShape 103"/>
          <p:cNvSpPr/>
          <p:nvPr/>
        </p:nvSpPr>
        <p:spPr>
          <a:xfrm>
            <a:off x="6837480" y="330984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7360" indent="-117360">
              <a:lnSpc>
                <a:spcPct val="110000"/>
              </a:lnSpc>
              <a:spcBef>
                <a:spcPts val="437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/A</a:t>
            </a:r>
            <a:endParaRPr b="0" lang="en-US" sz="1400" spc="-1" strike="noStrike">
              <a:solidFill>
                <a:srgbClr val="000000"/>
              </a:solidFill>
              <a:latin typeface="Tele-GroteskNor"/>
            </a:endParaRPr>
          </a:p>
        </p:txBody>
      </p:sp>
      <p:sp>
        <p:nvSpPr>
          <p:cNvPr id="160" name="Rectangle 122"/>
          <p:cNvSpPr/>
          <p:nvPr/>
        </p:nvSpPr>
        <p:spPr>
          <a:xfrm>
            <a:off x="2050920" y="4076640"/>
            <a:ext cx="1081080" cy="719280"/>
          </a:xfrm>
          <a:prstGeom prst="rect">
            <a:avLst/>
          </a:prstGeom>
          <a:solidFill>
            <a:srgbClr val="ffff00">
              <a:alpha val="4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N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üdiger Geib</dc:creator>
  <dc:description/>
  <dc:language>en-US</dc:language>
  <cp:lastModifiedBy>jmpolk</cp:lastModifiedBy>
  <cp:lastPrinted>2008-10-06T12:12:35Z</cp:lastPrinted>
  <dcterms:modified xsi:type="dcterms:W3CDTF">2012-08-01T09:02:17Z</dcterms:modified>
  <cp:revision>186</cp:revision>
  <dc:subject/>
  <dc:title>DT NP – Fixed Mobile Engineering Deutschland. Zwei weitere Zeilen in Magenta  sind optional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18000000000001023720</vt:lpwstr>
  </property>
</Properties>
</file>